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545C-9D63-49A1-8D11-8FC7F86D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4B87-D398-46ED-87FD-CCA797B7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74CC-B950-4DBB-AF5F-E4DDDF76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14EC-FC9A-44F1-AEBA-70837420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083D-792F-4DB9-A8E2-49A0DCDD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1178-A002-4336-A120-A0259C7E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3972-9358-44E8-9277-7FE3DB61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CCD8-0BCB-4296-825E-5624E302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E168-15D2-4717-A2FB-3EB5AF53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A08C-0BC5-4BF1-B92C-2A51118B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E5DF-CFBB-4BDF-B107-49DADEC2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7447-B22D-4524-9467-C9D4F539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6302-6373-4B45-8C34-D8F5EE59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F45E-D725-4B66-B4DA-497199CB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D2AE-58B3-4B87-8085-FB010573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6E2D-F4F5-44C9-9734-1E6F7363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1CBA-5141-4122-A205-A49E4F78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05A6-FF7B-4904-B8E8-B1E447A2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A831-A121-4DB3-B611-A0B0D9B2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3EF9-2D9A-45CB-A743-431A6F3A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C8F-E47A-4194-A4B0-A8C370EA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1DC9-4C48-4D08-991A-39664F30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79B2-6DF1-490C-8A83-EA013088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3C25-1468-4814-B3EA-7E1D8633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E814-2261-4C6A-8B2E-A85E5199687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9B3C-542F-4C97-B30D-134D025E285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unbrain.com/football/index.html" TargetMode="External"/><Relationship Id="rId2" Type="http://schemas.openxmlformats.org/officeDocument/2006/relationships/hyperlink" Target="http://www.classzone.com/cz/books/msmath_1_na/book_home.htm?state=MD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ff"/>
                </a:solidFill>
                <a:latin typeface="Verdana"/>
              </a:rPr>
              <a:t>Opener:  Solve the expressions below using x = 1.12, y = 83.4 and z = 6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.) x • z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.) 3.2z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3.) 9y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4.) x • 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a845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aa8456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2320920" y="1893960"/>
            <a:ext cx="1671480" cy="3365280"/>
          </a:xfrm>
          <a:custGeom>
            <a:avLst/>
            <a:gdLst/>
            <a:ahLst/>
            <a:rect l="l" t="t" r="r" b="b"/>
            <a:pathLst>
              <a:path w="4640" h="9352">
                <a:moveTo>
                  <a:pt x="7764" y="5407"/>
                </a:moveTo>
                <a:cubicBezTo>
                  <a:pt x="7712" y="5664"/>
                  <a:pt x="7717" y="5915"/>
                  <a:pt x="7689" y="6176"/>
                </a:cubicBezTo>
                <a:cubicBezTo>
                  <a:pt x="7667" y="6291"/>
                  <a:pt x="7659" y="6324"/>
                  <a:pt x="7665" y="6400"/>
                </a:cubicBezTo>
              </a:path>
              <a:path w="4640" h="9352">
                <a:moveTo>
                  <a:pt x="8136" y="6226"/>
                </a:moveTo>
                <a:cubicBezTo>
                  <a:pt x="8136" y="6267"/>
                  <a:pt x="8136" y="6275"/>
                  <a:pt x="8136" y="6300"/>
                </a:cubicBezTo>
              </a:path>
              <a:path w="4640" h="9352">
                <a:moveTo>
                  <a:pt x="8657" y="5482"/>
                </a:moveTo>
                <a:cubicBezTo>
                  <a:pt x="8646" y="5701"/>
                  <a:pt x="8638" y="5936"/>
                  <a:pt x="8607" y="6152"/>
                </a:cubicBezTo>
                <a:cubicBezTo>
                  <a:pt x="8599" y="6177"/>
                  <a:pt x="8590" y="6201"/>
                  <a:pt x="8582" y="6226"/>
                </a:cubicBezTo>
              </a:path>
              <a:path w="4640" h="9352">
                <a:moveTo>
                  <a:pt x="8979" y="5531"/>
                </a:moveTo>
                <a:cubicBezTo>
                  <a:pt x="9032" y="5425"/>
                  <a:pt x="9140" y="5275"/>
                  <a:pt x="9277" y="5259"/>
                </a:cubicBezTo>
                <a:cubicBezTo>
                  <a:pt x="9381" y="5247"/>
                  <a:pt x="9435" y="5343"/>
                  <a:pt x="9451" y="5432"/>
                </a:cubicBezTo>
                <a:cubicBezTo>
                  <a:pt x="9477" y="5572"/>
                  <a:pt x="9421" y="5592"/>
                  <a:pt x="9327" y="5680"/>
                </a:cubicBezTo>
                <a:cubicBezTo>
                  <a:pt x="9208" y="5791"/>
                  <a:pt x="8899" y="6099"/>
                  <a:pt x="8905" y="6276"/>
                </a:cubicBezTo>
                <a:cubicBezTo>
                  <a:pt x="8921" y="6292"/>
                  <a:pt x="8938" y="6309"/>
                  <a:pt x="8954" y="6325"/>
                </a:cubicBezTo>
                <a:cubicBezTo>
                  <a:pt x="8984" y="6247"/>
                  <a:pt x="9013" y="6052"/>
                  <a:pt x="9128" y="6127"/>
                </a:cubicBezTo>
                <a:cubicBezTo>
                  <a:pt x="9285" y="6229"/>
                  <a:pt x="9410" y="6323"/>
                  <a:pt x="9575" y="6176"/>
                </a:cubicBezTo>
                <a:cubicBezTo>
                  <a:pt x="9591" y="6151"/>
                  <a:pt x="9608" y="6127"/>
                  <a:pt x="9624" y="6102"/>
                </a:cubicBezTo>
              </a:path>
              <a:path w="4640" h="9352">
                <a:moveTo>
                  <a:pt x="7045" y="6648"/>
                </a:moveTo>
                <a:cubicBezTo>
                  <a:pt x="7113" y="6786"/>
                  <a:pt x="7156" y="6932"/>
                  <a:pt x="7218" y="7069"/>
                </a:cubicBezTo>
                <a:cubicBezTo>
                  <a:pt x="7226" y="7077"/>
                  <a:pt x="7235" y="7086"/>
                  <a:pt x="7243" y="7094"/>
                </a:cubicBezTo>
              </a:path>
              <a:path w="4640" h="9352">
                <a:moveTo>
                  <a:pt x="7392" y="6524"/>
                </a:moveTo>
                <a:cubicBezTo>
                  <a:pt x="7294" y="6694"/>
                  <a:pt x="7183" y="6833"/>
                  <a:pt x="7069" y="6995"/>
                </a:cubicBezTo>
                <a:cubicBezTo>
                  <a:pt x="7045" y="7045"/>
                  <a:pt x="7037" y="7061"/>
                  <a:pt x="7020" y="7094"/>
                </a:cubicBezTo>
              </a:path>
              <a:path w="4640" h="9352">
                <a:moveTo>
                  <a:pt x="9178" y="6573"/>
                </a:moveTo>
                <a:cubicBezTo>
                  <a:pt x="9137" y="6600"/>
                  <a:pt x="9048" y="6809"/>
                  <a:pt x="9004" y="6921"/>
                </a:cubicBezTo>
                <a:cubicBezTo>
                  <a:pt x="8936" y="7093"/>
                  <a:pt x="9121" y="7127"/>
                  <a:pt x="9252" y="7119"/>
                </a:cubicBezTo>
                <a:cubicBezTo>
                  <a:pt x="9442" y="7108"/>
                  <a:pt x="9531" y="7063"/>
                  <a:pt x="9599" y="6896"/>
                </a:cubicBezTo>
                <a:cubicBezTo>
                  <a:pt x="9465" y="6805"/>
                  <a:pt x="9372" y="6835"/>
                  <a:pt x="9252" y="6945"/>
                </a:cubicBezTo>
                <a:cubicBezTo>
                  <a:pt x="9193" y="7025"/>
                  <a:pt x="9168" y="7033"/>
                  <a:pt x="9178" y="7094"/>
                </a:cubicBezTo>
              </a:path>
              <a:path w="4640" h="9352">
                <a:moveTo>
                  <a:pt x="7045" y="7367"/>
                </a:moveTo>
                <a:cubicBezTo>
                  <a:pt x="7484" y="7367"/>
                  <a:pt x="7921" y="7379"/>
                  <a:pt x="8359" y="7392"/>
                </a:cubicBezTo>
                <a:cubicBezTo>
                  <a:pt x="8732" y="7403"/>
                  <a:pt x="9103" y="7356"/>
                  <a:pt x="9475" y="7342"/>
                </a:cubicBezTo>
                <a:cubicBezTo>
                  <a:pt x="9598" y="7337"/>
                  <a:pt x="9723" y="7342"/>
                  <a:pt x="9847" y="7342"/>
                </a:cubicBezTo>
              </a:path>
              <a:path w="4640" h="9352">
                <a:moveTo>
                  <a:pt x="7466" y="7665"/>
                </a:moveTo>
                <a:cubicBezTo>
                  <a:pt x="7397" y="7882"/>
                  <a:pt x="7326" y="8083"/>
                  <a:pt x="7317" y="8310"/>
                </a:cubicBezTo>
                <a:cubicBezTo>
                  <a:pt x="7317" y="8419"/>
                  <a:pt x="7312" y="8446"/>
                  <a:pt x="7342" y="8508"/>
                </a:cubicBezTo>
                <a:cubicBezTo>
                  <a:pt x="7513" y="8498"/>
                  <a:pt x="7680" y="8482"/>
                  <a:pt x="7813" y="8359"/>
                </a:cubicBezTo>
                <a:cubicBezTo>
                  <a:pt x="7830" y="8334"/>
                  <a:pt x="7846" y="8310"/>
                  <a:pt x="7863" y="8285"/>
                </a:cubicBezTo>
                <a:cubicBezTo>
                  <a:pt x="7827" y="8213"/>
                  <a:pt x="7748" y="8093"/>
                  <a:pt x="7640" y="8161"/>
                </a:cubicBezTo>
                <a:cubicBezTo>
                  <a:pt x="7529" y="8231"/>
                  <a:pt x="7510" y="8375"/>
                  <a:pt x="7491" y="8483"/>
                </a:cubicBezTo>
              </a:path>
              <a:path w="4640" h="9352">
                <a:moveTo>
                  <a:pt x="8260" y="8310"/>
                </a:moveTo>
                <a:cubicBezTo>
                  <a:pt x="8260" y="8354"/>
                  <a:pt x="8263" y="8368"/>
                  <a:pt x="8235" y="8384"/>
                </a:cubicBezTo>
              </a:path>
              <a:path w="4640" h="9352">
                <a:moveTo>
                  <a:pt x="8632" y="7863"/>
                </a:moveTo>
                <a:cubicBezTo>
                  <a:pt x="8615" y="7880"/>
                  <a:pt x="8599" y="7896"/>
                  <a:pt x="8582" y="7913"/>
                </a:cubicBezTo>
                <a:cubicBezTo>
                  <a:pt x="8610" y="7789"/>
                  <a:pt x="8649" y="7753"/>
                  <a:pt x="8781" y="7714"/>
                </a:cubicBezTo>
                <a:cubicBezTo>
                  <a:pt x="8900" y="7690"/>
                  <a:pt x="8936" y="7684"/>
                  <a:pt x="9004" y="7640"/>
                </a:cubicBezTo>
                <a:cubicBezTo>
                  <a:pt x="8975" y="7867"/>
                  <a:pt x="8887" y="8079"/>
                  <a:pt x="8855" y="8310"/>
                </a:cubicBezTo>
                <a:cubicBezTo>
                  <a:pt x="8855" y="8326"/>
                  <a:pt x="8855" y="8343"/>
                  <a:pt x="8855" y="8359"/>
                </a:cubicBezTo>
              </a:path>
              <a:path w="4640" h="9352">
                <a:moveTo>
                  <a:pt x="9500" y="7789"/>
                </a:moveTo>
                <a:cubicBezTo>
                  <a:pt x="9510" y="7676"/>
                  <a:pt x="9539" y="7600"/>
                  <a:pt x="9649" y="7541"/>
                </a:cubicBezTo>
                <a:cubicBezTo>
                  <a:pt x="9706" y="7510"/>
                  <a:pt x="9826" y="7501"/>
                  <a:pt x="9847" y="7590"/>
                </a:cubicBezTo>
                <a:cubicBezTo>
                  <a:pt x="9896" y="7795"/>
                  <a:pt x="9719" y="7914"/>
                  <a:pt x="9575" y="8012"/>
                </a:cubicBezTo>
                <a:cubicBezTo>
                  <a:pt x="9455" y="8093"/>
                  <a:pt x="9333" y="8164"/>
                  <a:pt x="9252" y="8285"/>
                </a:cubicBezTo>
                <a:cubicBezTo>
                  <a:pt x="9244" y="8301"/>
                  <a:pt x="9235" y="8318"/>
                  <a:pt x="9227" y="8334"/>
                </a:cubicBezTo>
                <a:cubicBezTo>
                  <a:pt x="9281" y="8292"/>
                  <a:pt x="9413" y="8128"/>
                  <a:pt x="9500" y="8161"/>
                </a:cubicBezTo>
                <a:cubicBezTo>
                  <a:pt x="9628" y="8210"/>
                  <a:pt x="9652" y="8260"/>
                  <a:pt x="9798" y="8260"/>
                </a:cubicBezTo>
                <a:cubicBezTo>
                  <a:pt x="9859" y="8260"/>
                  <a:pt x="9875" y="8269"/>
                  <a:pt x="9897" y="8235"/>
                </a:cubicBezTo>
              </a:path>
              <a:path w="4640" h="9352">
                <a:moveTo>
                  <a:pt x="6747" y="8979"/>
                </a:moveTo>
                <a:cubicBezTo>
                  <a:pt x="7167" y="9109"/>
                  <a:pt x="7602" y="9192"/>
                  <a:pt x="8037" y="9252"/>
                </a:cubicBezTo>
                <a:cubicBezTo>
                  <a:pt x="8539" y="9322"/>
                  <a:pt x="9070" y="9348"/>
                  <a:pt x="9575" y="9302"/>
                </a:cubicBezTo>
                <a:cubicBezTo>
                  <a:pt x="10040" y="9260"/>
                  <a:pt x="10488" y="9187"/>
                  <a:pt x="10864" y="8905"/>
                </a:cubicBezTo>
                <a:cubicBezTo>
                  <a:pt x="11046" y="8768"/>
                  <a:pt x="11084" y="8654"/>
                  <a:pt x="11088" y="8434"/>
                </a:cubicBezTo>
                <a:cubicBezTo>
                  <a:pt x="11092" y="8215"/>
                  <a:pt x="11040" y="8022"/>
                  <a:pt x="10914" y="7838"/>
                </a:cubicBezTo>
                <a:cubicBezTo>
                  <a:pt x="10693" y="7514"/>
                  <a:pt x="10379" y="7454"/>
                  <a:pt x="10021" y="7392"/>
                </a:cubicBezTo>
                <a:cubicBezTo>
                  <a:pt x="9859" y="7364"/>
                  <a:pt x="9739" y="7388"/>
                  <a:pt x="9575" y="7392"/>
                </a:cubicBezTo>
                <a:cubicBezTo>
                  <a:pt x="9259" y="7399"/>
                  <a:pt x="8945" y="7398"/>
                  <a:pt x="8632" y="7417"/>
                </a:cubicBezTo>
                <a:cubicBezTo>
                  <a:pt x="8409" y="7431"/>
                  <a:pt x="8184" y="7422"/>
                  <a:pt x="7962" y="7441"/>
                </a:cubicBezTo>
                <a:cubicBezTo>
                  <a:pt x="7732" y="7461"/>
                  <a:pt x="7495" y="7520"/>
                  <a:pt x="7268" y="7565"/>
                </a:cubicBezTo>
                <a:cubicBezTo>
                  <a:pt x="7150" y="7588"/>
                  <a:pt x="7034" y="7646"/>
                  <a:pt x="6921" y="7689"/>
                </a:cubicBezTo>
                <a:cubicBezTo>
                  <a:pt x="6805" y="7733"/>
                  <a:pt x="6755" y="7775"/>
                  <a:pt x="6672" y="7863"/>
                </a:cubicBezTo>
                <a:cubicBezTo>
                  <a:pt x="6576" y="7965"/>
                  <a:pt x="6514" y="8105"/>
                  <a:pt x="6474" y="8235"/>
                </a:cubicBezTo>
                <a:cubicBezTo>
                  <a:pt x="6435" y="8361"/>
                  <a:pt x="6434" y="8506"/>
                  <a:pt x="6474" y="8632"/>
                </a:cubicBezTo>
                <a:cubicBezTo>
                  <a:pt x="6496" y="8699"/>
                  <a:pt x="6512" y="8797"/>
                  <a:pt x="6548" y="8855"/>
                </a:cubicBezTo>
                <a:cubicBezTo>
                  <a:pt x="6586" y="8915"/>
                  <a:pt x="6635" y="8967"/>
                  <a:pt x="6697" y="9004"/>
                </a:cubicBezTo>
                <a:cubicBezTo>
                  <a:pt x="6753" y="9037"/>
                  <a:pt x="6837" y="9057"/>
                  <a:pt x="6896" y="9079"/>
                </a:cubicBezTo>
                <a:cubicBezTo>
                  <a:pt x="6940" y="9079"/>
                  <a:pt x="6953" y="9076"/>
                  <a:pt x="6970" y="9103"/>
                </a:cubicBezTo>
              </a:path>
              <a:path w="4640" h="9352">
                <a:moveTo>
                  <a:pt x="8334" y="10964"/>
                </a:moveTo>
                <a:cubicBezTo>
                  <a:pt x="8334" y="10826"/>
                  <a:pt x="8257" y="10856"/>
                  <a:pt x="8111" y="10889"/>
                </a:cubicBezTo>
                <a:cubicBezTo>
                  <a:pt x="7973" y="10935"/>
                  <a:pt x="7930" y="10943"/>
                  <a:pt x="7888" y="11038"/>
                </a:cubicBezTo>
                <a:cubicBezTo>
                  <a:pt x="7981" y="11200"/>
                  <a:pt x="8283" y="11411"/>
                  <a:pt x="8235" y="11609"/>
                </a:cubicBezTo>
                <a:cubicBezTo>
                  <a:pt x="8156" y="11688"/>
                  <a:pt x="8124" y="11711"/>
                  <a:pt x="8037" y="11658"/>
                </a:cubicBezTo>
                <a:cubicBezTo>
                  <a:pt x="8049" y="11365"/>
                  <a:pt x="8231" y="11228"/>
                  <a:pt x="8359" y="10964"/>
                </a:cubicBezTo>
                <a:cubicBezTo>
                  <a:pt x="8359" y="10912"/>
                  <a:pt x="8358" y="10896"/>
                  <a:pt x="8310" y="10939"/>
                </a:cubicBezTo>
              </a:path>
              <a:path w="4640" h="9352">
                <a:moveTo>
                  <a:pt x="8558" y="10964"/>
                </a:moveTo>
                <a:cubicBezTo>
                  <a:pt x="8651" y="10886"/>
                  <a:pt x="8878" y="10764"/>
                  <a:pt x="8830" y="11013"/>
                </a:cubicBezTo>
                <a:cubicBezTo>
                  <a:pt x="8781" y="11112"/>
                  <a:pt x="8764" y="11145"/>
                  <a:pt x="8682" y="11162"/>
                </a:cubicBezTo>
                <a:cubicBezTo>
                  <a:pt x="8674" y="11170"/>
                  <a:pt x="8665" y="11179"/>
                  <a:pt x="8657" y="11187"/>
                </a:cubicBezTo>
                <a:cubicBezTo>
                  <a:pt x="8813" y="11115"/>
                  <a:pt x="9030" y="11249"/>
                  <a:pt x="8905" y="11460"/>
                </a:cubicBezTo>
                <a:cubicBezTo>
                  <a:pt x="8791" y="11652"/>
                  <a:pt x="8524" y="11690"/>
                  <a:pt x="8359" y="11609"/>
                </a:cubicBezTo>
              </a:path>
              <a:path w="4640" h="9352">
                <a:moveTo>
                  <a:pt x="9203" y="11559"/>
                </a:moveTo>
                <a:cubicBezTo>
                  <a:pt x="9203" y="11681"/>
                  <a:pt x="9314" y="11636"/>
                  <a:pt x="9252" y="11559"/>
                </a:cubicBezTo>
              </a:path>
              <a:path w="4640" h="9352">
                <a:moveTo>
                  <a:pt x="9599" y="10939"/>
                </a:moveTo>
                <a:cubicBezTo>
                  <a:pt x="9594" y="11027"/>
                  <a:pt x="9505" y="11293"/>
                  <a:pt x="9649" y="11311"/>
                </a:cubicBezTo>
                <a:cubicBezTo>
                  <a:pt x="9744" y="11323"/>
                  <a:pt x="9883" y="11269"/>
                  <a:pt x="9971" y="11237"/>
                </a:cubicBezTo>
              </a:path>
              <a:path w="4640" h="9352">
                <a:moveTo>
                  <a:pt x="9847" y="10765"/>
                </a:moveTo>
                <a:cubicBezTo>
                  <a:pt x="9865" y="11021"/>
                  <a:pt x="9886" y="11278"/>
                  <a:pt x="9897" y="11534"/>
                </a:cubicBezTo>
                <a:cubicBezTo>
                  <a:pt x="9897" y="11642"/>
                  <a:pt x="9897" y="11650"/>
                  <a:pt x="9897" y="11708"/>
                </a:cubicBezTo>
              </a:path>
              <a:path w="4640" h="9352">
                <a:moveTo>
                  <a:pt x="7565" y="11832"/>
                </a:moveTo>
                <a:cubicBezTo>
                  <a:pt x="7609" y="11991"/>
                  <a:pt x="7685" y="12143"/>
                  <a:pt x="7714" y="12303"/>
                </a:cubicBezTo>
              </a:path>
              <a:path w="4640" h="9352">
                <a:moveTo>
                  <a:pt x="7764" y="11782"/>
                </a:moveTo>
                <a:cubicBezTo>
                  <a:pt x="7752" y="11934"/>
                  <a:pt x="7621" y="12167"/>
                  <a:pt x="7541" y="12328"/>
                </a:cubicBezTo>
                <a:cubicBezTo>
                  <a:pt x="7533" y="12336"/>
                  <a:pt x="7524" y="12345"/>
                  <a:pt x="7516" y="12353"/>
                </a:cubicBezTo>
              </a:path>
              <a:path w="4640" h="9352">
                <a:moveTo>
                  <a:pt x="9996" y="11881"/>
                </a:moveTo>
                <a:cubicBezTo>
                  <a:pt x="10016" y="11780"/>
                  <a:pt x="10035" y="11760"/>
                  <a:pt x="9996" y="11708"/>
                </a:cubicBezTo>
                <a:cubicBezTo>
                  <a:pt x="9742" y="11678"/>
                  <a:pt x="9558" y="11785"/>
                  <a:pt x="9674" y="12030"/>
                </a:cubicBezTo>
                <a:cubicBezTo>
                  <a:pt x="9842" y="11980"/>
                  <a:pt x="9944" y="11958"/>
                  <a:pt x="9996" y="11782"/>
                </a:cubicBezTo>
                <a:cubicBezTo>
                  <a:pt x="10024" y="11968"/>
                  <a:pt x="10031" y="12144"/>
                  <a:pt x="9996" y="12328"/>
                </a:cubicBezTo>
              </a:path>
              <a:path w="4640" h="9352">
                <a:moveTo>
                  <a:pt x="6821" y="12576"/>
                </a:moveTo>
                <a:cubicBezTo>
                  <a:pt x="7028" y="12600"/>
                  <a:pt x="7230" y="12591"/>
                  <a:pt x="7441" y="12601"/>
                </a:cubicBezTo>
                <a:cubicBezTo>
                  <a:pt x="7973" y="12626"/>
                  <a:pt x="8497" y="12633"/>
                  <a:pt x="9029" y="12626"/>
                </a:cubicBezTo>
                <a:cubicBezTo>
                  <a:pt x="9465" y="12621"/>
                  <a:pt x="9910" y="12626"/>
                  <a:pt x="10344" y="12576"/>
                </a:cubicBezTo>
                <a:cubicBezTo>
                  <a:pt x="10461" y="12556"/>
                  <a:pt x="10482" y="12562"/>
                  <a:pt x="10542" y="12526"/>
                </a:cubicBezTo>
              </a:path>
              <a:path w="4640" h="9352">
                <a:moveTo>
                  <a:pt x="9947" y="12799"/>
                </a:moveTo>
                <a:cubicBezTo>
                  <a:pt x="9932" y="12937"/>
                  <a:pt x="9875" y="13049"/>
                  <a:pt x="9897" y="13196"/>
                </a:cubicBezTo>
                <a:cubicBezTo>
                  <a:pt x="9935" y="13446"/>
                  <a:pt x="9997" y="13562"/>
                  <a:pt x="10244" y="13469"/>
                </a:cubicBezTo>
                <a:cubicBezTo>
                  <a:pt x="10393" y="13413"/>
                  <a:pt x="10454" y="13307"/>
                  <a:pt x="10443" y="13171"/>
                </a:cubicBezTo>
                <a:cubicBezTo>
                  <a:pt x="10312" y="13160"/>
                  <a:pt x="10200" y="13229"/>
                  <a:pt x="10195" y="13395"/>
                </a:cubicBezTo>
                <a:cubicBezTo>
                  <a:pt x="10203" y="13420"/>
                  <a:pt x="10212" y="13444"/>
                  <a:pt x="10220" y="13469"/>
                </a:cubicBezTo>
              </a:path>
              <a:path w="4640" h="9352">
                <a:moveTo>
                  <a:pt x="8384" y="10319"/>
                </a:moveTo>
                <a:cubicBezTo>
                  <a:pt x="8428" y="10254"/>
                  <a:pt x="8526" y="10095"/>
                  <a:pt x="8632" y="10145"/>
                </a:cubicBezTo>
                <a:cubicBezTo>
                  <a:pt x="8719" y="10186"/>
                  <a:pt x="8603" y="10329"/>
                  <a:pt x="8582" y="10368"/>
                </a:cubicBezTo>
                <a:cubicBezTo>
                  <a:pt x="8584" y="10216"/>
                  <a:pt x="8691" y="10276"/>
                  <a:pt x="8756" y="10368"/>
                </a:cubicBezTo>
                <a:cubicBezTo>
                  <a:pt x="8682" y="10505"/>
                  <a:pt x="8616" y="10506"/>
                  <a:pt x="8458" y="10517"/>
                </a:cubicBezTo>
              </a:path>
              <a:path w="4640" h="9352">
                <a:moveTo>
                  <a:pt x="9004" y="13047"/>
                </a:moveTo>
                <a:cubicBezTo>
                  <a:pt x="8882" y="12998"/>
                  <a:pt x="8834" y="13257"/>
                  <a:pt x="8830" y="13345"/>
                </a:cubicBezTo>
                <a:cubicBezTo>
                  <a:pt x="8852" y="13498"/>
                  <a:pt x="8851" y="13536"/>
                  <a:pt x="8905" y="13618"/>
                </a:cubicBezTo>
                <a:cubicBezTo>
                  <a:pt x="9093" y="13607"/>
                  <a:pt x="9208" y="13585"/>
                  <a:pt x="9252" y="13370"/>
                </a:cubicBezTo>
                <a:cubicBezTo>
                  <a:pt x="9283" y="13219"/>
                  <a:pt x="9241" y="13077"/>
                  <a:pt x="9079" y="13047"/>
                </a:cubicBezTo>
                <a:cubicBezTo>
                  <a:pt x="8999" y="13047"/>
                  <a:pt x="8970" y="13050"/>
                  <a:pt x="8930" y="13097"/>
                </a:cubicBezTo>
              </a:path>
              <a:path w="4640" h="9352">
                <a:moveTo>
                  <a:pt x="7367" y="10195"/>
                </a:moveTo>
                <a:cubicBezTo>
                  <a:pt x="7460" y="10008"/>
                  <a:pt x="7501" y="10151"/>
                  <a:pt x="7491" y="10294"/>
                </a:cubicBezTo>
                <a:cubicBezTo>
                  <a:pt x="7576" y="10294"/>
                  <a:pt x="7602" y="10281"/>
                  <a:pt x="7615" y="10344"/>
                </a:cubicBezTo>
                <a:cubicBezTo>
                  <a:pt x="7595" y="10471"/>
                  <a:pt x="7558" y="10595"/>
                  <a:pt x="7392" y="10567"/>
                </a:cubicBezTo>
                <a:cubicBezTo>
                  <a:pt x="7384" y="10559"/>
                  <a:pt x="7375" y="10550"/>
                  <a:pt x="7367" y="10542"/>
                </a:cubicBezTo>
              </a:path>
              <a:path w="4640" h="9352">
                <a:moveTo>
                  <a:pt x="6970" y="13221"/>
                </a:moveTo>
                <a:cubicBezTo>
                  <a:pt x="7095" y="13221"/>
                  <a:pt x="7221" y="13208"/>
                  <a:pt x="7342" y="13171"/>
                </a:cubicBezTo>
                <a:cubicBezTo>
                  <a:pt x="7442" y="13131"/>
                  <a:pt x="7460" y="13127"/>
                  <a:pt x="7516" y="13097"/>
                </a:cubicBezTo>
                <a:cubicBezTo>
                  <a:pt x="7499" y="13285"/>
                  <a:pt x="7476" y="13486"/>
                  <a:pt x="7417" y="13667"/>
                </a:cubicBezTo>
                <a:cubicBezTo>
                  <a:pt x="7380" y="13741"/>
                  <a:pt x="7363" y="13745"/>
                  <a:pt x="7367" y="13791"/>
                </a:cubicBezTo>
              </a:path>
              <a:path w="4640" h="9352">
                <a:moveTo>
                  <a:pt x="8285" y="12824"/>
                </a:moveTo>
                <a:cubicBezTo>
                  <a:pt x="8165" y="12878"/>
                  <a:pt x="8070" y="12894"/>
                  <a:pt x="7938" y="12898"/>
                </a:cubicBezTo>
                <a:cubicBezTo>
                  <a:pt x="7819" y="12902"/>
                  <a:pt x="7863" y="13103"/>
                  <a:pt x="7863" y="13196"/>
                </a:cubicBezTo>
                <a:cubicBezTo>
                  <a:pt x="7981" y="13226"/>
                  <a:pt x="8048" y="13117"/>
                  <a:pt x="8186" y="13146"/>
                </a:cubicBezTo>
                <a:cubicBezTo>
                  <a:pt x="8432" y="13197"/>
                  <a:pt x="8305" y="13504"/>
                  <a:pt x="8161" y="13593"/>
                </a:cubicBezTo>
                <a:cubicBezTo>
                  <a:pt x="8100" y="13631"/>
                  <a:pt x="7943" y="13656"/>
                  <a:pt x="7863" y="13667"/>
                </a:cubicBezTo>
              </a:path>
              <a:path w="4640" h="9352">
                <a:moveTo>
                  <a:pt x="9575" y="13593"/>
                </a:moveTo>
                <a:cubicBezTo>
                  <a:pt x="9550" y="13643"/>
                  <a:pt x="9542" y="13659"/>
                  <a:pt x="9575" y="13692"/>
                </a:cubicBezTo>
                <a:cubicBezTo>
                  <a:pt x="9686" y="13674"/>
                  <a:pt x="9614" y="13537"/>
                  <a:pt x="9500" y="13568"/>
                </a:cubicBezTo>
                <a:cubicBezTo>
                  <a:pt x="9353" y="13608"/>
                  <a:pt x="9574" y="13716"/>
                  <a:pt x="9575" y="13717"/>
                </a:cubicBezTo>
                <a:cubicBezTo>
                  <a:pt x="9585" y="13656"/>
                  <a:pt x="9546" y="13460"/>
                  <a:pt x="9525" y="13643"/>
                </a:cubicBezTo>
                <a:cubicBezTo>
                  <a:pt x="9513" y="13746"/>
                  <a:pt x="9704" y="13671"/>
                  <a:pt x="9699" y="13593"/>
                </a:cubicBezTo>
                <a:cubicBezTo>
                  <a:pt x="9690" y="13462"/>
                  <a:pt x="9487" y="13787"/>
                  <a:pt x="9649" y="13692"/>
                </a:cubicBezTo>
                <a:cubicBezTo>
                  <a:pt x="9657" y="13676"/>
                  <a:pt x="9666" y="13659"/>
                  <a:pt x="9674" y="13643"/>
                </a:cubicBezTo>
              </a:path>
              <a:path w="4640" h="9352">
                <a:moveTo>
                  <a:pt x="8260" y="12576"/>
                </a:moveTo>
                <a:cubicBezTo>
                  <a:pt x="8161" y="12562"/>
                  <a:pt x="8069" y="12551"/>
                  <a:pt x="7962" y="12551"/>
                </a:cubicBezTo>
                <a:cubicBezTo>
                  <a:pt x="7811" y="12551"/>
                  <a:pt x="7661" y="12583"/>
                  <a:pt x="7516" y="12626"/>
                </a:cubicBezTo>
                <a:cubicBezTo>
                  <a:pt x="7321" y="12684"/>
                  <a:pt x="7117" y="12740"/>
                  <a:pt x="6945" y="12849"/>
                </a:cubicBezTo>
                <a:cubicBezTo>
                  <a:pt x="6690" y="13011"/>
                  <a:pt x="6593" y="13334"/>
                  <a:pt x="6573" y="13618"/>
                </a:cubicBezTo>
                <a:cubicBezTo>
                  <a:pt x="6556" y="13862"/>
                  <a:pt x="6541" y="14109"/>
                  <a:pt x="6697" y="14312"/>
                </a:cubicBezTo>
                <a:cubicBezTo>
                  <a:pt x="6809" y="14458"/>
                  <a:pt x="7044" y="14522"/>
                  <a:pt x="7218" y="14560"/>
                </a:cubicBezTo>
                <a:cubicBezTo>
                  <a:pt x="7488" y="14619"/>
                  <a:pt x="7787" y="14626"/>
                  <a:pt x="8062" y="14610"/>
                </a:cubicBezTo>
                <a:cubicBezTo>
                  <a:pt x="8498" y="14585"/>
                  <a:pt x="8960" y="14560"/>
                  <a:pt x="9376" y="14436"/>
                </a:cubicBezTo>
                <a:cubicBezTo>
                  <a:pt x="9725" y="14332"/>
                  <a:pt x="10096" y="14209"/>
                  <a:pt x="10418" y="14039"/>
                </a:cubicBezTo>
                <a:cubicBezTo>
                  <a:pt x="10662" y="13910"/>
                  <a:pt x="10807" y="13752"/>
                  <a:pt x="10889" y="13494"/>
                </a:cubicBezTo>
                <a:cubicBezTo>
                  <a:pt x="10971" y="13236"/>
                  <a:pt x="11048" y="12774"/>
                  <a:pt x="10716" y="12650"/>
                </a:cubicBezTo>
                <a:cubicBezTo>
                  <a:pt x="10381" y="12525"/>
                  <a:pt x="9993" y="12586"/>
                  <a:pt x="9649" y="12601"/>
                </a:cubicBezTo>
                <a:cubicBezTo>
                  <a:pt x="9459" y="12609"/>
                  <a:pt x="9244" y="12593"/>
                  <a:pt x="9054" y="12576"/>
                </a:cubicBezTo>
                <a:cubicBezTo>
                  <a:pt x="8826" y="12556"/>
                  <a:pt x="8610" y="12524"/>
                  <a:pt x="8384" y="12551"/>
                </a:cubicBezTo>
                <a:cubicBezTo>
                  <a:pt x="8128" y="12581"/>
                  <a:pt x="7931" y="12720"/>
                  <a:pt x="7714" y="12849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80160" y="3098880"/>
            <a:ext cx="1776600" cy="669960"/>
          </a:xfrm>
          <a:custGeom>
            <a:avLst/>
            <a:gdLst/>
            <a:ahLst/>
            <a:rect l="l" t="t" r="r" b="b"/>
            <a:pathLst>
              <a:path w="4937" h="1862">
                <a:moveTo>
                  <a:pt x="19496" y="10468"/>
                </a:moveTo>
                <a:cubicBezTo>
                  <a:pt x="19866" y="10468"/>
                  <a:pt x="20245" y="10470"/>
                  <a:pt x="20613" y="10443"/>
                </a:cubicBezTo>
                <a:cubicBezTo>
                  <a:pt x="21173" y="10402"/>
                  <a:pt x="21741" y="10362"/>
                  <a:pt x="22299" y="10294"/>
                </a:cubicBezTo>
                <a:cubicBezTo>
                  <a:pt x="22625" y="10254"/>
                  <a:pt x="22877" y="10138"/>
                  <a:pt x="23143" y="9947"/>
                </a:cubicBezTo>
                <a:cubicBezTo>
                  <a:pt x="23281" y="9848"/>
                  <a:pt x="23509" y="9704"/>
                  <a:pt x="23490" y="9500"/>
                </a:cubicBezTo>
                <a:cubicBezTo>
                  <a:pt x="23470" y="9287"/>
                  <a:pt x="23319" y="9203"/>
                  <a:pt x="23168" y="9079"/>
                </a:cubicBezTo>
                <a:cubicBezTo>
                  <a:pt x="22930" y="8884"/>
                  <a:pt x="22747" y="8758"/>
                  <a:pt x="22448" y="8682"/>
                </a:cubicBezTo>
                <a:cubicBezTo>
                  <a:pt x="22148" y="8606"/>
                  <a:pt x="21862" y="8607"/>
                  <a:pt x="21555" y="8607"/>
                </a:cubicBezTo>
                <a:cubicBezTo>
                  <a:pt x="21263" y="8607"/>
                  <a:pt x="20977" y="8650"/>
                  <a:pt x="20687" y="8682"/>
                </a:cubicBezTo>
                <a:cubicBezTo>
                  <a:pt x="20369" y="8717"/>
                  <a:pt x="20074" y="8788"/>
                  <a:pt x="19769" y="8880"/>
                </a:cubicBezTo>
                <a:cubicBezTo>
                  <a:pt x="19399" y="8991"/>
                  <a:pt x="19099" y="9104"/>
                  <a:pt x="18827" y="9376"/>
                </a:cubicBezTo>
                <a:cubicBezTo>
                  <a:pt x="18665" y="9538"/>
                  <a:pt x="18528" y="9723"/>
                  <a:pt x="18554" y="9971"/>
                </a:cubicBezTo>
                <a:cubicBezTo>
                  <a:pt x="18581" y="10229"/>
                  <a:pt x="18920" y="10316"/>
                  <a:pt x="19124" y="10393"/>
                </a:cubicBezTo>
                <a:cubicBezTo>
                  <a:pt x="19255" y="10437"/>
                  <a:pt x="19285" y="10453"/>
                  <a:pt x="19372" y="10443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48240" y="5680080"/>
            <a:ext cx="1617840" cy="249120"/>
          </a:xfrm>
          <a:custGeom>
            <a:avLst/>
            <a:gdLst/>
            <a:ahLst/>
            <a:rect l="l" t="t" r="r" b="b"/>
            <a:pathLst>
              <a:path w="4491" h="695">
                <a:moveTo>
                  <a:pt x="17636" y="16470"/>
                </a:moveTo>
                <a:cubicBezTo>
                  <a:pt x="17744" y="16453"/>
                  <a:pt x="17850" y="16442"/>
                  <a:pt x="17959" y="16421"/>
                </a:cubicBezTo>
                <a:cubicBezTo>
                  <a:pt x="18143" y="16385"/>
                  <a:pt x="18317" y="16350"/>
                  <a:pt x="18504" y="16346"/>
                </a:cubicBezTo>
                <a:cubicBezTo>
                  <a:pt x="18625" y="16343"/>
                  <a:pt x="18746" y="16346"/>
                  <a:pt x="18852" y="16321"/>
                </a:cubicBezTo>
                <a:cubicBezTo>
                  <a:pt x="18977" y="16292"/>
                  <a:pt x="19097" y="16248"/>
                  <a:pt x="19224" y="16222"/>
                </a:cubicBezTo>
                <a:cubicBezTo>
                  <a:pt x="19453" y="16175"/>
                  <a:pt x="19686" y="16194"/>
                  <a:pt x="19918" y="16148"/>
                </a:cubicBezTo>
                <a:cubicBezTo>
                  <a:pt x="20067" y="16119"/>
                  <a:pt x="20195" y="16060"/>
                  <a:pt x="20340" y="16024"/>
                </a:cubicBezTo>
                <a:cubicBezTo>
                  <a:pt x="20536" y="15976"/>
                  <a:pt x="20712" y="15990"/>
                  <a:pt x="20910" y="15974"/>
                </a:cubicBezTo>
                <a:cubicBezTo>
                  <a:pt x="21189" y="15951"/>
                  <a:pt x="21457" y="15864"/>
                  <a:pt x="21729" y="15825"/>
                </a:cubicBezTo>
                <a:cubicBezTo>
                  <a:pt x="21824" y="15811"/>
                  <a:pt x="21935" y="15787"/>
                  <a:pt x="22027" y="15776"/>
                </a:cubicBezTo>
                <a:cubicBezTo>
                  <a:pt x="22060" y="15772"/>
                  <a:pt x="22093" y="15778"/>
                  <a:pt x="22126" y="1577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69040" y="2187720"/>
            <a:ext cx="1884240" cy="4152600"/>
          </a:xfrm>
          <a:custGeom>
            <a:avLst/>
            <a:gdLst/>
            <a:ahLst/>
            <a:rect l="l" t="t" r="r" b="b"/>
            <a:pathLst>
              <a:path w="5235" h="11535">
                <a:moveTo>
                  <a:pt x="19869" y="6400"/>
                </a:moveTo>
                <a:cubicBezTo>
                  <a:pt x="19933" y="6269"/>
                  <a:pt x="20019" y="6211"/>
                  <a:pt x="20141" y="6127"/>
                </a:cubicBezTo>
                <a:cubicBezTo>
                  <a:pt x="20312" y="6248"/>
                  <a:pt x="20347" y="6373"/>
                  <a:pt x="20216" y="6573"/>
                </a:cubicBezTo>
                <a:cubicBezTo>
                  <a:pt x="20143" y="6684"/>
                  <a:pt x="20126" y="6696"/>
                  <a:pt x="20042" y="6672"/>
                </a:cubicBezTo>
                <a:cubicBezTo>
                  <a:pt x="20092" y="6540"/>
                  <a:pt x="20306" y="6506"/>
                  <a:pt x="20389" y="6672"/>
                </a:cubicBezTo>
                <a:cubicBezTo>
                  <a:pt x="20534" y="6962"/>
                  <a:pt x="20244" y="7214"/>
                  <a:pt x="19993" y="7268"/>
                </a:cubicBezTo>
                <a:cubicBezTo>
                  <a:pt x="19825" y="7304"/>
                  <a:pt x="19812" y="7277"/>
                  <a:pt x="19745" y="7169"/>
                </a:cubicBezTo>
              </a:path>
              <a:path w="5235" h="11535">
                <a:moveTo>
                  <a:pt x="20861" y="7069"/>
                </a:moveTo>
                <a:cubicBezTo>
                  <a:pt x="20758" y="7128"/>
                  <a:pt x="20802" y="7147"/>
                  <a:pt x="20886" y="7119"/>
                </a:cubicBezTo>
                <a:cubicBezTo>
                  <a:pt x="20836" y="7119"/>
                  <a:pt x="20819" y="7119"/>
                  <a:pt x="20786" y="7119"/>
                </a:cubicBezTo>
              </a:path>
              <a:path w="5235" h="11535">
                <a:moveTo>
                  <a:pt x="21431" y="6449"/>
                </a:moveTo>
                <a:cubicBezTo>
                  <a:pt x="21441" y="6325"/>
                  <a:pt x="21467" y="6288"/>
                  <a:pt x="21555" y="6201"/>
                </a:cubicBezTo>
                <a:cubicBezTo>
                  <a:pt x="21648" y="6109"/>
                  <a:pt x="21723" y="6062"/>
                  <a:pt x="21853" y="6102"/>
                </a:cubicBezTo>
                <a:cubicBezTo>
                  <a:pt x="21936" y="6127"/>
                  <a:pt x="21991" y="6242"/>
                  <a:pt x="21977" y="6325"/>
                </a:cubicBezTo>
                <a:cubicBezTo>
                  <a:pt x="21953" y="6466"/>
                  <a:pt x="21839" y="6507"/>
                  <a:pt x="21754" y="6598"/>
                </a:cubicBezTo>
                <a:cubicBezTo>
                  <a:pt x="21640" y="6720"/>
                  <a:pt x="21595" y="6899"/>
                  <a:pt x="21481" y="7020"/>
                </a:cubicBezTo>
                <a:cubicBezTo>
                  <a:pt x="21456" y="7036"/>
                  <a:pt x="21431" y="7053"/>
                  <a:pt x="21406" y="7069"/>
                </a:cubicBezTo>
                <a:cubicBezTo>
                  <a:pt x="21454" y="7002"/>
                  <a:pt x="21497" y="6941"/>
                  <a:pt x="21580" y="6921"/>
                </a:cubicBezTo>
                <a:cubicBezTo>
                  <a:pt x="21682" y="6896"/>
                  <a:pt x="21720" y="7008"/>
                  <a:pt x="21779" y="7045"/>
                </a:cubicBezTo>
                <a:cubicBezTo>
                  <a:pt x="21904" y="7122"/>
                  <a:pt x="22026" y="7059"/>
                  <a:pt x="22076" y="6945"/>
                </a:cubicBezTo>
                <a:cubicBezTo>
                  <a:pt x="22076" y="6937"/>
                  <a:pt x="22076" y="6929"/>
                  <a:pt x="22076" y="6921"/>
                </a:cubicBezTo>
              </a:path>
              <a:path w="5235" h="11535">
                <a:moveTo>
                  <a:pt x="19298" y="8037"/>
                </a:moveTo>
                <a:cubicBezTo>
                  <a:pt x="19453" y="8114"/>
                  <a:pt x="19574" y="8323"/>
                  <a:pt x="19670" y="8483"/>
                </a:cubicBezTo>
                <a:cubicBezTo>
                  <a:pt x="19687" y="8516"/>
                  <a:pt x="19703" y="8549"/>
                  <a:pt x="19720" y="8582"/>
                </a:cubicBezTo>
              </a:path>
              <a:path w="5235" h="11535">
                <a:moveTo>
                  <a:pt x="19695" y="7962"/>
                </a:moveTo>
                <a:cubicBezTo>
                  <a:pt x="19558" y="8149"/>
                  <a:pt x="19455" y="8364"/>
                  <a:pt x="19323" y="8558"/>
                </a:cubicBezTo>
                <a:cubicBezTo>
                  <a:pt x="19315" y="8566"/>
                  <a:pt x="19306" y="8574"/>
                  <a:pt x="19298" y="8582"/>
                </a:cubicBezTo>
              </a:path>
              <a:path w="5235" h="11535">
                <a:moveTo>
                  <a:pt x="21803" y="7516"/>
                </a:moveTo>
                <a:cubicBezTo>
                  <a:pt x="21734" y="7707"/>
                  <a:pt x="21622" y="7915"/>
                  <a:pt x="21580" y="8111"/>
                </a:cubicBezTo>
                <a:cubicBezTo>
                  <a:pt x="21552" y="8240"/>
                  <a:pt x="21640" y="8321"/>
                  <a:pt x="21754" y="8359"/>
                </a:cubicBezTo>
                <a:cubicBezTo>
                  <a:pt x="21903" y="8409"/>
                  <a:pt x="22144" y="8373"/>
                  <a:pt x="22275" y="8285"/>
                </a:cubicBezTo>
                <a:cubicBezTo>
                  <a:pt x="22345" y="8214"/>
                  <a:pt x="22367" y="8193"/>
                  <a:pt x="22399" y="8136"/>
                </a:cubicBezTo>
                <a:cubicBezTo>
                  <a:pt x="22308" y="8015"/>
                  <a:pt x="22222" y="7987"/>
                  <a:pt x="22076" y="8062"/>
                </a:cubicBezTo>
                <a:cubicBezTo>
                  <a:pt x="21919" y="8143"/>
                  <a:pt x="21906" y="8256"/>
                  <a:pt x="21927" y="8409"/>
                </a:cubicBezTo>
              </a:path>
              <a:path w="5235" h="11535">
                <a:moveTo>
                  <a:pt x="19348" y="8905"/>
                </a:moveTo>
                <a:cubicBezTo>
                  <a:pt x="19618" y="8848"/>
                  <a:pt x="19891" y="8829"/>
                  <a:pt x="20166" y="8806"/>
                </a:cubicBezTo>
                <a:cubicBezTo>
                  <a:pt x="20565" y="8773"/>
                  <a:pt x="20957" y="8713"/>
                  <a:pt x="21357" y="8682"/>
                </a:cubicBezTo>
                <a:cubicBezTo>
                  <a:pt x="21662" y="8658"/>
                  <a:pt x="21972" y="8666"/>
                  <a:pt x="22275" y="8632"/>
                </a:cubicBezTo>
                <a:cubicBezTo>
                  <a:pt x="22364" y="8622"/>
                  <a:pt x="22434" y="8611"/>
                  <a:pt x="22523" y="8607"/>
                </a:cubicBezTo>
              </a:path>
              <a:path w="5235" h="11535">
                <a:moveTo>
                  <a:pt x="19720" y="9203"/>
                </a:moveTo>
                <a:cubicBezTo>
                  <a:pt x="19733" y="9470"/>
                  <a:pt x="19742" y="9733"/>
                  <a:pt x="19695" y="9996"/>
                </a:cubicBezTo>
              </a:path>
              <a:path w="5235" h="11535">
                <a:moveTo>
                  <a:pt x="20786" y="9401"/>
                </a:moveTo>
                <a:cubicBezTo>
                  <a:pt x="20846" y="9326"/>
                  <a:pt x="20866" y="9178"/>
                  <a:pt x="20786" y="9079"/>
                </a:cubicBezTo>
                <a:cubicBezTo>
                  <a:pt x="20647" y="8906"/>
                  <a:pt x="20428" y="9076"/>
                  <a:pt x="20340" y="9203"/>
                </a:cubicBezTo>
                <a:cubicBezTo>
                  <a:pt x="20173" y="9444"/>
                  <a:pt x="20365" y="9629"/>
                  <a:pt x="20613" y="9500"/>
                </a:cubicBezTo>
                <a:cubicBezTo>
                  <a:pt x="20713" y="9400"/>
                  <a:pt x="20747" y="9366"/>
                  <a:pt x="20786" y="9277"/>
                </a:cubicBezTo>
                <a:cubicBezTo>
                  <a:pt x="20786" y="9252"/>
                  <a:pt x="20786" y="9228"/>
                  <a:pt x="20786" y="9203"/>
                </a:cubicBezTo>
                <a:cubicBezTo>
                  <a:pt x="20745" y="9413"/>
                  <a:pt x="20752" y="9653"/>
                  <a:pt x="20737" y="9872"/>
                </a:cubicBezTo>
                <a:cubicBezTo>
                  <a:pt x="20737" y="9897"/>
                  <a:pt x="20737" y="9922"/>
                  <a:pt x="20737" y="9947"/>
                </a:cubicBezTo>
              </a:path>
              <a:path w="5235" h="11535">
                <a:moveTo>
                  <a:pt x="21456" y="9674"/>
                </a:moveTo>
                <a:cubicBezTo>
                  <a:pt x="21269" y="9799"/>
                  <a:pt x="21480" y="9755"/>
                  <a:pt x="21456" y="9699"/>
                </a:cubicBezTo>
                <a:cubicBezTo>
                  <a:pt x="21439" y="9691"/>
                  <a:pt x="21423" y="9682"/>
                  <a:pt x="21406" y="9674"/>
                </a:cubicBezTo>
              </a:path>
              <a:path w="5235" h="11535">
                <a:moveTo>
                  <a:pt x="21952" y="9128"/>
                </a:moveTo>
                <a:cubicBezTo>
                  <a:pt x="21965" y="9011"/>
                  <a:pt x="21977" y="8868"/>
                  <a:pt x="22126" y="8830"/>
                </a:cubicBezTo>
                <a:cubicBezTo>
                  <a:pt x="22308" y="8784"/>
                  <a:pt x="22380" y="8966"/>
                  <a:pt x="22349" y="9103"/>
                </a:cubicBezTo>
                <a:cubicBezTo>
                  <a:pt x="22295" y="9337"/>
                  <a:pt x="22070" y="9503"/>
                  <a:pt x="21977" y="9723"/>
                </a:cubicBezTo>
                <a:cubicBezTo>
                  <a:pt x="21969" y="9756"/>
                  <a:pt x="21960" y="9790"/>
                  <a:pt x="21952" y="9823"/>
                </a:cubicBezTo>
                <a:cubicBezTo>
                  <a:pt x="21846" y="9921"/>
                  <a:pt x="22054" y="9654"/>
                  <a:pt x="22101" y="9624"/>
                </a:cubicBezTo>
                <a:cubicBezTo>
                  <a:pt x="22179" y="9575"/>
                  <a:pt x="22251" y="9682"/>
                  <a:pt x="22324" y="9723"/>
                </a:cubicBezTo>
                <a:cubicBezTo>
                  <a:pt x="22493" y="9818"/>
                  <a:pt x="22605" y="9765"/>
                  <a:pt x="22647" y="9599"/>
                </a:cubicBezTo>
              </a:path>
              <a:path w="5235" h="11535">
                <a:moveTo>
                  <a:pt x="19248" y="11609"/>
                </a:moveTo>
                <a:cubicBezTo>
                  <a:pt x="19259" y="11579"/>
                  <a:pt x="19273" y="11434"/>
                  <a:pt x="19273" y="11485"/>
                </a:cubicBezTo>
                <a:cubicBezTo>
                  <a:pt x="19281" y="11690"/>
                  <a:pt x="19277" y="11930"/>
                  <a:pt x="19323" y="12129"/>
                </a:cubicBezTo>
                <a:cubicBezTo>
                  <a:pt x="19331" y="12137"/>
                  <a:pt x="19340" y="12146"/>
                  <a:pt x="19348" y="12154"/>
                </a:cubicBezTo>
              </a:path>
              <a:path w="5235" h="11535">
                <a:moveTo>
                  <a:pt x="19769" y="11956"/>
                </a:moveTo>
                <a:cubicBezTo>
                  <a:pt x="19663" y="11998"/>
                  <a:pt x="19851" y="12059"/>
                  <a:pt x="19769" y="11981"/>
                </a:cubicBezTo>
              </a:path>
              <a:path w="5235" h="11535">
                <a:moveTo>
                  <a:pt x="20092" y="11336"/>
                </a:moveTo>
                <a:cubicBezTo>
                  <a:pt x="20117" y="11531"/>
                  <a:pt x="20123" y="11745"/>
                  <a:pt x="20191" y="11931"/>
                </a:cubicBezTo>
                <a:cubicBezTo>
                  <a:pt x="20199" y="11948"/>
                  <a:pt x="20208" y="11964"/>
                  <a:pt x="20216" y="11981"/>
                </a:cubicBezTo>
              </a:path>
              <a:path w="5235" h="11535">
                <a:moveTo>
                  <a:pt x="20489" y="11385"/>
                </a:moveTo>
                <a:cubicBezTo>
                  <a:pt x="20501" y="11287"/>
                  <a:pt x="20546" y="11254"/>
                  <a:pt x="20662" y="11261"/>
                </a:cubicBezTo>
                <a:cubicBezTo>
                  <a:pt x="20891" y="11275"/>
                  <a:pt x="20943" y="11472"/>
                  <a:pt x="20910" y="11658"/>
                </a:cubicBezTo>
                <a:cubicBezTo>
                  <a:pt x="20878" y="11837"/>
                  <a:pt x="20763" y="12021"/>
                  <a:pt x="20563" y="12030"/>
                </a:cubicBezTo>
                <a:cubicBezTo>
                  <a:pt x="20555" y="12022"/>
                  <a:pt x="20546" y="12013"/>
                  <a:pt x="20538" y="12005"/>
                </a:cubicBezTo>
                <a:cubicBezTo>
                  <a:pt x="20525" y="11936"/>
                  <a:pt x="20507" y="11848"/>
                  <a:pt x="20613" y="11832"/>
                </a:cubicBezTo>
                <a:cubicBezTo>
                  <a:pt x="20764" y="11810"/>
                  <a:pt x="20812" y="11906"/>
                  <a:pt x="20935" y="11956"/>
                </a:cubicBezTo>
                <a:cubicBezTo>
                  <a:pt x="21042" y="12000"/>
                  <a:pt x="21129" y="12050"/>
                  <a:pt x="21233" y="12005"/>
                </a:cubicBezTo>
              </a:path>
              <a:path w="5235" h="11535">
                <a:moveTo>
                  <a:pt x="18331" y="12874"/>
                </a:moveTo>
                <a:cubicBezTo>
                  <a:pt x="18417" y="12990"/>
                  <a:pt x="18502" y="13094"/>
                  <a:pt x="18604" y="13196"/>
                </a:cubicBezTo>
              </a:path>
              <a:path w="5235" h="11535">
                <a:moveTo>
                  <a:pt x="18529" y="12799"/>
                </a:moveTo>
                <a:cubicBezTo>
                  <a:pt x="18465" y="12928"/>
                  <a:pt x="18407" y="13062"/>
                  <a:pt x="18355" y="13196"/>
                </a:cubicBezTo>
                <a:cubicBezTo>
                  <a:pt x="18334" y="13262"/>
                  <a:pt x="18326" y="13277"/>
                  <a:pt x="18331" y="13320"/>
                </a:cubicBezTo>
              </a:path>
              <a:path w="5235" h="11535">
                <a:moveTo>
                  <a:pt x="19695" y="12626"/>
                </a:moveTo>
                <a:cubicBezTo>
                  <a:pt x="19720" y="12576"/>
                  <a:pt x="19728" y="12559"/>
                  <a:pt x="19745" y="12526"/>
                </a:cubicBezTo>
                <a:cubicBezTo>
                  <a:pt x="19643" y="12460"/>
                  <a:pt x="19540" y="12484"/>
                  <a:pt x="19472" y="12601"/>
                </a:cubicBezTo>
                <a:cubicBezTo>
                  <a:pt x="19355" y="12803"/>
                  <a:pt x="19621" y="12834"/>
                  <a:pt x="19720" y="12923"/>
                </a:cubicBezTo>
                <a:cubicBezTo>
                  <a:pt x="19736" y="12948"/>
                  <a:pt x="19753" y="12973"/>
                  <a:pt x="19769" y="12998"/>
                </a:cubicBezTo>
                <a:cubicBezTo>
                  <a:pt x="19723" y="13076"/>
                  <a:pt x="19589" y="13186"/>
                  <a:pt x="19521" y="13022"/>
                </a:cubicBezTo>
                <a:cubicBezTo>
                  <a:pt x="19455" y="12864"/>
                  <a:pt x="19779" y="12703"/>
                  <a:pt x="19720" y="12601"/>
                </a:cubicBezTo>
                <a:cubicBezTo>
                  <a:pt x="19695" y="12601"/>
                  <a:pt x="19670" y="12601"/>
                  <a:pt x="19645" y="12601"/>
                </a:cubicBezTo>
              </a:path>
              <a:path w="5235" h="11535">
                <a:moveTo>
                  <a:pt x="20141" y="12526"/>
                </a:moveTo>
                <a:cubicBezTo>
                  <a:pt x="20246" y="12463"/>
                  <a:pt x="20267" y="12445"/>
                  <a:pt x="20340" y="12427"/>
                </a:cubicBezTo>
                <a:cubicBezTo>
                  <a:pt x="20340" y="12596"/>
                  <a:pt x="20315" y="12621"/>
                  <a:pt x="20191" y="12725"/>
                </a:cubicBezTo>
                <a:cubicBezTo>
                  <a:pt x="20214" y="12610"/>
                  <a:pt x="20403" y="12571"/>
                  <a:pt x="20414" y="12750"/>
                </a:cubicBezTo>
                <a:cubicBezTo>
                  <a:pt x="20427" y="12955"/>
                  <a:pt x="20202" y="12940"/>
                  <a:pt x="20067" y="12948"/>
                </a:cubicBezTo>
              </a:path>
              <a:path w="5235" h="11535">
                <a:moveTo>
                  <a:pt x="20786" y="12774"/>
                </a:moveTo>
                <a:cubicBezTo>
                  <a:pt x="20787" y="12911"/>
                  <a:pt x="20834" y="12924"/>
                  <a:pt x="20910" y="12799"/>
                </a:cubicBezTo>
                <a:cubicBezTo>
                  <a:pt x="20855" y="12771"/>
                  <a:pt x="20832" y="12763"/>
                  <a:pt x="20786" y="12774"/>
                </a:cubicBezTo>
              </a:path>
              <a:path w="5235" h="11535">
                <a:moveTo>
                  <a:pt x="20985" y="12378"/>
                </a:moveTo>
                <a:cubicBezTo>
                  <a:pt x="20985" y="12452"/>
                  <a:pt x="20985" y="12527"/>
                  <a:pt x="20985" y="12601"/>
                </a:cubicBezTo>
                <a:cubicBezTo>
                  <a:pt x="21067" y="12601"/>
                  <a:pt x="21130" y="12594"/>
                  <a:pt x="21208" y="12576"/>
                </a:cubicBezTo>
              </a:path>
              <a:path w="5235" h="11535">
                <a:moveTo>
                  <a:pt x="21183" y="12129"/>
                </a:moveTo>
                <a:cubicBezTo>
                  <a:pt x="21195" y="12350"/>
                  <a:pt x="21254" y="12558"/>
                  <a:pt x="21282" y="12774"/>
                </a:cubicBezTo>
                <a:cubicBezTo>
                  <a:pt x="21282" y="12873"/>
                  <a:pt x="21282" y="12890"/>
                  <a:pt x="21282" y="12948"/>
                </a:cubicBezTo>
              </a:path>
              <a:path w="5235" h="11535">
                <a:moveTo>
                  <a:pt x="19372" y="13519"/>
                </a:moveTo>
                <a:cubicBezTo>
                  <a:pt x="19540" y="13435"/>
                  <a:pt x="19732" y="13389"/>
                  <a:pt x="19943" y="13345"/>
                </a:cubicBezTo>
                <a:cubicBezTo>
                  <a:pt x="20460" y="13237"/>
                  <a:pt x="20954" y="13099"/>
                  <a:pt x="21481" y="13047"/>
                </a:cubicBezTo>
                <a:cubicBezTo>
                  <a:pt x="21497" y="13047"/>
                  <a:pt x="21514" y="13047"/>
                  <a:pt x="21530" y="13047"/>
                </a:cubicBezTo>
              </a:path>
              <a:path w="5235" h="11535">
                <a:moveTo>
                  <a:pt x="21431" y="13370"/>
                </a:moveTo>
                <a:cubicBezTo>
                  <a:pt x="21474" y="13246"/>
                  <a:pt x="21252" y="13406"/>
                  <a:pt x="21183" y="13469"/>
                </a:cubicBezTo>
                <a:cubicBezTo>
                  <a:pt x="21167" y="13486"/>
                  <a:pt x="21150" y="13502"/>
                  <a:pt x="21134" y="13519"/>
                </a:cubicBezTo>
                <a:cubicBezTo>
                  <a:pt x="21259" y="13644"/>
                  <a:pt x="21491" y="13700"/>
                  <a:pt x="21506" y="13891"/>
                </a:cubicBezTo>
                <a:cubicBezTo>
                  <a:pt x="21481" y="13990"/>
                  <a:pt x="21473" y="14023"/>
                  <a:pt x="21382" y="14015"/>
                </a:cubicBezTo>
                <a:cubicBezTo>
                  <a:pt x="21210" y="13858"/>
                  <a:pt x="21311" y="13736"/>
                  <a:pt x="21406" y="13519"/>
                </a:cubicBezTo>
              </a:path>
              <a:path w="5235" h="11535">
                <a:moveTo>
                  <a:pt x="20389" y="13593"/>
                </a:moveTo>
                <a:cubicBezTo>
                  <a:pt x="20373" y="13626"/>
                  <a:pt x="20201" y="13879"/>
                  <a:pt x="20340" y="13891"/>
                </a:cubicBezTo>
                <a:cubicBezTo>
                  <a:pt x="20445" y="13900"/>
                  <a:pt x="20579" y="13849"/>
                  <a:pt x="20687" y="13841"/>
                </a:cubicBezTo>
              </a:path>
              <a:path w="5235" h="11535">
                <a:moveTo>
                  <a:pt x="20638" y="13568"/>
                </a:moveTo>
                <a:cubicBezTo>
                  <a:pt x="20600" y="13739"/>
                  <a:pt x="20572" y="13890"/>
                  <a:pt x="20563" y="14064"/>
                </a:cubicBezTo>
              </a:path>
              <a:path w="5235" h="11535">
                <a:moveTo>
                  <a:pt x="19621" y="13717"/>
                </a:moveTo>
                <a:cubicBezTo>
                  <a:pt x="19572" y="13827"/>
                  <a:pt x="19551" y="13867"/>
                  <a:pt x="19447" y="13940"/>
                </a:cubicBezTo>
                <a:cubicBezTo>
                  <a:pt x="19602" y="13918"/>
                  <a:pt x="19744" y="13899"/>
                  <a:pt x="19893" y="13940"/>
                </a:cubicBezTo>
              </a:path>
              <a:path w="5235" h="11535">
                <a:moveTo>
                  <a:pt x="19869" y="13568"/>
                </a:moveTo>
                <a:cubicBezTo>
                  <a:pt x="19801" y="13823"/>
                  <a:pt x="19750" y="14075"/>
                  <a:pt x="19720" y="14337"/>
                </a:cubicBezTo>
              </a:path>
              <a:path w="5235" h="11535">
                <a:moveTo>
                  <a:pt x="21580" y="14362"/>
                </a:moveTo>
                <a:cubicBezTo>
                  <a:pt x="21542" y="14285"/>
                  <a:pt x="21465" y="14296"/>
                  <a:pt x="21406" y="14362"/>
                </a:cubicBezTo>
                <a:cubicBezTo>
                  <a:pt x="21325" y="14452"/>
                  <a:pt x="21332" y="14548"/>
                  <a:pt x="21332" y="14660"/>
                </a:cubicBezTo>
                <a:cubicBezTo>
                  <a:pt x="21332" y="14763"/>
                  <a:pt x="21342" y="14791"/>
                  <a:pt x="21456" y="14808"/>
                </a:cubicBezTo>
                <a:cubicBezTo>
                  <a:pt x="21514" y="14817"/>
                  <a:pt x="21617" y="14782"/>
                  <a:pt x="21654" y="14734"/>
                </a:cubicBezTo>
                <a:cubicBezTo>
                  <a:pt x="21712" y="14659"/>
                  <a:pt x="21711" y="14596"/>
                  <a:pt x="21679" y="14511"/>
                </a:cubicBezTo>
                <a:cubicBezTo>
                  <a:pt x="21655" y="14449"/>
                  <a:pt x="21611" y="14409"/>
                  <a:pt x="21555" y="14387"/>
                </a:cubicBezTo>
              </a:path>
              <a:path w="5235" h="11535">
                <a:moveTo>
                  <a:pt x="20613" y="14387"/>
                </a:moveTo>
                <a:cubicBezTo>
                  <a:pt x="20613" y="14278"/>
                  <a:pt x="20569" y="14666"/>
                  <a:pt x="20563" y="14734"/>
                </a:cubicBezTo>
                <a:cubicBezTo>
                  <a:pt x="20551" y="14863"/>
                  <a:pt x="20544" y="14939"/>
                  <a:pt x="20687" y="14957"/>
                </a:cubicBezTo>
                <a:cubicBezTo>
                  <a:pt x="20812" y="14973"/>
                  <a:pt x="20923" y="14909"/>
                  <a:pt x="20985" y="14808"/>
                </a:cubicBezTo>
                <a:cubicBezTo>
                  <a:pt x="21012" y="14754"/>
                  <a:pt x="21017" y="14734"/>
                  <a:pt x="20960" y="14709"/>
                </a:cubicBezTo>
                <a:cubicBezTo>
                  <a:pt x="20858" y="14737"/>
                  <a:pt x="20786" y="14798"/>
                  <a:pt x="20811" y="14932"/>
                </a:cubicBezTo>
                <a:cubicBezTo>
                  <a:pt x="20819" y="14949"/>
                  <a:pt x="20828" y="14965"/>
                  <a:pt x="20836" y="14982"/>
                </a:cubicBezTo>
              </a:path>
              <a:path w="5235" h="11535">
                <a:moveTo>
                  <a:pt x="19621" y="14610"/>
                </a:moveTo>
                <a:cubicBezTo>
                  <a:pt x="19620" y="14484"/>
                  <a:pt x="19741" y="14474"/>
                  <a:pt x="19844" y="14511"/>
                </a:cubicBezTo>
                <a:cubicBezTo>
                  <a:pt x="19844" y="14635"/>
                  <a:pt x="19834" y="14665"/>
                  <a:pt x="19769" y="14784"/>
                </a:cubicBezTo>
                <a:cubicBezTo>
                  <a:pt x="19676" y="14720"/>
                  <a:pt x="19925" y="14697"/>
                  <a:pt x="19968" y="14808"/>
                </a:cubicBezTo>
                <a:cubicBezTo>
                  <a:pt x="20060" y="15047"/>
                  <a:pt x="19742" y="15092"/>
                  <a:pt x="19596" y="15081"/>
                </a:cubicBezTo>
                <a:cubicBezTo>
                  <a:pt x="19571" y="15073"/>
                  <a:pt x="19546" y="15064"/>
                  <a:pt x="19521" y="15056"/>
                </a:cubicBezTo>
              </a:path>
              <a:path w="5235" h="11535">
                <a:moveTo>
                  <a:pt x="18728" y="14585"/>
                </a:moveTo>
                <a:cubicBezTo>
                  <a:pt x="18780" y="14495"/>
                  <a:pt x="18916" y="14328"/>
                  <a:pt x="19025" y="14486"/>
                </a:cubicBezTo>
                <a:cubicBezTo>
                  <a:pt x="19105" y="14602"/>
                  <a:pt x="18990" y="14683"/>
                  <a:pt x="18926" y="14759"/>
                </a:cubicBezTo>
                <a:cubicBezTo>
                  <a:pt x="18863" y="14696"/>
                  <a:pt x="19104" y="14677"/>
                  <a:pt x="19149" y="14833"/>
                </a:cubicBezTo>
                <a:cubicBezTo>
                  <a:pt x="19218" y="15072"/>
                  <a:pt x="18962" y="15096"/>
                  <a:pt x="18802" y="15106"/>
                </a:cubicBezTo>
                <a:cubicBezTo>
                  <a:pt x="18785" y="15106"/>
                  <a:pt x="18769" y="15106"/>
                  <a:pt x="18752" y="15106"/>
                </a:cubicBezTo>
              </a:path>
              <a:path w="5235" h="11535">
                <a:moveTo>
                  <a:pt x="21580" y="15156"/>
                </a:moveTo>
                <a:cubicBezTo>
                  <a:pt x="21481" y="15106"/>
                  <a:pt x="21355" y="15196"/>
                  <a:pt x="21307" y="15304"/>
                </a:cubicBezTo>
                <a:cubicBezTo>
                  <a:pt x="21284" y="15440"/>
                  <a:pt x="21270" y="15478"/>
                  <a:pt x="21332" y="15553"/>
                </a:cubicBezTo>
                <a:cubicBezTo>
                  <a:pt x="21468" y="15569"/>
                  <a:pt x="21607" y="15578"/>
                  <a:pt x="21679" y="15429"/>
                </a:cubicBezTo>
                <a:cubicBezTo>
                  <a:pt x="21765" y="15250"/>
                  <a:pt x="21656" y="15213"/>
                  <a:pt x="21506" y="15180"/>
                </a:cubicBezTo>
              </a:path>
              <a:path w="5235" h="11535">
                <a:moveTo>
                  <a:pt x="20935" y="15255"/>
                </a:moveTo>
                <a:cubicBezTo>
                  <a:pt x="20828" y="15241"/>
                  <a:pt x="20765" y="15215"/>
                  <a:pt x="20687" y="15329"/>
                </a:cubicBezTo>
                <a:cubicBezTo>
                  <a:pt x="20616" y="15434"/>
                  <a:pt x="20605" y="15601"/>
                  <a:pt x="20712" y="15677"/>
                </a:cubicBezTo>
                <a:cubicBezTo>
                  <a:pt x="20826" y="15758"/>
                  <a:pt x="20985" y="15642"/>
                  <a:pt x="21010" y="15528"/>
                </a:cubicBezTo>
                <a:cubicBezTo>
                  <a:pt x="21031" y="15430"/>
                  <a:pt x="20988" y="15350"/>
                  <a:pt x="20910" y="15304"/>
                </a:cubicBezTo>
                <a:cubicBezTo>
                  <a:pt x="20894" y="15296"/>
                  <a:pt x="20877" y="15288"/>
                  <a:pt x="20861" y="15280"/>
                </a:cubicBezTo>
              </a:path>
              <a:path w="5235" h="11535">
                <a:moveTo>
                  <a:pt x="19819" y="15379"/>
                </a:moveTo>
                <a:cubicBezTo>
                  <a:pt x="19785" y="15558"/>
                  <a:pt x="19683" y="15827"/>
                  <a:pt x="19745" y="15999"/>
                </a:cubicBezTo>
                <a:cubicBezTo>
                  <a:pt x="19792" y="16130"/>
                  <a:pt x="20080" y="15989"/>
                  <a:pt x="20141" y="15949"/>
                </a:cubicBezTo>
                <a:cubicBezTo>
                  <a:pt x="20252" y="15876"/>
                  <a:pt x="20265" y="15831"/>
                  <a:pt x="20265" y="15726"/>
                </a:cubicBezTo>
                <a:cubicBezTo>
                  <a:pt x="20164" y="15706"/>
                  <a:pt x="20036" y="15738"/>
                  <a:pt x="20017" y="15875"/>
                </a:cubicBezTo>
                <a:cubicBezTo>
                  <a:pt x="20037" y="15915"/>
                  <a:pt x="20046" y="15922"/>
                  <a:pt x="20042" y="15949"/>
                </a:cubicBezTo>
              </a:path>
              <a:path w="5235" h="11535">
                <a:moveTo>
                  <a:pt x="19844" y="10592"/>
                </a:moveTo>
                <a:cubicBezTo>
                  <a:pt x="19880" y="10691"/>
                  <a:pt x="19892" y="10800"/>
                  <a:pt x="19943" y="10889"/>
                </a:cubicBezTo>
              </a:path>
              <a:path w="5235" h="11535">
                <a:moveTo>
                  <a:pt x="19100" y="15677"/>
                </a:moveTo>
                <a:cubicBezTo>
                  <a:pt x="19079" y="15582"/>
                  <a:pt x="19045" y="15554"/>
                  <a:pt x="18976" y="15478"/>
                </a:cubicBezTo>
                <a:cubicBezTo>
                  <a:pt x="18861" y="15540"/>
                  <a:pt x="18617" y="15726"/>
                  <a:pt x="18827" y="15850"/>
                </a:cubicBezTo>
                <a:cubicBezTo>
                  <a:pt x="18967" y="15933"/>
                  <a:pt x="19034" y="15682"/>
                  <a:pt x="19050" y="15602"/>
                </a:cubicBezTo>
                <a:cubicBezTo>
                  <a:pt x="19084" y="15844"/>
                  <a:pt x="19098" y="16032"/>
                  <a:pt x="19050" y="16272"/>
                </a:cubicBezTo>
              </a:path>
              <a:path w="5235" h="11535">
                <a:moveTo>
                  <a:pt x="17983" y="15751"/>
                </a:moveTo>
                <a:cubicBezTo>
                  <a:pt x="17946" y="15636"/>
                  <a:pt x="17736" y="15734"/>
                  <a:pt x="17636" y="15850"/>
                </a:cubicBezTo>
                <a:cubicBezTo>
                  <a:pt x="17628" y="15875"/>
                  <a:pt x="17619" y="15900"/>
                  <a:pt x="17611" y="15925"/>
                </a:cubicBezTo>
                <a:cubicBezTo>
                  <a:pt x="17754" y="15991"/>
                  <a:pt x="18081" y="15953"/>
                  <a:pt x="18132" y="16148"/>
                </a:cubicBezTo>
                <a:cubicBezTo>
                  <a:pt x="18108" y="16243"/>
                  <a:pt x="18103" y="16273"/>
                  <a:pt x="18033" y="16297"/>
                </a:cubicBezTo>
                <a:cubicBezTo>
                  <a:pt x="17956" y="16144"/>
                  <a:pt x="18000" y="15981"/>
                  <a:pt x="18008" y="15801"/>
                </a:cubicBezTo>
              </a:path>
              <a:path w="5235" h="11535">
                <a:moveTo>
                  <a:pt x="21977" y="16222"/>
                </a:moveTo>
                <a:cubicBezTo>
                  <a:pt x="21879" y="16185"/>
                  <a:pt x="21696" y="16181"/>
                  <a:pt x="21605" y="16272"/>
                </a:cubicBezTo>
                <a:cubicBezTo>
                  <a:pt x="21597" y="16297"/>
                  <a:pt x="21588" y="16321"/>
                  <a:pt x="21580" y="16346"/>
                </a:cubicBezTo>
                <a:cubicBezTo>
                  <a:pt x="21694" y="16470"/>
                  <a:pt x="21946" y="16509"/>
                  <a:pt x="22027" y="16644"/>
                </a:cubicBezTo>
                <a:cubicBezTo>
                  <a:pt x="22139" y="16832"/>
                  <a:pt x="21888" y="16847"/>
                  <a:pt x="21803" y="16842"/>
                </a:cubicBezTo>
                <a:cubicBezTo>
                  <a:pt x="21804" y="16661"/>
                  <a:pt x="21913" y="16517"/>
                  <a:pt x="22002" y="16346"/>
                </a:cubicBezTo>
                <a:cubicBezTo>
                  <a:pt x="22026" y="16298"/>
                  <a:pt x="22036" y="16282"/>
                  <a:pt x="21977" y="16297"/>
                </a:cubicBezTo>
              </a:path>
              <a:path w="5235" h="11535">
                <a:moveTo>
                  <a:pt x="21134" y="16421"/>
                </a:moveTo>
                <a:cubicBezTo>
                  <a:pt x="20980" y="16575"/>
                  <a:pt x="20814" y="16770"/>
                  <a:pt x="20910" y="17016"/>
                </a:cubicBezTo>
                <a:cubicBezTo>
                  <a:pt x="20935" y="17041"/>
                  <a:pt x="20960" y="17065"/>
                  <a:pt x="20985" y="17090"/>
                </a:cubicBezTo>
                <a:cubicBezTo>
                  <a:pt x="21199" y="17058"/>
                  <a:pt x="21334" y="16969"/>
                  <a:pt x="21357" y="16718"/>
                </a:cubicBezTo>
                <a:cubicBezTo>
                  <a:pt x="21368" y="16593"/>
                  <a:pt x="21236" y="16535"/>
                  <a:pt x="21158" y="16470"/>
                </a:cubicBezTo>
              </a:path>
              <a:path w="5235" h="11535">
                <a:moveTo>
                  <a:pt x="19248" y="13295"/>
                </a:moveTo>
                <a:cubicBezTo>
                  <a:pt x="19248" y="13428"/>
                  <a:pt x="19310" y="13516"/>
                  <a:pt x="19273" y="13643"/>
                </a:cubicBezTo>
                <a:cubicBezTo>
                  <a:pt x="19245" y="13740"/>
                  <a:pt x="19230" y="13446"/>
                  <a:pt x="19224" y="13345"/>
                </a:cubicBezTo>
              </a:path>
              <a:path w="5235" h="11535">
                <a:moveTo>
                  <a:pt x="20092" y="16594"/>
                </a:moveTo>
                <a:cubicBezTo>
                  <a:pt x="20153" y="16758"/>
                  <a:pt x="20128" y="16888"/>
                  <a:pt x="20117" y="17066"/>
                </a:cubicBezTo>
                <a:cubicBezTo>
                  <a:pt x="20251" y="17032"/>
                  <a:pt x="20382" y="16966"/>
                  <a:pt x="20513" y="16917"/>
                </a:cubicBezTo>
              </a:path>
              <a:path w="5235" h="11535">
                <a:moveTo>
                  <a:pt x="20365" y="16495"/>
                </a:moveTo>
                <a:cubicBezTo>
                  <a:pt x="20374" y="16763"/>
                  <a:pt x="20361" y="17048"/>
                  <a:pt x="20389" y="17314"/>
                </a:cubicBezTo>
                <a:cubicBezTo>
                  <a:pt x="20397" y="17339"/>
                  <a:pt x="20406" y="17363"/>
                  <a:pt x="20414" y="17388"/>
                </a:cubicBezTo>
              </a:path>
              <a:path w="5235" h="11535">
                <a:moveTo>
                  <a:pt x="18653" y="13667"/>
                </a:moveTo>
                <a:cubicBezTo>
                  <a:pt x="18662" y="13793"/>
                  <a:pt x="18704" y="13897"/>
                  <a:pt x="18728" y="14015"/>
                </a:cubicBezTo>
              </a:path>
              <a:path w="5235" h="11535">
                <a:moveTo>
                  <a:pt x="19224" y="16966"/>
                </a:moveTo>
                <a:cubicBezTo>
                  <a:pt x="19224" y="16884"/>
                  <a:pt x="19223" y="16780"/>
                  <a:pt x="19323" y="16743"/>
                </a:cubicBezTo>
                <a:cubicBezTo>
                  <a:pt x="19356" y="16743"/>
                  <a:pt x="19389" y="16743"/>
                  <a:pt x="19422" y="16743"/>
                </a:cubicBezTo>
                <a:cubicBezTo>
                  <a:pt x="19533" y="16881"/>
                  <a:pt x="19505" y="17013"/>
                  <a:pt x="19323" y="17115"/>
                </a:cubicBezTo>
                <a:cubicBezTo>
                  <a:pt x="19306" y="17115"/>
                  <a:pt x="19290" y="17115"/>
                  <a:pt x="19273" y="17115"/>
                </a:cubicBezTo>
                <a:cubicBezTo>
                  <a:pt x="19338" y="17027"/>
                  <a:pt x="19548" y="16890"/>
                  <a:pt x="19596" y="17115"/>
                </a:cubicBezTo>
                <a:cubicBezTo>
                  <a:pt x="19637" y="17309"/>
                  <a:pt x="19466" y="17377"/>
                  <a:pt x="19323" y="17388"/>
                </a:cubicBezTo>
              </a:path>
              <a:path w="5235" h="11535">
                <a:moveTo>
                  <a:pt x="17413" y="14362"/>
                </a:moveTo>
                <a:cubicBezTo>
                  <a:pt x="17468" y="14529"/>
                  <a:pt x="17474" y="14695"/>
                  <a:pt x="17512" y="14858"/>
                </a:cubicBezTo>
              </a:path>
              <a:path w="5235" h="11535">
                <a:moveTo>
                  <a:pt x="18331" y="16966"/>
                </a:moveTo>
                <a:cubicBezTo>
                  <a:pt x="18276" y="16868"/>
                  <a:pt x="18226" y="16805"/>
                  <a:pt x="18132" y="16743"/>
                </a:cubicBezTo>
                <a:cubicBezTo>
                  <a:pt x="18042" y="16842"/>
                  <a:pt x="17896" y="17127"/>
                  <a:pt x="18033" y="17264"/>
                </a:cubicBezTo>
                <a:cubicBezTo>
                  <a:pt x="18186" y="17417"/>
                  <a:pt x="18295" y="16984"/>
                  <a:pt x="18306" y="16942"/>
                </a:cubicBezTo>
                <a:cubicBezTo>
                  <a:pt x="18314" y="16917"/>
                  <a:pt x="18323" y="16892"/>
                  <a:pt x="18331" y="16867"/>
                </a:cubicBezTo>
                <a:cubicBezTo>
                  <a:pt x="18338" y="17117"/>
                  <a:pt x="18367" y="17362"/>
                  <a:pt x="18380" y="17611"/>
                </a:cubicBezTo>
              </a:path>
              <a:path w="5235" h="11535">
                <a:moveTo>
                  <a:pt x="20017" y="17512"/>
                </a:moveTo>
                <a:cubicBezTo>
                  <a:pt x="19986" y="17449"/>
                  <a:pt x="19937" y="17420"/>
                  <a:pt x="19893" y="17487"/>
                </a:cubicBezTo>
                <a:cubicBezTo>
                  <a:pt x="19855" y="17544"/>
                  <a:pt x="19919" y="17631"/>
                  <a:pt x="19968" y="17562"/>
                </a:cubicBezTo>
                <a:cubicBezTo>
                  <a:pt x="19976" y="17537"/>
                  <a:pt x="19985" y="17512"/>
                  <a:pt x="19993" y="17487"/>
                </a:cubicBezTo>
                <a:cubicBezTo>
                  <a:pt x="19942" y="17374"/>
                  <a:pt x="19945" y="17389"/>
                  <a:pt x="19869" y="17487"/>
                </a:cubicBezTo>
                <a:cubicBezTo>
                  <a:pt x="19914" y="17623"/>
                  <a:pt x="19984" y="17536"/>
                  <a:pt x="19943" y="17487"/>
                </a:cubicBezTo>
                <a:cubicBezTo>
                  <a:pt x="19836" y="17359"/>
                  <a:pt x="19873" y="17710"/>
                  <a:pt x="19993" y="17562"/>
                </a:cubicBezTo>
                <a:cubicBezTo>
                  <a:pt x="20121" y="17405"/>
                  <a:pt x="19746" y="17515"/>
                  <a:pt x="19869" y="17562"/>
                </a:cubicBezTo>
                <a:cubicBezTo>
                  <a:pt x="19885" y="17554"/>
                  <a:pt x="19902" y="17545"/>
                  <a:pt x="19918" y="17537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urse 2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bjective:  Students will divide decimals by decimals.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33ccff"/>
                </a:solidFill>
                <a:latin typeface="Arial"/>
              </a:rPr>
              <a:t>Unit 4 – Decimal Operations &amp; Percents</a:t>
            </a:r>
            <a:r>
              <a:rPr b="0" lang="en-US" sz="47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Section 4.5 – Dividing Decimal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Objective:  Students will divide decimals by whole numbers.</a:t>
            </a:r>
            <a:br>
              <a:rPr sz="48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Vocabular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Verdana"/>
              </a:rPr>
              <a:t>Divisor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–</a:t>
            </a: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Verdana"/>
              </a:rPr>
              <a:t>Dividend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–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Verdana"/>
              </a:rPr>
              <a:t>Quotient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Verdana"/>
              </a:rPr>
              <a:t>Annex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–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Verdana"/>
              </a:rPr>
              <a:t>Where in life will you have to divide decimals?</a:t>
            </a:r>
            <a:r>
              <a:rPr b="0" lang="en-US" sz="2800" spc="-1" strike="noStrike">
                <a:solidFill>
                  <a:srgbClr val="aa8456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6446880" y="955800"/>
            <a:ext cx="2117520" cy="2062080"/>
          </a:xfrm>
          <a:custGeom>
            <a:avLst/>
            <a:gdLst/>
            <a:ahLst/>
            <a:rect l="l" t="t" r="r" b="b"/>
            <a:pathLst>
              <a:path w="5880" h="5731">
                <a:moveTo>
                  <a:pt x="19100" y="3621"/>
                </a:moveTo>
                <a:cubicBezTo>
                  <a:pt x="19082" y="3700"/>
                  <a:pt x="18974" y="3863"/>
                  <a:pt x="19075" y="3919"/>
                </a:cubicBezTo>
                <a:cubicBezTo>
                  <a:pt x="19183" y="3979"/>
                  <a:pt x="19312" y="3937"/>
                  <a:pt x="19422" y="3919"/>
                </a:cubicBezTo>
              </a:path>
              <a:path w="5880" h="5731">
                <a:moveTo>
                  <a:pt x="19397" y="3597"/>
                </a:moveTo>
                <a:cubicBezTo>
                  <a:pt x="19354" y="3681"/>
                  <a:pt x="19397" y="3962"/>
                  <a:pt x="19397" y="4093"/>
                </a:cubicBezTo>
                <a:cubicBezTo>
                  <a:pt x="19397" y="4126"/>
                  <a:pt x="19397" y="4159"/>
                  <a:pt x="19397" y="4192"/>
                </a:cubicBezTo>
              </a:path>
              <a:path w="5880" h="5731">
                <a:moveTo>
                  <a:pt x="19893" y="3621"/>
                </a:moveTo>
                <a:cubicBezTo>
                  <a:pt x="19726" y="3573"/>
                  <a:pt x="19725" y="3581"/>
                  <a:pt x="19571" y="3671"/>
                </a:cubicBezTo>
                <a:cubicBezTo>
                  <a:pt x="19600" y="3876"/>
                  <a:pt x="19838" y="3873"/>
                  <a:pt x="19893" y="4068"/>
                </a:cubicBezTo>
                <a:cubicBezTo>
                  <a:pt x="19885" y="4101"/>
                  <a:pt x="19877" y="4134"/>
                  <a:pt x="19869" y="4167"/>
                </a:cubicBezTo>
                <a:cubicBezTo>
                  <a:pt x="19629" y="4199"/>
                  <a:pt x="19650" y="4078"/>
                  <a:pt x="19745" y="3870"/>
                </a:cubicBezTo>
                <a:cubicBezTo>
                  <a:pt x="19820" y="3738"/>
                  <a:pt x="19832" y="3723"/>
                  <a:pt x="19869" y="3646"/>
                </a:cubicBezTo>
              </a:path>
              <a:path w="5880" h="5731">
                <a:moveTo>
                  <a:pt x="18926" y="4316"/>
                </a:moveTo>
                <a:cubicBezTo>
                  <a:pt x="18861" y="4152"/>
                  <a:pt x="18809" y="3968"/>
                  <a:pt x="18752" y="3795"/>
                </a:cubicBezTo>
                <a:cubicBezTo>
                  <a:pt x="18721" y="3703"/>
                  <a:pt x="18694" y="3669"/>
                  <a:pt x="18653" y="3597"/>
                </a:cubicBezTo>
                <a:cubicBezTo>
                  <a:pt x="19055" y="3513"/>
                  <a:pt x="19479" y="3525"/>
                  <a:pt x="19893" y="3522"/>
                </a:cubicBezTo>
                <a:cubicBezTo>
                  <a:pt x="20116" y="3522"/>
                  <a:pt x="20158" y="3522"/>
                  <a:pt x="20290" y="3522"/>
                </a:cubicBezTo>
              </a:path>
              <a:path w="5880" h="5731">
                <a:moveTo>
                  <a:pt x="18058" y="3721"/>
                </a:moveTo>
                <a:cubicBezTo>
                  <a:pt x="18026" y="3850"/>
                  <a:pt x="17940" y="3963"/>
                  <a:pt x="17909" y="4093"/>
                </a:cubicBezTo>
                <a:cubicBezTo>
                  <a:pt x="17878" y="4225"/>
                  <a:pt x="17959" y="4276"/>
                  <a:pt x="18083" y="4291"/>
                </a:cubicBezTo>
                <a:cubicBezTo>
                  <a:pt x="18227" y="4309"/>
                  <a:pt x="18309" y="4286"/>
                  <a:pt x="18380" y="4167"/>
                </a:cubicBezTo>
                <a:cubicBezTo>
                  <a:pt x="18423" y="4096"/>
                  <a:pt x="18416" y="3994"/>
                  <a:pt x="18306" y="3994"/>
                </a:cubicBezTo>
                <a:cubicBezTo>
                  <a:pt x="18213" y="3994"/>
                  <a:pt x="18146" y="4117"/>
                  <a:pt x="18132" y="4192"/>
                </a:cubicBezTo>
                <a:cubicBezTo>
                  <a:pt x="18132" y="4217"/>
                  <a:pt x="18132" y="4241"/>
                  <a:pt x="18132" y="4266"/>
                </a:cubicBezTo>
              </a:path>
              <a:path w="5880" h="5731">
                <a:moveTo>
                  <a:pt x="18380" y="4564"/>
                </a:moveTo>
                <a:cubicBezTo>
                  <a:pt x="18361" y="4656"/>
                  <a:pt x="18340" y="4745"/>
                  <a:pt x="18331" y="4837"/>
                </a:cubicBezTo>
                <a:cubicBezTo>
                  <a:pt x="18346" y="4684"/>
                  <a:pt x="18355" y="4543"/>
                  <a:pt x="18355" y="4390"/>
                </a:cubicBezTo>
                <a:cubicBezTo>
                  <a:pt x="18504" y="4413"/>
                  <a:pt x="18649" y="4478"/>
                  <a:pt x="18802" y="4514"/>
                </a:cubicBezTo>
              </a:path>
              <a:path w="5880" h="5731">
                <a:moveTo>
                  <a:pt x="18405" y="4490"/>
                </a:moveTo>
                <a:cubicBezTo>
                  <a:pt x="18433" y="4462"/>
                  <a:pt x="18446" y="4453"/>
                  <a:pt x="18479" y="4465"/>
                </a:cubicBezTo>
                <a:cubicBezTo>
                  <a:pt x="18509" y="4586"/>
                  <a:pt x="18540" y="4699"/>
                  <a:pt x="18604" y="4812"/>
                </a:cubicBezTo>
                <a:cubicBezTo>
                  <a:pt x="18644" y="4883"/>
                  <a:pt x="18706" y="4979"/>
                  <a:pt x="18752" y="5035"/>
                </a:cubicBezTo>
                <a:cubicBezTo>
                  <a:pt x="18824" y="5124"/>
                  <a:pt x="18898" y="5166"/>
                  <a:pt x="19000" y="5209"/>
                </a:cubicBezTo>
                <a:cubicBezTo>
                  <a:pt x="19096" y="5250"/>
                  <a:pt x="19168" y="5303"/>
                  <a:pt x="19273" y="5333"/>
                </a:cubicBezTo>
                <a:cubicBezTo>
                  <a:pt x="19398" y="5369"/>
                  <a:pt x="19521" y="5382"/>
                  <a:pt x="19645" y="5407"/>
                </a:cubicBezTo>
                <a:cubicBezTo>
                  <a:pt x="19753" y="5429"/>
                  <a:pt x="19860" y="5428"/>
                  <a:pt x="19968" y="5457"/>
                </a:cubicBezTo>
                <a:cubicBezTo>
                  <a:pt x="20083" y="5488"/>
                  <a:pt x="20200" y="5522"/>
                  <a:pt x="20315" y="5556"/>
                </a:cubicBezTo>
                <a:cubicBezTo>
                  <a:pt x="20387" y="5577"/>
                  <a:pt x="20445" y="5603"/>
                  <a:pt x="20513" y="5631"/>
                </a:cubicBezTo>
                <a:cubicBezTo>
                  <a:pt x="20575" y="5657"/>
                  <a:pt x="20698" y="5705"/>
                  <a:pt x="20737" y="5755"/>
                </a:cubicBezTo>
                <a:cubicBezTo>
                  <a:pt x="20780" y="5810"/>
                  <a:pt x="20765" y="5892"/>
                  <a:pt x="20786" y="5953"/>
                </a:cubicBezTo>
                <a:cubicBezTo>
                  <a:pt x="20794" y="5970"/>
                  <a:pt x="20803" y="5986"/>
                  <a:pt x="20811" y="6003"/>
                </a:cubicBezTo>
              </a:path>
              <a:path w="5880" h="5731">
                <a:moveTo>
                  <a:pt x="21878" y="8334"/>
                </a:moveTo>
                <a:cubicBezTo>
                  <a:pt x="22060" y="8370"/>
                  <a:pt x="22230" y="8399"/>
                  <a:pt x="22423" y="8384"/>
                </a:cubicBezTo>
                <a:cubicBezTo>
                  <a:pt x="22741" y="8359"/>
                  <a:pt x="23002" y="8290"/>
                  <a:pt x="23267" y="8111"/>
                </a:cubicBezTo>
                <a:cubicBezTo>
                  <a:pt x="23388" y="8029"/>
                  <a:pt x="23505" y="7933"/>
                  <a:pt x="23589" y="7813"/>
                </a:cubicBezTo>
                <a:cubicBezTo>
                  <a:pt x="23677" y="7687"/>
                  <a:pt x="23741" y="7519"/>
                  <a:pt x="23763" y="7367"/>
                </a:cubicBezTo>
                <a:cubicBezTo>
                  <a:pt x="23786" y="7212"/>
                  <a:pt x="23781" y="7074"/>
                  <a:pt x="23763" y="6921"/>
                </a:cubicBezTo>
                <a:cubicBezTo>
                  <a:pt x="23738" y="6707"/>
                  <a:pt x="23662" y="6476"/>
                  <a:pt x="23589" y="6276"/>
                </a:cubicBezTo>
                <a:cubicBezTo>
                  <a:pt x="23534" y="6126"/>
                  <a:pt x="23473" y="6016"/>
                  <a:pt x="23391" y="5879"/>
                </a:cubicBezTo>
                <a:cubicBezTo>
                  <a:pt x="23325" y="5768"/>
                  <a:pt x="23279" y="5638"/>
                  <a:pt x="23217" y="5531"/>
                </a:cubicBezTo>
                <a:cubicBezTo>
                  <a:pt x="23148" y="5413"/>
                  <a:pt x="23058" y="5327"/>
                  <a:pt x="22969" y="5234"/>
                </a:cubicBezTo>
                <a:cubicBezTo>
                  <a:pt x="22897" y="5159"/>
                  <a:pt x="22830" y="5119"/>
                  <a:pt x="22746" y="5060"/>
                </a:cubicBezTo>
                <a:cubicBezTo>
                  <a:pt x="22616" y="4969"/>
                  <a:pt x="22491" y="4905"/>
                  <a:pt x="22349" y="4837"/>
                </a:cubicBezTo>
                <a:cubicBezTo>
                  <a:pt x="22182" y="4757"/>
                  <a:pt x="21998" y="4684"/>
                  <a:pt x="21828" y="4614"/>
                </a:cubicBezTo>
                <a:cubicBezTo>
                  <a:pt x="21648" y="4540"/>
                  <a:pt x="21461" y="4452"/>
                  <a:pt x="21282" y="4390"/>
                </a:cubicBezTo>
                <a:cubicBezTo>
                  <a:pt x="21159" y="4348"/>
                  <a:pt x="21036" y="4294"/>
                  <a:pt x="20910" y="4266"/>
                </a:cubicBezTo>
                <a:cubicBezTo>
                  <a:pt x="20818" y="4245"/>
                  <a:pt x="20686" y="4234"/>
                  <a:pt x="20588" y="4242"/>
                </a:cubicBezTo>
                <a:cubicBezTo>
                  <a:pt x="20504" y="4249"/>
                  <a:pt x="20356" y="4183"/>
                  <a:pt x="20340" y="4266"/>
                </a:cubicBezTo>
                <a:cubicBezTo>
                  <a:pt x="20328" y="4327"/>
                  <a:pt x="20443" y="4395"/>
                  <a:pt x="20464" y="4440"/>
                </a:cubicBezTo>
                <a:cubicBezTo>
                  <a:pt x="20407" y="4346"/>
                  <a:pt x="20351" y="4263"/>
                  <a:pt x="20315" y="4167"/>
                </a:cubicBezTo>
                <a:cubicBezTo>
                  <a:pt x="20315" y="4159"/>
                  <a:pt x="20315" y="4150"/>
                  <a:pt x="20315" y="4142"/>
                </a:cubicBezTo>
                <a:cubicBezTo>
                  <a:pt x="20454" y="4127"/>
                  <a:pt x="20597" y="4114"/>
                  <a:pt x="20737" y="4093"/>
                </a:cubicBezTo>
              </a:path>
              <a:path w="5880" h="5731">
                <a:moveTo>
                  <a:pt x="20389" y="2927"/>
                </a:moveTo>
                <a:cubicBezTo>
                  <a:pt x="20354" y="2977"/>
                  <a:pt x="20271" y="3024"/>
                  <a:pt x="20290" y="3101"/>
                </a:cubicBezTo>
                <a:cubicBezTo>
                  <a:pt x="20312" y="3190"/>
                  <a:pt x="20400" y="3226"/>
                  <a:pt x="20464" y="3274"/>
                </a:cubicBezTo>
                <a:cubicBezTo>
                  <a:pt x="20472" y="3282"/>
                  <a:pt x="20481" y="3291"/>
                  <a:pt x="20489" y="3299"/>
                </a:cubicBezTo>
              </a:path>
              <a:path w="5880" h="5731">
                <a:moveTo>
                  <a:pt x="19670" y="2654"/>
                </a:moveTo>
                <a:cubicBezTo>
                  <a:pt x="19588" y="2666"/>
                  <a:pt x="19479" y="2695"/>
                  <a:pt x="19397" y="2729"/>
                </a:cubicBezTo>
                <a:cubicBezTo>
                  <a:pt x="19389" y="2737"/>
                  <a:pt x="19380" y="2745"/>
                  <a:pt x="19372" y="2753"/>
                </a:cubicBezTo>
                <a:cubicBezTo>
                  <a:pt x="19466" y="2922"/>
                  <a:pt x="19619" y="2985"/>
                  <a:pt x="19769" y="3101"/>
                </a:cubicBezTo>
                <a:cubicBezTo>
                  <a:pt x="19786" y="3117"/>
                  <a:pt x="19802" y="3134"/>
                  <a:pt x="19819" y="3150"/>
                </a:cubicBezTo>
                <a:cubicBezTo>
                  <a:pt x="19684" y="3258"/>
                  <a:pt x="19627" y="3266"/>
                  <a:pt x="19472" y="3200"/>
                </a:cubicBezTo>
                <a:cubicBezTo>
                  <a:pt x="19494" y="3078"/>
                  <a:pt x="19596" y="2952"/>
                  <a:pt x="19596" y="2828"/>
                </a:cubicBezTo>
                <a:cubicBezTo>
                  <a:pt x="19571" y="2778"/>
                  <a:pt x="19563" y="2762"/>
                  <a:pt x="19546" y="2729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67040" y="2259000"/>
            <a:ext cx="1197000" cy="304920"/>
          </a:xfrm>
          <a:custGeom>
            <a:avLst/>
            <a:gdLst/>
            <a:ahLst/>
            <a:rect l="l" t="t" r="r" b="b"/>
            <a:pathLst>
              <a:path w="3325" h="844">
                <a:moveTo>
                  <a:pt x="7962" y="6623"/>
                </a:moveTo>
                <a:cubicBezTo>
                  <a:pt x="7986" y="6777"/>
                  <a:pt x="8030" y="6905"/>
                  <a:pt x="8037" y="7069"/>
                </a:cubicBezTo>
                <a:cubicBezTo>
                  <a:pt x="8001" y="7212"/>
                  <a:pt x="7999" y="6741"/>
                  <a:pt x="8012" y="6697"/>
                </a:cubicBezTo>
                <a:cubicBezTo>
                  <a:pt x="8037" y="6656"/>
                  <a:pt x="8061" y="6614"/>
                  <a:pt x="8086" y="6573"/>
                </a:cubicBezTo>
                <a:cubicBezTo>
                  <a:pt x="8335" y="6560"/>
                  <a:pt x="8418" y="6675"/>
                  <a:pt x="8508" y="6921"/>
                </a:cubicBezTo>
                <a:cubicBezTo>
                  <a:pt x="8530" y="7028"/>
                  <a:pt x="8538" y="7052"/>
                  <a:pt x="8533" y="7119"/>
                </a:cubicBezTo>
              </a:path>
              <a:path w="3325" h="844">
                <a:moveTo>
                  <a:pt x="8731" y="6672"/>
                </a:moveTo>
                <a:cubicBezTo>
                  <a:pt x="8755" y="6786"/>
                  <a:pt x="8735" y="7054"/>
                  <a:pt x="8830" y="7119"/>
                </a:cubicBezTo>
                <a:cubicBezTo>
                  <a:pt x="8989" y="7229"/>
                  <a:pt x="8958" y="6884"/>
                  <a:pt x="8954" y="6846"/>
                </a:cubicBezTo>
                <a:cubicBezTo>
                  <a:pt x="8946" y="6813"/>
                  <a:pt x="8938" y="6780"/>
                  <a:pt x="8930" y="6747"/>
                </a:cubicBezTo>
                <a:cubicBezTo>
                  <a:pt x="8929" y="6774"/>
                  <a:pt x="8939" y="7184"/>
                  <a:pt x="9029" y="7119"/>
                </a:cubicBezTo>
                <a:cubicBezTo>
                  <a:pt x="9144" y="7036"/>
                  <a:pt x="9061" y="6698"/>
                  <a:pt x="9153" y="6921"/>
                </a:cubicBezTo>
                <a:cubicBezTo>
                  <a:pt x="9193" y="7021"/>
                  <a:pt x="9198" y="7038"/>
                  <a:pt x="9227" y="7094"/>
                </a:cubicBezTo>
                <a:cubicBezTo>
                  <a:pt x="9217" y="7028"/>
                  <a:pt x="9143" y="6608"/>
                  <a:pt x="9327" y="6697"/>
                </a:cubicBezTo>
                <a:cubicBezTo>
                  <a:pt x="9444" y="6754"/>
                  <a:pt x="9457" y="6890"/>
                  <a:pt x="9500" y="6995"/>
                </a:cubicBezTo>
                <a:cubicBezTo>
                  <a:pt x="9492" y="6987"/>
                  <a:pt x="9483" y="6978"/>
                  <a:pt x="9475" y="6970"/>
                </a:cubicBezTo>
                <a:cubicBezTo>
                  <a:pt x="9491" y="6862"/>
                  <a:pt x="9576" y="6495"/>
                  <a:pt x="9748" y="6722"/>
                </a:cubicBezTo>
                <a:cubicBezTo>
                  <a:pt x="9842" y="6847"/>
                  <a:pt x="9823" y="6954"/>
                  <a:pt x="9823" y="7094"/>
                </a:cubicBezTo>
              </a:path>
              <a:path w="3325" h="844">
                <a:moveTo>
                  <a:pt x="9847" y="6276"/>
                </a:moveTo>
                <a:cubicBezTo>
                  <a:pt x="9925" y="6477"/>
                  <a:pt x="9987" y="6728"/>
                  <a:pt x="10046" y="6945"/>
                </a:cubicBezTo>
                <a:cubicBezTo>
                  <a:pt x="10046" y="6953"/>
                  <a:pt x="10046" y="6962"/>
                  <a:pt x="10046" y="6970"/>
                </a:cubicBezTo>
                <a:cubicBezTo>
                  <a:pt x="10052" y="6872"/>
                  <a:pt x="10057" y="6509"/>
                  <a:pt x="10269" y="6598"/>
                </a:cubicBezTo>
                <a:cubicBezTo>
                  <a:pt x="10492" y="6691"/>
                  <a:pt x="10457" y="7034"/>
                  <a:pt x="10220" y="7069"/>
                </a:cubicBezTo>
                <a:cubicBezTo>
                  <a:pt x="10087" y="7048"/>
                  <a:pt x="10041" y="7055"/>
                  <a:pt x="10046" y="6945"/>
                </a:cubicBezTo>
              </a:path>
              <a:path w="3325" h="844">
                <a:moveTo>
                  <a:pt x="10666" y="6772"/>
                </a:moveTo>
                <a:cubicBezTo>
                  <a:pt x="10791" y="6716"/>
                  <a:pt x="10839" y="6732"/>
                  <a:pt x="10840" y="6623"/>
                </a:cubicBezTo>
                <a:cubicBezTo>
                  <a:pt x="10693" y="6600"/>
                  <a:pt x="10538" y="6643"/>
                  <a:pt x="10542" y="6846"/>
                </a:cubicBezTo>
                <a:cubicBezTo>
                  <a:pt x="10548" y="7126"/>
                  <a:pt x="10849" y="7078"/>
                  <a:pt x="10964" y="6921"/>
                </a:cubicBezTo>
                <a:cubicBezTo>
                  <a:pt x="11090" y="6750"/>
                  <a:pt x="11063" y="6693"/>
                  <a:pt x="11063" y="6921"/>
                </a:cubicBezTo>
                <a:cubicBezTo>
                  <a:pt x="11025" y="6795"/>
                  <a:pt x="11018" y="6606"/>
                  <a:pt x="11187" y="6548"/>
                </a:cubicBezTo>
                <a:cubicBezTo>
                  <a:pt x="11220" y="6548"/>
                  <a:pt x="11253" y="6548"/>
                  <a:pt x="11286" y="6548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84800" y="2367000"/>
            <a:ext cx="571320" cy="339840"/>
          </a:xfrm>
          <a:custGeom>
            <a:avLst/>
            <a:gdLst/>
            <a:ahLst/>
            <a:rect l="l" t="t" r="r" b="b"/>
            <a:pathLst>
              <a:path w="1589" h="944">
                <a:moveTo>
                  <a:pt x="12254" y="6573"/>
                </a:moveTo>
                <a:cubicBezTo>
                  <a:pt x="12273" y="6713"/>
                  <a:pt x="12304" y="6839"/>
                  <a:pt x="12353" y="6970"/>
                </a:cubicBezTo>
                <a:cubicBezTo>
                  <a:pt x="12594" y="6940"/>
                  <a:pt x="12597" y="6853"/>
                  <a:pt x="12626" y="6623"/>
                </a:cubicBezTo>
                <a:cubicBezTo>
                  <a:pt x="12754" y="6855"/>
                  <a:pt x="12901" y="7101"/>
                  <a:pt x="12700" y="7342"/>
                </a:cubicBezTo>
                <a:cubicBezTo>
                  <a:pt x="12532" y="7544"/>
                  <a:pt x="12389" y="7516"/>
                  <a:pt x="12179" y="7466"/>
                </a:cubicBezTo>
              </a:path>
              <a:path w="1589" h="944">
                <a:moveTo>
                  <a:pt x="13196" y="6697"/>
                </a:moveTo>
                <a:cubicBezTo>
                  <a:pt x="13083" y="6603"/>
                  <a:pt x="12961" y="6596"/>
                  <a:pt x="12874" y="6747"/>
                </a:cubicBezTo>
                <a:cubicBezTo>
                  <a:pt x="12778" y="6913"/>
                  <a:pt x="13010" y="7149"/>
                  <a:pt x="13122" y="6945"/>
                </a:cubicBezTo>
                <a:cubicBezTo>
                  <a:pt x="13208" y="6788"/>
                  <a:pt x="13043" y="6569"/>
                  <a:pt x="13221" y="6871"/>
                </a:cubicBezTo>
              </a:path>
              <a:path w="1589" h="944">
                <a:moveTo>
                  <a:pt x="13419" y="6648"/>
                </a:moveTo>
                <a:cubicBezTo>
                  <a:pt x="13401" y="6708"/>
                  <a:pt x="13382" y="6611"/>
                  <a:pt x="13370" y="6672"/>
                </a:cubicBezTo>
                <a:cubicBezTo>
                  <a:pt x="13350" y="6774"/>
                  <a:pt x="13360" y="6935"/>
                  <a:pt x="13419" y="6995"/>
                </a:cubicBezTo>
                <a:cubicBezTo>
                  <a:pt x="13565" y="6931"/>
                  <a:pt x="13539" y="6603"/>
                  <a:pt x="13692" y="6648"/>
                </a:cubicBezTo>
                <a:cubicBezTo>
                  <a:pt x="13726" y="6658"/>
                  <a:pt x="13754" y="6923"/>
                  <a:pt x="13767" y="6970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32240" y="2374920"/>
            <a:ext cx="509760" cy="162000"/>
          </a:xfrm>
          <a:custGeom>
            <a:avLst/>
            <a:gdLst/>
            <a:ahLst/>
            <a:rect l="l" t="t" r="r" b="b"/>
            <a:pathLst>
              <a:path w="1414" h="448">
                <a:moveTo>
                  <a:pt x="14932" y="6796"/>
                </a:moveTo>
                <a:cubicBezTo>
                  <a:pt x="14855" y="6763"/>
                  <a:pt x="14684" y="6622"/>
                  <a:pt x="14585" y="6722"/>
                </a:cubicBezTo>
                <a:cubicBezTo>
                  <a:pt x="14458" y="6849"/>
                  <a:pt x="14619" y="7141"/>
                  <a:pt x="14784" y="6995"/>
                </a:cubicBezTo>
                <a:cubicBezTo>
                  <a:pt x="14824" y="6914"/>
                  <a:pt x="14840" y="6901"/>
                  <a:pt x="14833" y="6846"/>
                </a:cubicBezTo>
                <a:cubicBezTo>
                  <a:pt x="14912" y="6949"/>
                  <a:pt x="15024" y="7133"/>
                  <a:pt x="15106" y="6945"/>
                </a:cubicBezTo>
                <a:cubicBezTo>
                  <a:pt x="15202" y="6725"/>
                  <a:pt x="15147" y="6810"/>
                  <a:pt x="15255" y="6945"/>
                </a:cubicBezTo>
                <a:cubicBezTo>
                  <a:pt x="15272" y="6746"/>
                  <a:pt x="15264" y="6677"/>
                  <a:pt x="15453" y="6598"/>
                </a:cubicBezTo>
              </a:path>
              <a:path w="1414" h="448">
                <a:moveTo>
                  <a:pt x="15602" y="6772"/>
                </a:moveTo>
                <a:cubicBezTo>
                  <a:pt x="15700" y="6765"/>
                  <a:pt x="15707" y="6777"/>
                  <a:pt x="15776" y="6722"/>
                </a:cubicBezTo>
                <a:cubicBezTo>
                  <a:pt x="15707" y="6619"/>
                  <a:pt x="15562" y="6620"/>
                  <a:pt x="15553" y="6796"/>
                </a:cubicBezTo>
                <a:cubicBezTo>
                  <a:pt x="15540" y="7043"/>
                  <a:pt x="15788" y="7010"/>
                  <a:pt x="15949" y="6995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27840" y="2320920"/>
            <a:ext cx="1276200" cy="430200"/>
          </a:xfrm>
          <a:custGeom>
            <a:avLst/>
            <a:gdLst/>
            <a:ahLst/>
            <a:rect l="l" t="t" r="r" b="b"/>
            <a:pathLst>
              <a:path w="3548" h="1192">
                <a:moveTo>
                  <a:pt x="17090" y="6871"/>
                </a:moveTo>
                <a:cubicBezTo>
                  <a:pt x="16964" y="6786"/>
                  <a:pt x="16793" y="6711"/>
                  <a:pt x="16743" y="6945"/>
                </a:cubicBezTo>
                <a:cubicBezTo>
                  <a:pt x="16681" y="7234"/>
                  <a:pt x="17044" y="7112"/>
                  <a:pt x="17165" y="7069"/>
                </a:cubicBezTo>
              </a:path>
              <a:path w="3548" h="1192">
                <a:moveTo>
                  <a:pt x="17041" y="6474"/>
                </a:moveTo>
                <a:cubicBezTo>
                  <a:pt x="17095" y="6667"/>
                  <a:pt x="17116" y="6882"/>
                  <a:pt x="17190" y="7069"/>
                </a:cubicBezTo>
                <a:cubicBezTo>
                  <a:pt x="17198" y="7077"/>
                  <a:pt x="17206" y="7086"/>
                  <a:pt x="17214" y="7094"/>
                </a:cubicBezTo>
              </a:path>
              <a:path w="3548" h="1192">
                <a:moveTo>
                  <a:pt x="17438" y="6846"/>
                </a:moveTo>
                <a:cubicBezTo>
                  <a:pt x="17473" y="6926"/>
                  <a:pt x="17491" y="7027"/>
                  <a:pt x="17512" y="7119"/>
                </a:cubicBezTo>
              </a:path>
              <a:path w="3548" h="1192">
                <a:moveTo>
                  <a:pt x="17462" y="6672"/>
                </a:moveTo>
                <a:lnTo>
                  <a:pt x="17462" y="6672"/>
                </a:lnTo>
              </a:path>
              <a:path w="3548" h="1192">
                <a:moveTo>
                  <a:pt x="17562" y="6672"/>
                </a:moveTo>
                <a:cubicBezTo>
                  <a:pt x="17695" y="6787"/>
                  <a:pt x="17793" y="6913"/>
                  <a:pt x="17909" y="7045"/>
                </a:cubicBezTo>
                <a:cubicBezTo>
                  <a:pt x="17926" y="7061"/>
                  <a:pt x="17942" y="7078"/>
                  <a:pt x="17959" y="7094"/>
                </a:cubicBezTo>
                <a:cubicBezTo>
                  <a:pt x="18004" y="6957"/>
                  <a:pt x="18021" y="6812"/>
                  <a:pt x="18058" y="6672"/>
                </a:cubicBezTo>
              </a:path>
              <a:path w="3548" h="1192">
                <a:moveTo>
                  <a:pt x="18281" y="6846"/>
                </a:moveTo>
                <a:cubicBezTo>
                  <a:pt x="18303" y="6975"/>
                  <a:pt x="18299" y="7007"/>
                  <a:pt x="18355" y="7069"/>
                </a:cubicBezTo>
              </a:path>
              <a:path w="3548" h="1192">
                <a:moveTo>
                  <a:pt x="18331" y="6623"/>
                </a:moveTo>
                <a:lnTo>
                  <a:pt x="18331" y="6623"/>
                </a:lnTo>
              </a:path>
              <a:path w="3548" h="1192">
                <a:moveTo>
                  <a:pt x="18802" y="6871"/>
                </a:moveTo>
                <a:cubicBezTo>
                  <a:pt x="18810" y="6846"/>
                  <a:pt x="18819" y="6821"/>
                  <a:pt x="18827" y="6796"/>
                </a:cubicBezTo>
                <a:cubicBezTo>
                  <a:pt x="18697" y="6747"/>
                  <a:pt x="18457" y="6795"/>
                  <a:pt x="18554" y="7020"/>
                </a:cubicBezTo>
                <a:cubicBezTo>
                  <a:pt x="18654" y="7095"/>
                  <a:pt x="18688" y="7119"/>
                  <a:pt x="18777" y="7069"/>
                </a:cubicBezTo>
              </a:path>
              <a:path w="3548" h="1192">
                <a:moveTo>
                  <a:pt x="18728" y="6449"/>
                </a:moveTo>
                <a:cubicBezTo>
                  <a:pt x="18773" y="6631"/>
                  <a:pt x="18850" y="6812"/>
                  <a:pt x="18901" y="6995"/>
                </a:cubicBezTo>
                <a:cubicBezTo>
                  <a:pt x="18909" y="7028"/>
                  <a:pt x="18918" y="7061"/>
                  <a:pt x="18926" y="7094"/>
                </a:cubicBezTo>
              </a:path>
              <a:path w="3548" h="1192">
                <a:moveTo>
                  <a:pt x="19100" y="6846"/>
                </a:moveTo>
                <a:cubicBezTo>
                  <a:pt x="19122" y="6928"/>
                  <a:pt x="19131" y="7009"/>
                  <a:pt x="19149" y="7094"/>
                </a:cubicBezTo>
              </a:path>
              <a:path w="3548" h="1192">
                <a:moveTo>
                  <a:pt x="19149" y="6697"/>
                </a:moveTo>
                <a:lnTo>
                  <a:pt x="19149" y="6697"/>
                </a:lnTo>
              </a:path>
              <a:path w="3548" h="1192">
                <a:moveTo>
                  <a:pt x="19447" y="6945"/>
                </a:moveTo>
                <a:cubicBezTo>
                  <a:pt x="19447" y="7113"/>
                  <a:pt x="19411" y="6801"/>
                  <a:pt x="19571" y="6796"/>
                </a:cubicBezTo>
                <a:cubicBezTo>
                  <a:pt x="19779" y="6789"/>
                  <a:pt x="19716" y="7048"/>
                  <a:pt x="19695" y="7169"/>
                </a:cubicBezTo>
              </a:path>
              <a:path w="3548" h="1192">
                <a:moveTo>
                  <a:pt x="20166" y="6846"/>
                </a:moveTo>
                <a:cubicBezTo>
                  <a:pt x="20027" y="6787"/>
                  <a:pt x="19910" y="6832"/>
                  <a:pt x="19918" y="7020"/>
                </a:cubicBezTo>
                <a:cubicBezTo>
                  <a:pt x="19927" y="7235"/>
                  <a:pt x="20129" y="6918"/>
                  <a:pt x="20141" y="6896"/>
                </a:cubicBezTo>
                <a:cubicBezTo>
                  <a:pt x="20216" y="7095"/>
                  <a:pt x="20381" y="7336"/>
                  <a:pt x="20216" y="7541"/>
                </a:cubicBezTo>
                <a:cubicBezTo>
                  <a:pt x="20039" y="7760"/>
                  <a:pt x="19804" y="7593"/>
                  <a:pt x="19621" y="751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70880" y="2286000"/>
            <a:ext cx="384120" cy="393840"/>
          </a:xfrm>
          <a:custGeom>
            <a:avLst/>
            <a:gdLst/>
            <a:ahLst/>
            <a:rect l="l" t="t" r="r" b="b"/>
            <a:pathLst>
              <a:path w="1068" h="1092">
                <a:moveTo>
                  <a:pt x="21307" y="6350"/>
                </a:moveTo>
                <a:cubicBezTo>
                  <a:pt x="21386" y="6597"/>
                  <a:pt x="21432" y="6858"/>
                  <a:pt x="21456" y="7119"/>
                </a:cubicBezTo>
                <a:cubicBezTo>
                  <a:pt x="21466" y="6994"/>
                  <a:pt x="21497" y="6715"/>
                  <a:pt x="21704" y="6772"/>
                </a:cubicBezTo>
                <a:cubicBezTo>
                  <a:pt x="21820" y="6864"/>
                  <a:pt x="21859" y="6887"/>
                  <a:pt x="21853" y="6995"/>
                </a:cubicBezTo>
                <a:cubicBezTo>
                  <a:pt x="21688" y="7119"/>
                  <a:pt x="21573" y="7143"/>
                  <a:pt x="21431" y="6970"/>
                </a:cubicBezTo>
              </a:path>
              <a:path w="1068" h="1092">
                <a:moveTo>
                  <a:pt x="21952" y="6772"/>
                </a:moveTo>
                <a:cubicBezTo>
                  <a:pt x="21969" y="6881"/>
                  <a:pt x="22003" y="7020"/>
                  <a:pt x="22151" y="7020"/>
                </a:cubicBezTo>
                <a:cubicBezTo>
                  <a:pt x="22278" y="7020"/>
                  <a:pt x="22296" y="6872"/>
                  <a:pt x="22275" y="6796"/>
                </a:cubicBezTo>
                <a:cubicBezTo>
                  <a:pt x="22346" y="7003"/>
                  <a:pt x="22477" y="7270"/>
                  <a:pt x="22225" y="7417"/>
                </a:cubicBezTo>
                <a:cubicBezTo>
                  <a:pt x="22076" y="7441"/>
                  <a:pt x="22026" y="7449"/>
                  <a:pt x="21927" y="7417"/>
                </a:cubicBezTo>
              </a:path>
              <a:path w="1068" h="1092">
                <a:moveTo>
                  <a:pt x="21506" y="7317"/>
                </a:moveTo>
                <a:cubicBezTo>
                  <a:pt x="21796" y="7324"/>
                  <a:pt x="22084" y="7342"/>
                  <a:pt x="22374" y="7342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86080" y="2830680"/>
            <a:ext cx="1305000" cy="312480"/>
          </a:xfrm>
          <a:custGeom>
            <a:avLst/>
            <a:gdLst/>
            <a:ahLst/>
            <a:rect l="l" t="t" r="r" b="b"/>
            <a:pathLst>
              <a:path w="3623" h="869">
                <a:moveTo>
                  <a:pt x="9227" y="8186"/>
                </a:moveTo>
                <a:cubicBezTo>
                  <a:pt x="9202" y="8328"/>
                  <a:pt x="9185" y="8463"/>
                  <a:pt x="9178" y="8607"/>
                </a:cubicBezTo>
                <a:cubicBezTo>
                  <a:pt x="9151" y="8481"/>
                  <a:pt x="9080" y="8314"/>
                  <a:pt x="9203" y="8210"/>
                </a:cubicBezTo>
                <a:cubicBezTo>
                  <a:pt x="9378" y="8061"/>
                  <a:pt x="9539" y="8215"/>
                  <a:pt x="9599" y="8384"/>
                </a:cubicBezTo>
                <a:cubicBezTo>
                  <a:pt x="9635" y="8487"/>
                  <a:pt x="9624" y="8600"/>
                  <a:pt x="9624" y="8706"/>
                </a:cubicBezTo>
              </a:path>
              <a:path w="3623" h="869">
                <a:moveTo>
                  <a:pt x="9823" y="8310"/>
                </a:moveTo>
                <a:cubicBezTo>
                  <a:pt x="9849" y="8464"/>
                  <a:pt x="9848" y="8558"/>
                  <a:pt x="9947" y="8682"/>
                </a:cubicBezTo>
                <a:cubicBezTo>
                  <a:pt x="10145" y="8629"/>
                  <a:pt x="10135" y="8540"/>
                  <a:pt x="10145" y="8334"/>
                </a:cubicBezTo>
                <a:cubicBezTo>
                  <a:pt x="10060" y="8308"/>
                  <a:pt x="10146" y="8547"/>
                  <a:pt x="10170" y="8607"/>
                </a:cubicBezTo>
                <a:cubicBezTo>
                  <a:pt x="10212" y="8689"/>
                  <a:pt x="10212" y="8714"/>
                  <a:pt x="10269" y="8731"/>
                </a:cubicBezTo>
              </a:path>
              <a:path w="3623" h="869">
                <a:moveTo>
                  <a:pt x="10344" y="8334"/>
                </a:moveTo>
                <a:cubicBezTo>
                  <a:pt x="10385" y="8452"/>
                  <a:pt x="10427" y="8558"/>
                  <a:pt x="10443" y="8682"/>
                </a:cubicBezTo>
                <a:cubicBezTo>
                  <a:pt x="10417" y="8534"/>
                  <a:pt x="10379" y="8391"/>
                  <a:pt x="10517" y="8285"/>
                </a:cubicBezTo>
                <a:cubicBezTo>
                  <a:pt x="10696" y="8148"/>
                  <a:pt x="10759" y="8484"/>
                  <a:pt x="10815" y="8607"/>
                </a:cubicBezTo>
                <a:cubicBezTo>
                  <a:pt x="10823" y="8624"/>
                  <a:pt x="10832" y="8640"/>
                  <a:pt x="10840" y="8657"/>
                </a:cubicBezTo>
                <a:cubicBezTo>
                  <a:pt x="10816" y="8561"/>
                  <a:pt x="10764" y="8381"/>
                  <a:pt x="10864" y="8310"/>
                </a:cubicBezTo>
                <a:cubicBezTo>
                  <a:pt x="10889" y="8302"/>
                  <a:pt x="10914" y="8293"/>
                  <a:pt x="10939" y="8285"/>
                </a:cubicBezTo>
                <a:cubicBezTo>
                  <a:pt x="11080" y="8388"/>
                  <a:pt x="11063" y="8480"/>
                  <a:pt x="11063" y="8657"/>
                </a:cubicBezTo>
                <a:cubicBezTo>
                  <a:pt x="11063" y="8698"/>
                  <a:pt x="11063" y="8706"/>
                  <a:pt x="11063" y="8731"/>
                </a:cubicBezTo>
              </a:path>
              <a:path w="3623" h="869">
                <a:moveTo>
                  <a:pt x="11013" y="7863"/>
                </a:moveTo>
                <a:cubicBezTo>
                  <a:pt x="11218" y="7953"/>
                  <a:pt x="11205" y="8231"/>
                  <a:pt x="11261" y="8434"/>
                </a:cubicBezTo>
                <a:cubicBezTo>
                  <a:pt x="11300" y="8550"/>
                  <a:pt x="11302" y="8570"/>
                  <a:pt x="11336" y="8632"/>
                </a:cubicBezTo>
                <a:cubicBezTo>
                  <a:pt x="11293" y="8461"/>
                  <a:pt x="11329" y="8364"/>
                  <a:pt x="11410" y="8210"/>
                </a:cubicBezTo>
                <a:cubicBezTo>
                  <a:pt x="11551" y="8253"/>
                  <a:pt x="11700" y="8395"/>
                  <a:pt x="11633" y="8582"/>
                </a:cubicBezTo>
                <a:cubicBezTo>
                  <a:pt x="11566" y="8769"/>
                  <a:pt x="11364" y="8653"/>
                  <a:pt x="11286" y="8582"/>
                </a:cubicBezTo>
              </a:path>
              <a:path w="3623" h="869">
                <a:moveTo>
                  <a:pt x="11807" y="8458"/>
                </a:moveTo>
                <a:cubicBezTo>
                  <a:pt x="11893" y="8446"/>
                  <a:pt x="11967" y="8434"/>
                  <a:pt x="12055" y="8434"/>
                </a:cubicBezTo>
                <a:cubicBezTo>
                  <a:pt x="12027" y="8341"/>
                  <a:pt x="11961" y="8184"/>
                  <a:pt x="11832" y="8260"/>
                </a:cubicBezTo>
                <a:cubicBezTo>
                  <a:pt x="11696" y="8340"/>
                  <a:pt x="11700" y="8596"/>
                  <a:pt x="11857" y="8657"/>
                </a:cubicBezTo>
                <a:cubicBezTo>
                  <a:pt x="12095" y="8750"/>
                  <a:pt x="12138" y="8484"/>
                  <a:pt x="12254" y="8409"/>
                </a:cubicBezTo>
                <a:cubicBezTo>
                  <a:pt x="12309" y="8373"/>
                  <a:pt x="12339" y="8570"/>
                  <a:pt x="12353" y="8607"/>
                </a:cubicBezTo>
                <a:cubicBezTo>
                  <a:pt x="12330" y="8450"/>
                  <a:pt x="12302" y="8359"/>
                  <a:pt x="12452" y="8260"/>
                </a:cubicBezTo>
                <a:cubicBezTo>
                  <a:pt x="12550" y="8195"/>
                  <a:pt x="12641" y="8210"/>
                  <a:pt x="12750" y="8210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75120" y="3027240"/>
            <a:ext cx="625680" cy="285840"/>
          </a:xfrm>
          <a:custGeom>
            <a:avLst/>
            <a:gdLst/>
            <a:ahLst/>
            <a:rect l="l" t="t" r="r" b="b"/>
            <a:pathLst>
              <a:path w="1738" h="795">
                <a:moveTo>
                  <a:pt x="13692" y="8409"/>
                </a:moveTo>
                <a:cubicBezTo>
                  <a:pt x="13713" y="8482"/>
                  <a:pt x="13723" y="8714"/>
                  <a:pt x="13841" y="8632"/>
                </a:cubicBezTo>
                <a:cubicBezTo>
                  <a:pt x="13932" y="8569"/>
                  <a:pt x="13930" y="8507"/>
                  <a:pt x="13940" y="8409"/>
                </a:cubicBezTo>
                <a:cubicBezTo>
                  <a:pt x="14000" y="8589"/>
                  <a:pt x="14189" y="8796"/>
                  <a:pt x="14114" y="9004"/>
                </a:cubicBezTo>
                <a:cubicBezTo>
                  <a:pt x="14018" y="9268"/>
                  <a:pt x="13702" y="9203"/>
                  <a:pt x="13543" y="9103"/>
                </a:cubicBezTo>
              </a:path>
              <a:path w="1738" h="795">
                <a:moveTo>
                  <a:pt x="14585" y="8458"/>
                </a:moveTo>
                <a:cubicBezTo>
                  <a:pt x="14400" y="8485"/>
                  <a:pt x="14321" y="8525"/>
                  <a:pt x="14238" y="8682"/>
                </a:cubicBezTo>
                <a:cubicBezTo>
                  <a:pt x="14326" y="8726"/>
                  <a:pt x="14703" y="8833"/>
                  <a:pt x="14610" y="8558"/>
                </a:cubicBezTo>
                <a:cubicBezTo>
                  <a:pt x="14518" y="8465"/>
                  <a:pt x="14494" y="8436"/>
                  <a:pt x="14412" y="8409"/>
                </a:cubicBezTo>
              </a:path>
              <a:path w="1738" h="795">
                <a:moveTo>
                  <a:pt x="14660" y="8409"/>
                </a:moveTo>
                <a:cubicBezTo>
                  <a:pt x="14703" y="8561"/>
                  <a:pt x="14704" y="8648"/>
                  <a:pt x="14833" y="8731"/>
                </a:cubicBezTo>
                <a:cubicBezTo>
                  <a:pt x="14928" y="8660"/>
                  <a:pt x="14995" y="8561"/>
                  <a:pt x="14932" y="8434"/>
                </a:cubicBezTo>
                <a:cubicBezTo>
                  <a:pt x="14878" y="8324"/>
                  <a:pt x="15042" y="8636"/>
                  <a:pt x="15156" y="8682"/>
                </a:cubicBezTo>
              </a:path>
              <a:path w="1738" h="795">
                <a:moveTo>
                  <a:pt x="15205" y="8458"/>
                </a:moveTo>
                <a:cubicBezTo>
                  <a:pt x="15215" y="8635"/>
                  <a:pt x="15219" y="8675"/>
                  <a:pt x="15205" y="8483"/>
                </a:cubicBezTo>
              </a:path>
              <a:path w="1738" h="795">
                <a:moveTo>
                  <a:pt x="15056" y="8682"/>
                </a:moveTo>
                <a:cubicBezTo>
                  <a:pt x="15198" y="8635"/>
                  <a:pt x="15229" y="8622"/>
                  <a:pt x="15280" y="8483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86280" y="3009960"/>
            <a:ext cx="438480" cy="160200"/>
          </a:xfrm>
          <a:custGeom>
            <a:avLst/>
            <a:gdLst/>
            <a:ahLst/>
            <a:rect l="l" t="t" r="r" b="b"/>
            <a:pathLst>
              <a:path w="1217" h="448">
                <a:moveTo>
                  <a:pt x="16470" y="8558"/>
                </a:moveTo>
                <a:cubicBezTo>
                  <a:pt x="16392" y="8415"/>
                  <a:pt x="16282" y="8333"/>
                  <a:pt x="16148" y="8508"/>
                </a:cubicBezTo>
                <a:cubicBezTo>
                  <a:pt x="15998" y="8704"/>
                  <a:pt x="16192" y="8935"/>
                  <a:pt x="16321" y="8731"/>
                </a:cubicBezTo>
                <a:cubicBezTo>
                  <a:pt x="16341" y="8632"/>
                  <a:pt x="16349" y="8617"/>
                  <a:pt x="16346" y="8558"/>
                </a:cubicBezTo>
                <a:cubicBezTo>
                  <a:pt x="16380" y="8609"/>
                  <a:pt x="16540" y="8860"/>
                  <a:pt x="16594" y="8682"/>
                </a:cubicBezTo>
                <a:cubicBezTo>
                  <a:pt x="16652" y="8492"/>
                  <a:pt x="16617" y="8461"/>
                  <a:pt x="16669" y="8682"/>
                </a:cubicBezTo>
                <a:cubicBezTo>
                  <a:pt x="16677" y="8698"/>
                  <a:pt x="16686" y="8715"/>
                  <a:pt x="16694" y="8731"/>
                </a:cubicBezTo>
                <a:cubicBezTo>
                  <a:pt x="16683" y="8582"/>
                  <a:pt x="16620" y="8440"/>
                  <a:pt x="16793" y="8359"/>
                </a:cubicBezTo>
                <a:cubicBezTo>
                  <a:pt x="16818" y="8359"/>
                  <a:pt x="16842" y="8359"/>
                  <a:pt x="16867" y="8359"/>
                </a:cubicBezTo>
              </a:path>
              <a:path w="1217" h="448">
                <a:moveTo>
                  <a:pt x="17090" y="8533"/>
                </a:moveTo>
                <a:cubicBezTo>
                  <a:pt x="17212" y="8516"/>
                  <a:pt x="17200" y="8535"/>
                  <a:pt x="17264" y="8434"/>
                </a:cubicBezTo>
                <a:cubicBezTo>
                  <a:pt x="17130" y="8382"/>
                  <a:pt x="16938" y="8457"/>
                  <a:pt x="17041" y="8657"/>
                </a:cubicBezTo>
                <a:cubicBezTo>
                  <a:pt x="17147" y="8736"/>
                  <a:pt x="17188" y="8761"/>
                  <a:pt x="17289" y="8731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6240" y="2830680"/>
            <a:ext cx="1278000" cy="492120"/>
          </a:xfrm>
          <a:custGeom>
            <a:avLst/>
            <a:gdLst/>
            <a:ahLst/>
            <a:rect l="l" t="t" r="r" b="b"/>
            <a:pathLst>
              <a:path w="3548" h="1365">
                <a:moveTo>
                  <a:pt x="18380" y="8409"/>
                </a:moveTo>
                <a:cubicBezTo>
                  <a:pt x="18254" y="8331"/>
                  <a:pt x="18079" y="8241"/>
                  <a:pt x="17959" y="8409"/>
                </a:cubicBezTo>
                <a:cubicBezTo>
                  <a:pt x="17951" y="8450"/>
                  <a:pt x="17942" y="8492"/>
                  <a:pt x="17934" y="8533"/>
                </a:cubicBezTo>
                <a:cubicBezTo>
                  <a:pt x="18140" y="8739"/>
                  <a:pt x="18197" y="8680"/>
                  <a:pt x="18355" y="8458"/>
                </a:cubicBezTo>
              </a:path>
              <a:path w="3548" h="1365">
                <a:moveTo>
                  <a:pt x="18207" y="7987"/>
                </a:moveTo>
                <a:cubicBezTo>
                  <a:pt x="18284" y="8167"/>
                  <a:pt x="18358" y="8354"/>
                  <a:pt x="18430" y="8533"/>
                </a:cubicBezTo>
                <a:cubicBezTo>
                  <a:pt x="18430" y="8541"/>
                  <a:pt x="18430" y="8550"/>
                  <a:pt x="18430" y="8558"/>
                </a:cubicBezTo>
              </a:path>
              <a:path w="3548" h="1365">
                <a:moveTo>
                  <a:pt x="18628" y="8310"/>
                </a:moveTo>
                <a:cubicBezTo>
                  <a:pt x="18652" y="8429"/>
                  <a:pt x="18658" y="8466"/>
                  <a:pt x="18703" y="8533"/>
                </a:cubicBezTo>
              </a:path>
              <a:path w="3548" h="1365">
                <a:moveTo>
                  <a:pt x="18628" y="8161"/>
                </a:moveTo>
                <a:lnTo>
                  <a:pt x="18628" y="8161"/>
                </a:lnTo>
              </a:path>
              <a:path w="3548" h="1365">
                <a:moveTo>
                  <a:pt x="18901" y="8285"/>
                </a:moveTo>
                <a:cubicBezTo>
                  <a:pt x="19010" y="8421"/>
                  <a:pt x="19006" y="8436"/>
                  <a:pt x="19149" y="8508"/>
                </a:cubicBezTo>
                <a:cubicBezTo>
                  <a:pt x="19171" y="8384"/>
                  <a:pt x="19186" y="8261"/>
                  <a:pt x="19199" y="8136"/>
                </a:cubicBezTo>
              </a:path>
              <a:path w="3548" h="1365">
                <a:moveTo>
                  <a:pt x="19422" y="8285"/>
                </a:moveTo>
                <a:cubicBezTo>
                  <a:pt x="19442" y="8362"/>
                  <a:pt x="19434" y="8380"/>
                  <a:pt x="19472" y="8409"/>
                </a:cubicBezTo>
              </a:path>
              <a:path w="3548" h="1365">
                <a:moveTo>
                  <a:pt x="19422" y="8111"/>
                </a:moveTo>
                <a:lnTo>
                  <a:pt x="19422" y="8111"/>
                </a:lnTo>
              </a:path>
              <a:path w="3548" h="1365">
                <a:moveTo>
                  <a:pt x="19968" y="8285"/>
                </a:moveTo>
                <a:cubicBezTo>
                  <a:pt x="19979" y="8235"/>
                  <a:pt x="19978" y="8106"/>
                  <a:pt x="19893" y="8136"/>
                </a:cubicBezTo>
                <a:cubicBezTo>
                  <a:pt x="19758" y="8184"/>
                  <a:pt x="19629" y="8337"/>
                  <a:pt x="19720" y="8483"/>
                </a:cubicBezTo>
                <a:cubicBezTo>
                  <a:pt x="19800" y="8610"/>
                  <a:pt x="19900" y="8505"/>
                  <a:pt x="19968" y="8458"/>
                </a:cubicBezTo>
              </a:path>
              <a:path w="3548" h="1365">
                <a:moveTo>
                  <a:pt x="19893" y="7863"/>
                </a:moveTo>
                <a:cubicBezTo>
                  <a:pt x="19964" y="8034"/>
                  <a:pt x="20006" y="8213"/>
                  <a:pt x="20067" y="8384"/>
                </a:cubicBezTo>
                <a:cubicBezTo>
                  <a:pt x="20084" y="8417"/>
                  <a:pt x="20100" y="8450"/>
                  <a:pt x="20117" y="8483"/>
                </a:cubicBezTo>
              </a:path>
              <a:path w="3548" h="1365">
                <a:moveTo>
                  <a:pt x="20340" y="8210"/>
                </a:moveTo>
                <a:cubicBezTo>
                  <a:pt x="20315" y="8310"/>
                  <a:pt x="20307" y="8343"/>
                  <a:pt x="20340" y="8409"/>
                </a:cubicBezTo>
              </a:path>
              <a:path w="3548" h="1365">
                <a:moveTo>
                  <a:pt x="20265" y="8086"/>
                </a:moveTo>
                <a:cubicBezTo>
                  <a:pt x="20257" y="8070"/>
                  <a:pt x="20249" y="8053"/>
                  <a:pt x="20241" y="8037"/>
                </a:cubicBezTo>
              </a:path>
              <a:path w="3548" h="1365">
                <a:moveTo>
                  <a:pt x="20588" y="8310"/>
                </a:moveTo>
                <a:cubicBezTo>
                  <a:pt x="20626" y="8403"/>
                  <a:pt x="20619" y="8421"/>
                  <a:pt x="20662" y="8458"/>
                </a:cubicBezTo>
                <a:cubicBezTo>
                  <a:pt x="20662" y="8343"/>
                  <a:pt x="20651" y="8228"/>
                  <a:pt x="20737" y="8136"/>
                </a:cubicBezTo>
                <a:cubicBezTo>
                  <a:pt x="20753" y="8128"/>
                  <a:pt x="20770" y="8119"/>
                  <a:pt x="20786" y="8111"/>
                </a:cubicBezTo>
                <a:cubicBezTo>
                  <a:pt x="20937" y="8161"/>
                  <a:pt x="20961" y="8245"/>
                  <a:pt x="20985" y="8409"/>
                </a:cubicBezTo>
              </a:path>
              <a:path w="3548" h="1365">
                <a:moveTo>
                  <a:pt x="21332" y="8136"/>
                </a:moveTo>
                <a:cubicBezTo>
                  <a:pt x="21247" y="8164"/>
                  <a:pt x="21097" y="8260"/>
                  <a:pt x="21134" y="8384"/>
                </a:cubicBezTo>
                <a:cubicBezTo>
                  <a:pt x="21190" y="8573"/>
                  <a:pt x="21343" y="8270"/>
                  <a:pt x="21357" y="8235"/>
                </a:cubicBezTo>
                <a:cubicBezTo>
                  <a:pt x="21365" y="8219"/>
                  <a:pt x="21374" y="8202"/>
                  <a:pt x="21382" y="8186"/>
                </a:cubicBezTo>
                <a:cubicBezTo>
                  <a:pt x="21430" y="8429"/>
                  <a:pt x="21579" y="8821"/>
                  <a:pt x="21431" y="9054"/>
                </a:cubicBezTo>
                <a:cubicBezTo>
                  <a:pt x="21277" y="9297"/>
                  <a:pt x="21044" y="9257"/>
                  <a:pt x="20960" y="9054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52880" y="3446640"/>
            <a:ext cx="1170000" cy="250560"/>
          </a:xfrm>
          <a:custGeom>
            <a:avLst/>
            <a:gdLst/>
            <a:ahLst/>
            <a:rect l="l" t="t" r="r" b="b"/>
            <a:pathLst>
              <a:path w="3250" h="695">
                <a:moveTo>
                  <a:pt x="9029" y="9947"/>
                </a:moveTo>
                <a:cubicBezTo>
                  <a:pt x="9163" y="9788"/>
                  <a:pt x="9175" y="9744"/>
                  <a:pt x="9054" y="9575"/>
                </a:cubicBezTo>
                <a:cubicBezTo>
                  <a:pt x="8896" y="9653"/>
                  <a:pt x="8584" y="9906"/>
                  <a:pt x="8855" y="10096"/>
                </a:cubicBezTo>
                <a:cubicBezTo>
                  <a:pt x="9092" y="10261"/>
                  <a:pt x="9136" y="9957"/>
                  <a:pt x="9128" y="9823"/>
                </a:cubicBezTo>
                <a:cubicBezTo>
                  <a:pt x="9134" y="9831"/>
                  <a:pt x="9314" y="10087"/>
                  <a:pt x="9327" y="10071"/>
                </a:cubicBezTo>
                <a:cubicBezTo>
                  <a:pt x="9464" y="9908"/>
                  <a:pt x="9334" y="9803"/>
                  <a:pt x="9426" y="10096"/>
                </a:cubicBezTo>
                <a:cubicBezTo>
                  <a:pt x="9434" y="10112"/>
                  <a:pt x="9443" y="10129"/>
                  <a:pt x="9451" y="10145"/>
                </a:cubicBezTo>
                <a:cubicBezTo>
                  <a:pt x="9404" y="9970"/>
                  <a:pt x="9396" y="9884"/>
                  <a:pt x="9475" y="9723"/>
                </a:cubicBezTo>
                <a:cubicBezTo>
                  <a:pt x="9739" y="9767"/>
                  <a:pt x="9811" y="9873"/>
                  <a:pt x="9847" y="10145"/>
                </a:cubicBezTo>
                <a:cubicBezTo>
                  <a:pt x="9847" y="10186"/>
                  <a:pt x="9847" y="10228"/>
                  <a:pt x="9847" y="10269"/>
                </a:cubicBezTo>
              </a:path>
              <a:path w="3250" h="695">
                <a:moveTo>
                  <a:pt x="10244" y="9723"/>
                </a:moveTo>
                <a:cubicBezTo>
                  <a:pt x="10160" y="9723"/>
                  <a:pt x="10140" y="9716"/>
                  <a:pt x="10096" y="9748"/>
                </a:cubicBezTo>
                <a:cubicBezTo>
                  <a:pt x="10270" y="9868"/>
                  <a:pt x="10404" y="9866"/>
                  <a:pt x="10468" y="10071"/>
                </a:cubicBezTo>
                <a:cubicBezTo>
                  <a:pt x="10349" y="10129"/>
                  <a:pt x="10295" y="10149"/>
                  <a:pt x="10195" y="10145"/>
                </a:cubicBezTo>
              </a:path>
              <a:path w="3250" h="695">
                <a:moveTo>
                  <a:pt x="10641" y="9649"/>
                </a:moveTo>
                <a:cubicBezTo>
                  <a:pt x="10649" y="9724"/>
                  <a:pt x="10672" y="10044"/>
                  <a:pt x="10815" y="10021"/>
                </a:cubicBezTo>
                <a:cubicBezTo>
                  <a:pt x="10894" y="10008"/>
                  <a:pt x="10917" y="9834"/>
                  <a:pt x="10939" y="9773"/>
                </a:cubicBezTo>
                <a:cubicBezTo>
                  <a:pt x="10921" y="9895"/>
                  <a:pt x="10915" y="10078"/>
                  <a:pt x="11112" y="10046"/>
                </a:cubicBezTo>
                <a:cubicBezTo>
                  <a:pt x="11433" y="9993"/>
                  <a:pt x="11263" y="9735"/>
                  <a:pt x="11137" y="9624"/>
                </a:cubicBezTo>
              </a:path>
              <a:path w="3250" h="695">
                <a:moveTo>
                  <a:pt x="11410" y="9798"/>
                </a:moveTo>
                <a:cubicBezTo>
                  <a:pt x="11509" y="9781"/>
                  <a:pt x="11523" y="9780"/>
                  <a:pt x="11584" y="9699"/>
                </a:cubicBezTo>
                <a:cubicBezTo>
                  <a:pt x="11465" y="9733"/>
                  <a:pt x="11218" y="9915"/>
                  <a:pt x="11460" y="10021"/>
                </a:cubicBezTo>
                <a:cubicBezTo>
                  <a:pt x="11638" y="10099"/>
                  <a:pt x="11747" y="9899"/>
                  <a:pt x="11832" y="9798"/>
                </a:cubicBezTo>
                <a:cubicBezTo>
                  <a:pt x="11832" y="9856"/>
                  <a:pt x="11832" y="9897"/>
                  <a:pt x="11832" y="9947"/>
                </a:cubicBezTo>
                <a:cubicBezTo>
                  <a:pt x="11873" y="9973"/>
                  <a:pt x="11872" y="9710"/>
                  <a:pt x="11931" y="9624"/>
                </a:cubicBezTo>
                <a:cubicBezTo>
                  <a:pt x="11956" y="9608"/>
                  <a:pt x="11980" y="9591"/>
                  <a:pt x="12005" y="9575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26000" y="3330720"/>
            <a:ext cx="384120" cy="258480"/>
          </a:xfrm>
          <a:custGeom>
            <a:avLst/>
            <a:gdLst/>
            <a:ahLst/>
            <a:rect l="l" t="t" r="r" b="b"/>
            <a:pathLst>
              <a:path w="1067" h="720">
                <a:moveTo>
                  <a:pt x="12948" y="9252"/>
                </a:moveTo>
                <a:cubicBezTo>
                  <a:pt x="13023" y="9499"/>
                  <a:pt x="13083" y="9758"/>
                  <a:pt x="13221" y="9971"/>
                </a:cubicBezTo>
              </a:path>
              <a:path w="1067" h="720">
                <a:moveTo>
                  <a:pt x="12849" y="9550"/>
                </a:moveTo>
                <a:cubicBezTo>
                  <a:pt x="13064" y="9621"/>
                  <a:pt x="13237" y="9624"/>
                  <a:pt x="13469" y="9624"/>
                </a:cubicBezTo>
                <a:cubicBezTo>
                  <a:pt x="13383" y="9832"/>
                  <a:pt x="13361" y="9986"/>
                  <a:pt x="13667" y="9971"/>
                </a:cubicBezTo>
                <a:cubicBezTo>
                  <a:pt x="14027" y="9954"/>
                  <a:pt x="13880" y="9773"/>
                  <a:pt x="13692" y="9674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24320" y="3456000"/>
            <a:ext cx="169920" cy="152280"/>
          </a:xfrm>
          <a:custGeom>
            <a:avLst/>
            <a:gdLst/>
            <a:ahLst/>
            <a:rect l="l" t="t" r="r" b="b"/>
            <a:pathLst>
              <a:path w="472" h="423">
                <a:moveTo>
                  <a:pt x="14833" y="9823"/>
                </a:moveTo>
                <a:cubicBezTo>
                  <a:pt x="14850" y="9657"/>
                  <a:pt x="14679" y="9483"/>
                  <a:pt x="14536" y="9723"/>
                </a:cubicBezTo>
                <a:cubicBezTo>
                  <a:pt x="14390" y="9969"/>
                  <a:pt x="14673" y="10140"/>
                  <a:pt x="14833" y="9897"/>
                </a:cubicBezTo>
                <a:cubicBezTo>
                  <a:pt x="14908" y="9782"/>
                  <a:pt x="14838" y="9830"/>
                  <a:pt x="14982" y="999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26080" y="3340080"/>
            <a:ext cx="1339920" cy="285840"/>
          </a:xfrm>
          <a:custGeom>
            <a:avLst/>
            <a:gdLst/>
            <a:ahLst/>
            <a:rect l="l" t="t" r="r" b="b"/>
            <a:pathLst>
              <a:path w="3722" h="795">
                <a:moveTo>
                  <a:pt x="15974" y="9748"/>
                </a:moveTo>
                <a:cubicBezTo>
                  <a:pt x="15945" y="9607"/>
                  <a:pt x="15761" y="9621"/>
                  <a:pt x="15677" y="9723"/>
                </a:cubicBezTo>
                <a:cubicBezTo>
                  <a:pt x="15422" y="10035"/>
                  <a:pt x="15966" y="10014"/>
                  <a:pt x="16098" y="9996"/>
                </a:cubicBezTo>
              </a:path>
              <a:path w="3722" h="795">
                <a:moveTo>
                  <a:pt x="16049" y="9277"/>
                </a:moveTo>
                <a:cubicBezTo>
                  <a:pt x="16082" y="9493"/>
                  <a:pt x="16146" y="9694"/>
                  <a:pt x="16222" y="9897"/>
                </a:cubicBezTo>
                <a:cubicBezTo>
                  <a:pt x="16247" y="9970"/>
                  <a:pt x="16254" y="9994"/>
                  <a:pt x="16321" y="9971"/>
                </a:cubicBezTo>
              </a:path>
              <a:path w="3722" h="795">
                <a:moveTo>
                  <a:pt x="16421" y="9674"/>
                </a:moveTo>
                <a:cubicBezTo>
                  <a:pt x="16426" y="9795"/>
                  <a:pt x="16418" y="9866"/>
                  <a:pt x="16470" y="9971"/>
                </a:cubicBezTo>
              </a:path>
              <a:path w="3722" h="795">
                <a:moveTo>
                  <a:pt x="16396" y="9426"/>
                </a:moveTo>
                <a:lnTo>
                  <a:pt x="16396" y="9426"/>
                </a:lnTo>
              </a:path>
              <a:path w="3722" h="795">
                <a:moveTo>
                  <a:pt x="16619" y="9575"/>
                </a:moveTo>
                <a:cubicBezTo>
                  <a:pt x="16708" y="9681"/>
                  <a:pt x="16801" y="9871"/>
                  <a:pt x="16917" y="9947"/>
                </a:cubicBezTo>
                <a:cubicBezTo>
                  <a:pt x="16933" y="9947"/>
                  <a:pt x="16950" y="9947"/>
                  <a:pt x="16966" y="9947"/>
                </a:cubicBezTo>
                <a:cubicBezTo>
                  <a:pt x="17023" y="9820"/>
                  <a:pt x="17036" y="9669"/>
                  <a:pt x="17041" y="9525"/>
                </a:cubicBezTo>
                <a:cubicBezTo>
                  <a:pt x="17041" y="9508"/>
                  <a:pt x="17041" y="9492"/>
                  <a:pt x="17041" y="9475"/>
                </a:cubicBezTo>
              </a:path>
              <a:path w="3722" h="795">
                <a:moveTo>
                  <a:pt x="17264" y="9723"/>
                </a:moveTo>
                <a:cubicBezTo>
                  <a:pt x="17284" y="9823"/>
                  <a:pt x="17305" y="9920"/>
                  <a:pt x="17314" y="10021"/>
                </a:cubicBezTo>
              </a:path>
              <a:path w="3722" h="795">
                <a:moveTo>
                  <a:pt x="17289" y="9426"/>
                </a:moveTo>
                <a:lnTo>
                  <a:pt x="17289" y="9426"/>
                </a:lnTo>
              </a:path>
              <a:path w="3722" h="795">
                <a:moveTo>
                  <a:pt x="17661" y="9599"/>
                </a:moveTo>
                <a:cubicBezTo>
                  <a:pt x="17569" y="9599"/>
                  <a:pt x="17542" y="9597"/>
                  <a:pt x="17487" y="9624"/>
                </a:cubicBezTo>
                <a:cubicBezTo>
                  <a:pt x="17567" y="9656"/>
                  <a:pt x="17636" y="9683"/>
                  <a:pt x="17711" y="9723"/>
                </a:cubicBezTo>
                <a:cubicBezTo>
                  <a:pt x="17794" y="9767"/>
                  <a:pt x="17899" y="9846"/>
                  <a:pt x="17835" y="9947"/>
                </a:cubicBezTo>
                <a:cubicBezTo>
                  <a:pt x="17768" y="10053"/>
                  <a:pt x="17689" y="9982"/>
                  <a:pt x="17611" y="9947"/>
                </a:cubicBezTo>
              </a:path>
              <a:path w="3722" h="795">
                <a:moveTo>
                  <a:pt x="18058" y="9599"/>
                </a:moveTo>
                <a:cubicBezTo>
                  <a:pt x="18083" y="9748"/>
                  <a:pt x="18091" y="9798"/>
                  <a:pt x="18107" y="9897"/>
                </a:cubicBezTo>
              </a:path>
              <a:path w="3722" h="795">
                <a:moveTo>
                  <a:pt x="18033" y="9426"/>
                </a:moveTo>
                <a:lnTo>
                  <a:pt x="18033" y="9426"/>
                </a:lnTo>
              </a:path>
              <a:path w="3722" h="795">
                <a:moveTo>
                  <a:pt x="18529" y="9674"/>
                </a:moveTo>
                <a:cubicBezTo>
                  <a:pt x="18373" y="9674"/>
                  <a:pt x="18375" y="9696"/>
                  <a:pt x="18355" y="9847"/>
                </a:cubicBezTo>
                <a:cubicBezTo>
                  <a:pt x="18411" y="9883"/>
                  <a:pt x="18789" y="10002"/>
                  <a:pt x="18728" y="9773"/>
                </a:cubicBezTo>
                <a:cubicBezTo>
                  <a:pt x="18632" y="9678"/>
                  <a:pt x="18603" y="9648"/>
                  <a:pt x="18529" y="9599"/>
                </a:cubicBezTo>
              </a:path>
              <a:path w="3722" h="795">
                <a:moveTo>
                  <a:pt x="18926" y="9823"/>
                </a:moveTo>
                <a:cubicBezTo>
                  <a:pt x="18896" y="9837"/>
                  <a:pt x="18916" y="9598"/>
                  <a:pt x="18951" y="9525"/>
                </a:cubicBezTo>
                <a:cubicBezTo>
                  <a:pt x="19034" y="9350"/>
                  <a:pt x="19242" y="9489"/>
                  <a:pt x="19298" y="9599"/>
                </a:cubicBezTo>
                <a:cubicBezTo>
                  <a:pt x="19356" y="9712"/>
                  <a:pt x="19348" y="9805"/>
                  <a:pt x="19348" y="9922"/>
                </a:cubicBezTo>
              </a:path>
              <a:path w="3722" h="795">
                <a:moveTo>
                  <a:pt x="15801" y="9699"/>
                </a:moveTo>
                <a:cubicBezTo>
                  <a:pt x="15889" y="9699"/>
                  <a:pt x="15989" y="9698"/>
                  <a:pt x="16073" y="9723"/>
                </a:cubicBezTo>
                <a:cubicBezTo>
                  <a:pt x="16117" y="9745"/>
                  <a:pt x="16129" y="9748"/>
                  <a:pt x="16148" y="9773"/>
                </a:cubicBezTo>
              </a:path>
              <a:path w="3722" h="795">
                <a:moveTo>
                  <a:pt x="16073" y="10071"/>
                </a:moveTo>
                <a:cubicBezTo>
                  <a:pt x="16165" y="10071"/>
                  <a:pt x="16174" y="10070"/>
                  <a:pt x="16247" y="10021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59760" y="3321000"/>
            <a:ext cx="1339560" cy="393840"/>
          </a:xfrm>
          <a:custGeom>
            <a:avLst/>
            <a:gdLst/>
            <a:ahLst/>
            <a:rect l="l" t="t" r="r" b="b"/>
            <a:pathLst>
              <a:path w="3722" h="1093">
                <a:moveTo>
                  <a:pt x="20265" y="9922"/>
                </a:moveTo>
                <a:cubicBezTo>
                  <a:pt x="20315" y="10058"/>
                  <a:pt x="20366" y="10179"/>
                  <a:pt x="20389" y="10319"/>
                </a:cubicBezTo>
                <a:cubicBezTo>
                  <a:pt x="20263" y="10100"/>
                  <a:pt x="20155" y="9771"/>
                  <a:pt x="20191" y="9500"/>
                </a:cubicBezTo>
                <a:cubicBezTo>
                  <a:pt x="20208" y="9475"/>
                  <a:pt x="20224" y="9451"/>
                  <a:pt x="20241" y="9426"/>
                </a:cubicBezTo>
                <a:cubicBezTo>
                  <a:pt x="20344" y="9498"/>
                  <a:pt x="20758" y="9815"/>
                  <a:pt x="20414" y="9847"/>
                </a:cubicBezTo>
                <a:cubicBezTo>
                  <a:pt x="20274" y="9824"/>
                  <a:pt x="20231" y="9822"/>
                  <a:pt x="20166" y="9748"/>
                </a:cubicBezTo>
              </a:path>
              <a:path w="3722" h="1093">
                <a:moveTo>
                  <a:pt x="20762" y="9649"/>
                </a:moveTo>
                <a:cubicBezTo>
                  <a:pt x="20785" y="9788"/>
                  <a:pt x="20781" y="9563"/>
                  <a:pt x="20886" y="9500"/>
                </a:cubicBezTo>
                <a:cubicBezTo>
                  <a:pt x="20965" y="9452"/>
                  <a:pt x="21050" y="9492"/>
                  <a:pt x="21134" y="9500"/>
                </a:cubicBezTo>
                <a:cubicBezTo>
                  <a:pt x="21081" y="9624"/>
                  <a:pt x="20939" y="9821"/>
                  <a:pt x="21158" y="9872"/>
                </a:cubicBezTo>
                <a:cubicBezTo>
                  <a:pt x="21431" y="9935"/>
                  <a:pt x="21355" y="9703"/>
                  <a:pt x="21282" y="9575"/>
                </a:cubicBezTo>
              </a:path>
              <a:path w="3722" h="1093">
                <a:moveTo>
                  <a:pt x="21605" y="9302"/>
                </a:moveTo>
                <a:cubicBezTo>
                  <a:pt x="21654" y="9438"/>
                  <a:pt x="21673" y="9598"/>
                  <a:pt x="21729" y="9723"/>
                </a:cubicBezTo>
                <a:cubicBezTo>
                  <a:pt x="21742" y="9621"/>
                  <a:pt x="21804" y="9393"/>
                  <a:pt x="21952" y="9550"/>
                </a:cubicBezTo>
                <a:cubicBezTo>
                  <a:pt x="22017" y="9680"/>
                  <a:pt x="22048" y="9708"/>
                  <a:pt x="22002" y="9798"/>
                </a:cubicBezTo>
                <a:cubicBezTo>
                  <a:pt x="21838" y="9849"/>
                  <a:pt x="21855" y="9843"/>
                  <a:pt x="21704" y="9748"/>
                </a:cubicBezTo>
              </a:path>
              <a:path w="3722" h="1093">
                <a:moveTo>
                  <a:pt x="22225" y="9227"/>
                </a:moveTo>
                <a:cubicBezTo>
                  <a:pt x="22282" y="9423"/>
                  <a:pt x="22325" y="9634"/>
                  <a:pt x="22399" y="9823"/>
                </a:cubicBezTo>
                <a:cubicBezTo>
                  <a:pt x="22407" y="9831"/>
                  <a:pt x="22415" y="9839"/>
                  <a:pt x="22423" y="9847"/>
                </a:cubicBezTo>
              </a:path>
              <a:path w="3722" h="1093">
                <a:moveTo>
                  <a:pt x="22572" y="9699"/>
                </a:moveTo>
                <a:cubicBezTo>
                  <a:pt x="22670" y="9646"/>
                  <a:pt x="22772" y="9646"/>
                  <a:pt x="22796" y="9525"/>
                </a:cubicBezTo>
                <a:cubicBezTo>
                  <a:pt x="22796" y="9508"/>
                  <a:pt x="22796" y="9492"/>
                  <a:pt x="22796" y="9475"/>
                </a:cubicBezTo>
                <a:cubicBezTo>
                  <a:pt x="22683" y="9467"/>
                  <a:pt x="22439" y="9551"/>
                  <a:pt x="22448" y="9723"/>
                </a:cubicBezTo>
                <a:cubicBezTo>
                  <a:pt x="22457" y="9887"/>
                  <a:pt x="22705" y="9864"/>
                  <a:pt x="22796" y="9872"/>
                </a:cubicBezTo>
              </a:path>
              <a:path w="3722" h="1093">
                <a:moveTo>
                  <a:pt x="23044" y="9599"/>
                </a:moveTo>
                <a:cubicBezTo>
                  <a:pt x="23044" y="9682"/>
                  <a:pt x="23044" y="9715"/>
                  <a:pt x="23044" y="9773"/>
                </a:cubicBezTo>
                <a:cubicBezTo>
                  <a:pt x="23044" y="9600"/>
                  <a:pt x="23040" y="9518"/>
                  <a:pt x="23217" y="9451"/>
                </a:cubicBezTo>
                <a:cubicBezTo>
                  <a:pt x="23316" y="9431"/>
                  <a:pt x="23332" y="9423"/>
                  <a:pt x="23391" y="9426"/>
                </a:cubicBezTo>
                <a:cubicBezTo>
                  <a:pt x="23428" y="9535"/>
                  <a:pt x="23438" y="9657"/>
                  <a:pt x="23465" y="9773"/>
                </a:cubicBezTo>
                <a:cubicBezTo>
                  <a:pt x="23497" y="9686"/>
                  <a:pt x="23482" y="9516"/>
                  <a:pt x="23540" y="9451"/>
                </a:cubicBezTo>
                <a:cubicBezTo>
                  <a:pt x="23580" y="9406"/>
                  <a:pt x="23673" y="9357"/>
                  <a:pt x="23738" y="9376"/>
                </a:cubicBezTo>
                <a:cubicBezTo>
                  <a:pt x="23857" y="9411"/>
                  <a:pt x="23875" y="9599"/>
                  <a:pt x="23887" y="9699"/>
                </a:cubicBezTo>
                <a:cubicBezTo>
                  <a:pt x="23887" y="9765"/>
                  <a:pt x="23887" y="9782"/>
                  <a:pt x="23887" y="9823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19240" y="3894120"/>
            <a:ext cx="689040" cy="357120"/>
          </a:xfrm>
          <a:custGeom>
            <a:avLst/>
            <a:gdLst/>
            <a:ahLst/>
            <a:rect l="l" t="t" r="r" b="b"/>
            <a:pathLst>
              <a:path w="1911" h="993">
                <a:moveTo>
                  <a:pt x="8558" y="11336"/>
                </a:moveTo>
                <a:cubicBezTo>
                  <a:pt x="8463" y="11219"/>
                  <a:pt x="8438" y="11180"/>
                  <a:pt x="8334" y="11162"/>
                </a:cubicBezTo>
                <a:cubicBezTo>
                  <a:pt x="8107" y="11282"/>
                  <a:pt x="7972" y="11535"/>
                  <a:pt x="8235" y="11757"/>
                </a:cubicBezTo>
                <a:cubicBezTo>
                  <a:pt x="8495" y="11976"/>
                  <a:pt x="8519" y="11658"/>
                  <a:pt x="8483" y="11509"/>
                </a:cubicBezTo>
                <a:cubicBezTo>
                  <a:pt x="8475" y="11476"/>
                  <a:pt x="8466" y="11443"/>
                  <a:pt x="8458" y="11410"/>
                </a:cubicBezTo>
                <a:cubicBezTo>
                  <a:pt x="8480" y="11442"/>
                  <a:pt x="8700" y="11796"/>
                  <a:pt x="8756" y="11609"/>
                </a:cubicBezTo>
                <a:cubicBezTo>
                  <a:pt x="8756" y="11584"/>
                  <a:pt x="8756" y="11559"/>
                  <a:pt x="8756" y="11534"/>
                </a:cubicBezTo>
              </a:path>
              <a:path w="1911" h="993">
                <a:moveTo>
                  <a:pt x="9277" y="11435"/>
                </a:moveTo>
                <a:cubicBezTo>
                  <a:pt x="9237" y="11342"/>
                  <a:pt x="9119" y="11146"/>
                  <a:pt x="8979" y="11187"/>
                </a:cubicBezTo>
                <a:cubicBezTo>
                  <a:pt x="8765" y="11250"/>
                  <a:pt x="8811" y="11440"/>
                  <a:pt x="8830" y="11584"/>
                </a:cubicBezTo>
                <a:cubicBezTo>
                  <a:pt x="9018" y="11633"/>
                  <a:pt x="9296" y="11683"/>
                  <a:pt x="9178" y="11361"/>
                </a:cubicBezTo>
                <a:cubicBezTo>
                  <a:pt x="9088" y="11203"/>
                  <a:pt x="9065" y="11161"/>
                  <a:pt x="9004" y="11063"/>
                </a:cubicBezTo>
                <a:cubicBezTo>
                  <a:pt x="9004" y="10975"/>
                  <a:pt x="9213" y="11417"/>
                  <a:pt x="9277" y="11534"/>
                </a:cubicBezTo>
              </a:path>
              <a:path w="1911" h="993">
                <a:moveTo>
                  <a:pt x="9897" y="11361"/>
                </a:moveTo>
                <a:cubicBezTo>
                  <a:pt x="9796" y="11209"/>
                  <a:pt x="9619" y="11033"/>
                  <a:pt x="9475" y="11286"/>
                </a:cubicBezTo>
                <a:cubicBezTo>
                  <a:pt x="9336" y="11529"/>
                  <a:pt x="9462" y="11585"/>
                  <a:pt x="9624" y="11683"/>
                </a:cubicBezTo>
                <a:cubicBezTo>
                  <a:pt x="9880" y="11452"/>
                  <a:pt x="9903" y="11293"/>
                  <a:pt x="9699" y="10988"/>
                </a:cubicBezTo>
                <a:cubicBezTo>
                  <a:pt x="9666" y="10947"/>
                  <a:pt x="9632" y="10905"/>
                  <a:pt x="9599" y="10864"/>
                </a:cubicBezTo>
                <a:cubicBezTo>
                  <a:pt x="9479" y="10744"/>
                  <a:pt x="9860" y="11293"/>
                  <a:pt x="9897" y="11361"/>
                </a:cubicBezTo>
                <a:cubicBezTo>
                  <a:pt x="9969" y="11487"/>
                  <a:pt x="9963" y="11506"/>
                  <a:pt x="10021" y="11559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57760" y="3973680"/>
            <a:ext cx="384120" cy="206280"/>
          </a:xfrm>
          <a:custGeom>
            <a:avLst/>
            <a:gdLst/>
            <a:ahLst/>
            <a:rect l="l" t="t" r="r" b="b"/>
            <a:pathLst>
              <a:path w="1067" h="572">
                <a:moveTo>
                  <a:pt x="10889" y="11038"/>
                </a:moveTo>
                <a:cubicBezTo>
                  <a:pt x="10747" y="11275"/>
                  <a:pt x="10684" y="11382"/>
                  <a:pt x="10815" y="11609"/>
                </a:cubicBezTo>
                <a:cubicBezTo>
                  <a:pt x="10979" y="11564"/>
                  <a:pt x="11319" y="11434"/>
                  <a:pt x="11088" y="11187"/>
                </a:cubicBezTo>
                <a:cubicBezTo>
                  <a:pt x="11047" y="11170"/>
                  <a:pt x="11005" y="11154"/>
                  <a:pt x="10964" y="11137"/>
                </a:cubicBezTo>
              </a:path>
              <a:path w="1067" h="572">
                <a:moveTo>
                  <a:pt x="11385" y="11385"/>
                </a:moveTo>
                <a:cubicBezTo>
                  <a:pt x="11424" y="11500"/>
                  <a:pt x="11440" y="11514"/>
                  <a:pt x="11435" y="11584"/>
                </a:cubicBezTo>
                <a:cubicBezTo>
                  <a:pt x="11385" y="11336"/>
                  <a:pt x="11364" y="11244"/>
                  <a:pt x="11534" y="11063"/>
                </a:cubicBezTo>
                <a:cubicBezTo>
                  <a:pt x="11723" y="11165"/>
                  <a:pt x="11758" y="11355"/>
                  <a:pt x="11782" y="11584"/>
                </a:cubicBezTo>
                <a:cubicBezTo>
                  <a:pt x="11782" y="11592"/>
                  <a:pt x="11782" y="11601"/>
                  <a:pt x="11782" y="11609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81360" y="4037040"/>
            <a:ext cx="204840" cy="169920"/>
          </a:xfrm>
          <a:custGeom>
            <a:avLst/>
            <a:gdLst/>
            <a:ahLst/>
            <a:rect l="l" t="t" r="r" b="b"/>
            <a:pathLst>
              <a:path w="571" h="472">
                <a:moveTo>
                  <a:pt x="13022" y="11435"/>
                </a:moveTo>
                <a:cubicBezTo>
                  <a:pt x="13000" y="11281"/>
                  <a:pt x="12998" y="11284"/>
                  <a:pt x="12874" y="11212"/>
                </a:cubicBezTo>
                <a:cubicBezTo>
                  <a:pt x="12823" y="11285"/>
                  <a:pt x="12571" y="11779"/>
                  <a:pt x="12898" y="11683"/>
                </a:cubicBezTo>
                <a:cubicBezTo>
                  <a:pt x="13024" y="11646"/>
                  <a:pt x="13014" y="11506"/>
                  <a:pt x="13022" y="11410"/>
                </a:cubicBezTo>
                <a:cubicBezTo>
                  <a:pt x="13093" y="11551"/>
                  <a:pt x="13147" y="11563"/>
                  <a:pt x="13295" y="11609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62680" y="3894120"/>
            <a:ext cx="1233360" cy="330120"/>
          </a:xfrm>
          <a:custGeom>
            <a:avLst/>
            <a:gdLst/>
            <a:ahLst/>
            <a:rect l="l" t="t" r="r" b="b"/>
            <a:pathLst>
              <a:path w="3424" h="919">
                <a:moveTo>
                  <a:pt x="14064" y="11336"/>
                </a:moveTo>
                <a:cubicBezTo>
                  <a:pt x="14133" y="11468"/>
                  <a:pt x="14204" y="11598"/>
                  <a:pt x="14263" y="11733"/>
                </a:cubicBezTo>
                <a:cubicBezTo>
                  <a:pt x="14229" y="11614"/>
                  <a:pt x="14236" y="11554"/>
                  <a:pt x="14213" y="11435"/>
                </a:cubicBezTo>
                <a:cubicBezTo>
                  <a:pt x="14205" y="11392"/>
                  <a:pt x="14172" y="11355"/>
                  <a:pt x="14163" y="11311"/>
                </a:cubicBezTo>
              </a:path>
              <a:path w="3424" h="919">
                <a:moveTo>
                  <a:pt x="14362" y="11212"/>
                </a:moveTo>
                <a:cubicBezTo>
                  <a:pt x="14379" y="11228"/>
                  <a:pt x="14395" y="11245"/>
                  <a:pt x="14412" y="11261"/>
                </a:cubicBezTo>
                <a:cubicBezTo>
                  <a:pt x="14492" y="11372"/>
                  <a:pt x="14387" y="11147"/>
                  <a:pt x="14312" y="11137"/>
                </a:cubicBezTo>
                <a:cubicBezTo>
                  <a:pt x="14083" y="11108"/>
                  <a:pt x="14076" y="11542"/>
                  <a:pt x="14188" y="11658"/>
                </a:cubicBezTo>
                <a:cubicBezTo>
                  <a:pt x="14401" y="11878"/>
                  <a:pt x="14534" y="11535"/>
                  <a:pt x="14536" y="11385"/>
                </a:cubicBezTo>
                <a:cubicBezTo>
                  <a:pt x="14539" y="11175"/>
                  <a:pt x="14447" y="11000"/>
                  <a:pt x="14362" y="10815"/>
                </a:cubicBezTo>
                <a:cubicBezTo>
                  <a:pt x="14387" y="10986"/>
                  <a:pt x="14437" y="11218"/>
                  <a:pt x="14511" y="11385"/>
                </a:cubicBezTo>
                <a:cubicBezTo>
                  <a:pt x="14566" y="11509"/>
                  <a:pt x="14758" y="11770"/>
                  <a:pt x="14908" y="11584"/>
                </a:cubicBezTo>
                <a:cubicBezTo>
                  <a:pt x="15017" y="11449"/>
                  <a:pt x="14998" y="11315"/>
                  <a:pt x="14982" y="11162"/>
                </a:cubicBezTo>
                <a:cubicBezTo>
                  <a:pt x="14780" y="11117"/>
                  <a:pt x="14815" y="11343"/>
                  <a:pt x="14883" y="11485"/>
                </a:cubicBezTo>
                <a:cubicBezTo>
                  <a:pt x="14916" y="11526"/>
                  <a:pt x="14949" y="11568"/>
                  <a:pt x="14982" y="11609"/>
                </a:cubicBezTo>
              </a:path>
              <a:path w="3424" h="919">
                <a:moveTo>
                  <a:pt x="15429" y="11112"/>
                </a:moveTo>
                <a:cubicBezTo>
                  <a:pt x="15471" y="11154"/>
                  <a:pt x="15508" y="11187"/>
                  <a:pt x="15528" y="11237"/>
                </a:cubicBezTo>
                <a:cubicBezTo>
                  <a:pt x="15474" y="11118"/>
                  <a:pt x="15398" y="11021"/>
                  <a:pt x="15329" y="11237"/>
                </a:cubicBezTo>
                <a:cubicBezTo>
                  <a:pt x="15252" y="11475"/>
                  <a:pt x="15467" y="11704"/>
                  <a:pt x="15701" y="11534"/>
                </a:cubicBezTo>
                <a:cubicBezTo>
                  <a:pt x="15813" y="11452"/>
                  <a:pt x="15794" y="11279"/>
                  <a:pt x="15801" y="11162"/>
                </a:cubicBezTo>
                <a:cubicBezTo>
                  <a:pt x="15824" y="11354"/>
                  <a:pt x="15830" y="11414"/>
                  <a:pt x="15875" y="11534"/>
                </a:cubicBezTo>
              </a:path>
              <a:path w="3424" h="919">
                <a:moveTo>
                  <a:pt x="15652" y="10914"/>
                </a:moveTo>
                <a:lnTo>
                  <a:pt x="15652" y="10914"/>
                </a:lnTo>
              </a:path>
              <a:path w="3424" h="919">
                <a:moveTo>
                  <a:pt x="16173" y="11261"/>
                </a:moveTo>
                <a:cubicBezTo>
                  <a:pt x="16173" y="11419"/>
                  <a:pt x="16170" y="11461"/>
                  <a:pt x="16197" y="11559"/>
                </a:cubicBezTo>
                <a:cubicBezTo>
                  <a:pt x="16249" y="11611"/>
                  <a:pt x="16161" y="11320"/>
                  <a:pt x="16197" y="11187"/>
                </a:cubicBezTo>
                <a:cubicBezTo>
                  <a:pt x="16279" y="10879"/>
                  <a:pt x="16456" y="11378"/>
                  <a:pt x="16495" y="11460"/>
                </a:cubicBezTo>
                <a:cubicBezTo>
                  <a:pt x="16503" y="11485"/>
                  <a:pt x="16512" y="11509"/>
                  <a:pt x="16520" y="11534"/>
                </a:cubicBezTo>
                <a:cubicBezTo>
                  <a:pt x="16460" y="11346"/>
                  <a:pt x="16449" y="11251"/>
                  <a:pt x="16570" y="11088"/>
                </a:cubicBezTo>
                <a:cubicBezTo>
                  <a:pt x="16720" y="11228"/>
                  <a:pt x="16753" y="11344"/>
                  <a:pt x="16768" y="11559"/>
                </a:cubicBezTo>
              </a:path>
              <a:path w="3424" h="919">
                <a:moveTo>
                  <a:pt x="17214" y="11187"/>
                </a:moveTo>
                <a:cubicBezTo>
                  <a:pt x="17124" y="11048"/>
                  <a:pt x="16956" y="11215"/>
                  <a:pt x="16917" y="11336"/>
                </a:cubicBezTo>
                <a:cubicBezTo>
                  <a:pt x="16844" y="11564"/>
                  <a:pt x="16962" y="11595"/>
                  <a:pt x="17115" y="11633"/>
                </a:cubicBezTo>
                <a:cubicBezTo>
                  <a:pt x="17216" y="11193"/>
                  <a:pt x="17028" y="11493"/>
                  <a:pt x="17289" y="11559"/>
                </a:cubicBezTo>
                <a:cubicBezTo>
                  <a:pt x="17614" y="11642"/>
                  <a:pt x="17401" y="11102"/>
                  <a:pt x="17363" y="11013"/>
                </a:cubicBezTo>
                <a:cubicBezTo>
                  <a:pt x="17338" y="10963"/>
                  <a:pt x="17314" y="10914"/>
                  <a:pt x="17289" y="10864"/>
                </a:cubicBezTo>
                <a:cubicBezTo>
                  <a:pt x="17364" y="11106"/>
                  <a:pt x="17418" y="11362"/>
                  <a:pt x="17487" y="11609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73880" y="3875040"/>
            <a:ext cx="393480" cy="339840"/>
          </a:xfrm>
          <a:custGeom>
            <a:avLst/>
            <a:gdLst/>
            <a:ahLst/>
            <a:rect l="l" t="t" r="r" b="b"/>
            <a:pathLst>
              <a:path w="1093" h="944">
                <a:moveTo>
                  <a:pt x="18207" y="10765"/>
                </a:moveTo>
                <a:cubicBezTo>
                  <a:pt x="18031" y="10927"/>
                  <a:pt x="17890" y="11275"/>
                  <a:pt x="18033" y="11534"/>
                </a:cubicBezTo>
                <a:cubicBezTo>
                  <a:pt x="18116" y="11685"/>
                  <a:pt x="18367" y="11772"/>
                  <a:pt x="18479" y="11658"/>
                </a:cubicBezTo>
              </a:path>
              <a:path w="1093" h="944">
                <a:moveTo>
                  <a:pt x="18504" y="11336"/>
                </a:moveTo>
                <a:cubicBezTo>
                  <a:pt x="18528" y="11477"/>
                  <a:pt x="18534" y="11519"/>
                  <a:pt x="18554" y="11609"/>
                </a:cubicBezTo>
              </a:path>
              <a:path w="1093" h="944">
                <a:moveTo>
                  <a:pt x="18479" y="11038"/>
                </a:moveTo>
                <a:lnTo>
                  <a:pt x="18479" y="11038"/>
                </a:lnTo>
              </a:path>
              <a:path w="1093" h="944">
                <a:moveTo>
                  <a:pt x="19025" y="10840"/>
                </a:moveTo>
                <a:cubicBezTo>
                  <a:pt x="18841" y="10809"/>
                  <a:pt x="18789" y="10916"/>
                  <a:pt x="18852" y="11112"/>
                </a:cubicBezTo>
                <a:cubicBezTo>
                  <a:pt x="18902" y="11265"/>
                  <a:pt x="18981" y="11401"/>
                  <a:pt x="19025" y="11559"/>
                </a:cubicBezTo>
              </a:path>
              <a:path w="1093" h="944">
                <a:moveTo>
                  <a:pt x="18678" y="11187"/>
                </a:moveTo>
                <a:cubicBezTo>
                  <a:pt x="18876" y="11187"/>
                  <a:pt x="18943" y="11187"/>
                  <a:pt x="19075" y="11187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81920" y="3741840"/>
            <a:ext cx="1625400" cy="517320"/>
          </a:xfrm>
          <a:custGeom>
            <a:avLst/>
            <a:gdLst/>
            <a:ahLst/>
            <a:rect l="l" t="t" r="r" b="b"/>
            <a:pathLst>
              <a:path w="4516" h="1440">
                <a:moveTo>
                  <a:pt x="19670" y="11212"/>
                </a:moveTo>
                <a:cubicBezTo>
                  <a:pt x="19735" y="11383"/>
                  <a:pt x="19755" y="11421"/>
                  <a:pt x="19769" y="11534"/>
                </a:cubicBezTo>
                <a:cubicBezTo>
                  <a:pt x="19683" y="11405"/>
                  <a:pt x="19588" y="11185"/>
                  <a:pt x="19794" y="11088"/>
                </a:cubicBezTo>
                <a:cubicBezTo>
                  <a:pt x="20043" y="10970"/>
                  <a:pt x="20080" y="11428"/>
                  <a:pt x="20092" y="11559"/>
                </a:cubicBezTo>
              </a:path>
              <a:path w="4516" h="1440">
                <a:moveTo>
                  <a:pt x="20315" y="11162"/>
                </a:moveTo>
                <a:cubicBezTo>
                  <a:pt x="20393" y="11110"/>
                  <a:pt x="20418" y="11089"/>
                  <a:pt x="20414" y="11013"/>
                </a:cubicBezTo>
                <a:cubicBezTo>
                  <a:pt x="20236" y="10977"/>
                  <a:pt x="20133" y="11148"/>
                  <a:pt x="20166" y="11336"/>
                </a:cubicBezTo>
                <a:cubicBezTo>
                  <a:pt x="20191" y="11377"/>
                  <a:pt x="20216" y="11419"/>
                  <a:pt x="20241" y="11460"/>
                </a:cubicBezTo>
              </a:path>
              <a:path w="4516" h="1440">
                <a:moveTo>
                  <a:pt x="20861" y="11112"/>
                </a:moveTo>
                <a:cubicBezTo>
                  <a:pt x="20861" y="11056"/>
                  <a:pt x="20856" y="11034"/>
                  <a:pt x="20811" y="11013"/>
                </a:cubicBezTo>
                <a:cubicBezTo>
                  <a:pt x="20660" y="11076"/>
                  <a:pt x="20510" y="11304"/>
                  <a:pt x="20712" y="11460"/>
                </a:cubicBezTo>
                <a:cubicBezTo>
                  <a:pt x="20881" y="11508"/>
                  <a:pt x="20935" y="11526"/>
                  <a:pt x="21034" y="11435"/>
                </a:cubicBezTo>
              </a:path>
              <a:path w="4516" h="1440">
                <a:moveTo>
                  <a:pt x="21183" y="11212"/>
                </a:moveTo>
                <a:cubicBezTo>
                  <a:pt x="21234" y="11161"/>
                  <a:pt x="21250" y="11143"/>
                  <a:pt x="21233" y="11088"/>
                </a:cubicBezTo>
                <a:cubicBezTo>
                  <a:pt x="21118" y="10971"/>
                  <a:pt x="21012" y="11074"/>
                  <a:pt x="21034" y="11237"/>
                </a:cubicBezTo>
                <a:cubicBezTo>
                  <a:pt x="21065" y="11467"/>
                  <a:pt x="21206" y="11405"/>
                  <a:pt x="21357" y="11385"/>
                </a:cubicBezTo>
              </a:path>
              <a:path w="4516" h="1440">
                <a:moveTo>
                  <a:pt x="21679" y="11038"/>
                </a:moveTo>
                <a:cubicBezTo>
                  <a:pt x="21581" y="11013"/>
                  <a:pt x="21554" y="11013"/>
                  <a:pt x="21456" y="11038"/>
                </a:cubicBezTo>
                <a:cubicBezTo>
                  <a:pt x="21542" y="11087"/>
                  <a:pt x="21812" y="11147"/>
                  <a:pt x="21779" y="11286"/>
                </a:cubicBezTo>
                <a:cubicBezTo>
                  <a:pt x="21708" y="11379"/>
                  <a:pt x="21691" y="11410"/>
                  <a:pt x="21605" y="11410"/>
                </a:cubicBezTo>
              </a:path>
              <a:path w="4516" h="1440">
                <a:moveTo>
                  <a:pt x="22101" y="10988"/>
                </a:moveTo>
                <a:cubicBezTo>
                  <a:pt x="22026" y="10974"/>
                  <a:pt x="21999" y="10972"/>
                  <a:pt x="21927" y="11013"/>
                </a:cubicBezTo>
                <a:cubicBezTo>
                  <a:pt x="21951" y="11106"/>
                  <a:pt x="22089" y="11130"/>
                  <a:pt x="22200" y="11212"/>
                </a:cubicBezTo>
                <a:cubicBezTo>
                  <a:pt x="22133" y="11327"/>
                  <a:pt x="22104" y="11338"/>
                  <a:pt x="21977" y="11385"/>
                </a:cubicBezTo>
              </a:path>
              <a:path w="4516" h="1440">
                <a:moveTo>
                  <a:pt x="22746" y="11137"/>
                </a:moveTo>
                <a:cubicBezTo>
                  <a:pt x="22700" y="11038"/>
                  <a:pt x="22640" y="10929"/>
                  <a:pt x="22523" y="11038"/>
                </a:cubicBezTo>
                <a:cubicBezTo>
                  <a:pt x="22444" y="11112"/>
                  <a:pt x="22295" y="11495"/>
                  <a:pt x="22572" y="11410"/>
                </a:cubicBezTo>
                <a:cubicBezTo>
                  <a:pt x="22689" y="11316"/>
                  <a:pt x="22728" y="11291"/>
                  <a:pt x="22746" y="11187"/>
                </a:cubicBezTo>
                <a:cubicBezTo>
                  <a:pt x="22792" y="11271"/>
                  <a:pt x="22936" y="11532"/>
                  <a:pt x="23044" y="11311"/>
                </a:cubicBezTo>
                <a:cubicBezTo>
                  <a:pt x="23083" y="11232"/>
                  <a:pt x="23065" y="11265"/>
                  <a:pt x="22994" y="11212"/>
                </a:cubicBezTo>
                <a:cubicBezTo>
                  <a:pt x="22994" y="11195"/>
                  <a:pt x="22994" y="11179"/>
                  <a:pt x="22994" y="11162"/>
                </a:cubicBezTo>
                <a:cubicBezTo>
                  <a:pt x="23031" y="10996"/>
                  <a:pt x="23031" y="10976"/>
                  <a:pt x="23168" y="10889"/>
                </a:cubicBezTo>
              </a:path>
              <a:path w="4516" h="1440">
                <a:moveTo>
                  <a:pt x="23440" y="10914"/>
                </a:moveTo>
                <a:cubicBezTo>
                  <a:pt x="23411" y="10997"/>
                  <a:pt x="23331" y="11193"/>
                  <a:pt x="23490" y="11187"/>
                </a:cubicBezTo>
                <a:cubicBezTo>
                  <a:pt x="23640" y="11181"/>
                  <a:pt x="23662" y="11097"/>
                  <a:pt x="23713" y="10988"/>
                </a:cubicBezTo>
                <a:cubicBezTo>
                  <a:pt x="23713" y="10963"/>
                  <a:pt x="23713" y="10939"/>
                  <a:pt x="23713" y="10914"/>
                </a:cubicBezTo>
                <a:cubicBezTo>
                  <a:pt x="23789" y="11132"/>
                  <a:pt x="23924" y="11426"/>
                  <a:pt x="23837" y="11658"/>
                </a:cubicBezTo>
                <a:cubicBezTo>
                  <a:pt x="23749" y="11894"/>
                  <a:pt x="23539" y="11805"/>
                  <a:pt x="23366" y="11782"/>
                </a:cubicBezTo>
              </a:path>
              <a:path w="4516" h="1440">
                <a:moveTo>
                  <a:pt x="23912" y="10393"/>
                </a:moveTo>
                <a:cubicBezTo>
                  <a:pt x="24078" y="10708"/>
                  <a:pt x="24280" y="11066"/>
                  <a:pt x="24135" y="11435"/>
                </a:cubicBezTo>
                <a:cubicBezTo>
                  <a:pt x="24094" y="11485"/>
                  <a:pt x="24052" y="11534"/>
                  <a:pt x="24011" y="11584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9080" y="4276800"/>
            <a:ext cx="625680" cy="250920"/>
          </a:xfrm>
          <a:custGeom>
            <a:avLst/>
            <a:gdLst/>
            <a:ahLst/>
            <a:rect l="l" t="t" r="r" b="b"/>
            <a:pathLst>
              <a:path w="1737" h="696">
                <a:moveTo>
                  <a:pt x="9376" y="12278"/>
                </a:moveTo>
                <a:cubicBezTo>
                  <a:pt x="9341" y="12184"/>
                  <a:pt x="9219" y="12083"/>
                  <a:pt x="9128" y="12229"/>
                </a:cubicBezTo>
                <a:cubicBezTo>
                  <a:pt x="9060" y="12410"/>
                  <a:pt x="9030" y="12459"/>
                  <a:pt x="9103" y="12576"/>
                </a:cubicBezTo>
                <a:cubicBezTo>
                  <a:pt x="9320" y="12542"/>
                  <a:pt x="9350" y="12501"/>
                  <a:pt x="9376" y="12278"/>
                </a:cubicBezTo>
                <a:cubicBezTo>
                  <a:pt x="9384" y="12326"/>
                  <a:pt x="9493" y="12709"/>
                  <a:pt x="9599" y="12502"/>
                </a:cubicBezTo>
                <a:cubicBezTo>
                  <a:pt x="9714" y="12277"/>
                  <a:pt x="9612" y="12215"/>
                  <a:pt x="9723" y="12502"/>
                </a:cubicBezTo>
                <a:cubicBezTo>
                  <a:pt x="9731" y="12518"/>
                  <a:pt x="9740" y="12535"/>
                  <a:pt x="9748" y="12551"/>
                </a:cubicBezTo>
                <a:cubicBezTo>
                  <a:pt x="9715" y="12386"/>
                  <a:pt x="9732" y="12356"/>
                  <a:pt x="9798" y="12204"/>
                </a:cubicBezTo>
                <a:cubicBezTo>
                  <a:pt x="10014" y="12273"/>
                  <a:pt x="10106" y="12320"/>
                  <a:pt x="10220" y="12526"/>
                </a:cubicBezTo>
              </a:path>
              <a:path w="1737" h="696">
                <a:moveTo>
                  <a:pt x="10666" y="12254"/>
                </a:moveTo>
                <a:cubicBezTo>
                  <a:pt x="10549" y="12102"/>
                  <a:pt x="10363" y="12055"/>
                  <a:pt x="10294" y="12328"/>
                </a:cubicBezTo>
                <a:cubicBezTo>
                  <a:pt x="10302" y="12369"/>
                  <a:pt x="10311" y="12411"/>
                  <a:pt x="10319" y="12452"/>
                </a:cubicBezTo>
                <a:cubicBezTo>
                  <a:pt x="10611" y="12501"/>
                  <a:pt x="10768" y="12436"/>
                  <a:pt x="10691" y="12080"/>
                </a:cubicBezTo>
                <a:cubicBezTo>
                  <a:pt x="10633" y="11964"/>
                  <a:pt x="10624" y="11948"/>
                  <a:pt x="10592" y="11881"/>
                </a:cubicBezTo>
                <a:cubicBezTo>
                  <a:pt x="10666" y="12031"/>
                  <a:pt x="10728" y="12174"/>
                  <a:pt x="10790" y="12328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81320" y="4340160"/>
            <a:ext cx="892440" cy="187560"/>
          </a:xfrm>
          <a:custGeom>
            <a:avLst/>
            <a:gdLst/>
            <a:ahLst/>
            <a:rect l="l" t="t" r="r" b="b"/>
            <a:pathLst>
              <a:path w="2481" h="522">
                <a:moveTo>
                  <a:pt x="11336" y="12154"/>
                </a:moveTo>
                <a:cubicBezTo>
                  <a:pt x="11462" y="12122"/>
                  <a:pt x="11578" y="12111"/>
                  <a:pt x="11708" y="12105"/>
                </a:cubicBezTo>
                <a:cubicBezTo>
                  <a:pt x="11723" y="12298"/>
                  <a:pt x="11603" y="12308"/>
                  <a:pt x="11485" y="12452"/>
                </a:cubicBezTo>
                <a:cubicBezTo>
                  <a:pt x="11477" y="12469"/>
                  <a:pt x="11468" y="12485"/>
                  <a:pt x="11460" y="12502"/>
                </a:cubicBezTo>
                <a:cubicBezTo>
                  <a:pt x="11599" y="12543"/>
                  <a:pt x="11694" y="12493"/>
                  <a:pt x="11832" y="12452"/>
                </a:cubicBezTo>
              </a:path>
              <a:path w="2481" h="522">
                <a:moveTo>
                  <a:pt x="12005" y="12254"/>
                </a:moveTo>
                <a:cubicBezTo>
                  <a:pt x="12114" y="12248"/>
                  <a:pt x="12144" y="12260"/>
                  <a:pt x="12229" y="12204"/>
                </a:cubicBezTo>
                <a:cubicBezTo>
                  <a:pt x="12212" y="12100"/>
                  <a:pt x="12039" y="12106"/>
                  <a:pt x="11956" y="12179"/>
                </a:cubicBezTo>
                <a:cubicBezTo>
                  <a:pt x="11658" y="12441"/>
                  <a:pt x="12057" y="12634"/>
                  <a:pt x="12303" y="12551"/>
                </a:cubicBezTo>
                <a:cubicBezTo>
                  <a:pt x="12446" y="12502"/>
                  <a:pt x="12380" y="12085"/>
                  <a:pt x="12427" y="12229"/>
                </a:cubicBezTo>
                <a:cubicBezTo>
                  <a:pt x="12480" y="12352"/>
                  <a:pt x="12505" y="12355"/>
                  <a:pt x="12502" y="12427"/>
                </a:cubicBezTo>
                <a:cubicBezTo>
                  <a:pt x="12464" y="12250"/>
                  <a:pt x="12493" y="12116"/>
                  <a:pt x="12700" y="12055"/>
                </a:cubicBezTo>
                <a:cubicBezTo>
                  <a:pt x="12741" y="12055"/>
                  <a:pt x="12783" y="12055"/>
                  <a:pt x="12824" y="12055"/>
                </a:cubicBezTo>
              </a:path>
              <a:path w="2481" h="522">
                <a:moveTo>
                  <a:pt x="13097" y="12105"/>
                </a:moveTo>
                <a:cubicBezTo>
                  <a:pt x="12958" y="12237"/>
                  <a:pt x="12909" y="12297"/>
                  <a:pt x="12849" y="12477"/>
                </a:cubicBezTo>
                <a:cubicBezTo>
                  <a:pt x="12986" y="12492"/>
                  <a:pt x="13311" y="12523"/>
                  <a:pt x="13271" y="12278"/>
                </a:cubicBezTo>
                <a:cubicBezTo>
                  <a:pt x="13200" y="12160"/>
                  <a:pt x="13180" y="12123"/>
                  <a:pt x="13097" y="12080"/>
                </a:cubicBezTo>
              </a:path>
              <a:path w="2481" h="522">
                <a:moveTo>
                  <a:pt x="13618" y="12154"/>
                </a:moveTo>
                <a:cubicBezTo>
                  <a:pt x="13507" y="12199"/>
                  <a:pt x="13478" y="12207"/>
                  <a:pt x="13419" y="12254"/>
                </a:cubicBezTo>
                <a:cubicBezTo>
                  <a:pt x="13543" y="12280"/>
                  <a:pt x="13657" y="12259"/>
                  <a:pt x="13791" y="12303"/>
                </a:cubicBezTo>
                <a:cubicBezTo>
                  <a:pt x="13759" y="12561"/>
                  <a:pt x="13621" y="12527"/>
                  <a:pt x="13395" y="12452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22960" y="4330800"/>
            <a:ext cx="803160" cy="206280"/>
          </a:xfrm>
          <a:custGeom>
            <a:avLst/>
            <a:gdLst/>
            <a:ahLst/>
            <a:rect l="l" t="t" r="r" b="b"/>
            <a:pathLst>
              <a:path w="2233" h="572">
                <a:moveTo>
                  <a:pt x="14784" y="12229"/>
                </a:moveTo>
                <a:cubicBezTo>
                  <a:pt x="14838" y="12247"/>
                  <a:pt x="14833" y="12197"/>
                  <a:pt x="14833" y="12254"/>
                </a:cubicBezTo>
                <a:cubicBezTo>
                  <a:pt x="14833" y="12376"/>
                  <a:pt x="14846" y="12440"/>
                  <a:pt x="14883" y="12551"/>
                </a:cubicBezTo>
                <a:cubicBezTo>
                  <a:pt x="15132" y="12567"/>
                  <a:pt x="15041" y="12461"/>
                  <a:pt x="15180" y="12328"/>
                </a:cubicBezTo>
                <a:cubicBezTo>
                  <a:pt x="15172" y="12353"/>
                  <a:pt x="15164" y="12377"/>
                  <a:pt x="15156" y="12402"/>
                </a:cubicBezTo>
                <a:cubicBezTo>
                  <a:pt x="15289" y="12574"/>
                  <a:pt x="15287" y="12573"/>
                  <a:pt x="15503" y="12601"/>
                </a:cubicBezTo>
                <a:cubicBezTo>
                  <a:pt x="15556" y="12411"/>
                  <a:pt x="15545" y="12414"/>
                  <a:pt x="15429" y="12254"/>
                </a:cubicBezTo>
              </a:path>
              <a:path w="2233" h="572">
                <a:moveTo>
                  <a:pt x="15627" y="12030"/>
                </a:moveTo>
                <a:cubicBezTo>
                  <a:pt x="15665" y="12242"/>
                  <a:pt x="15713" y="12404"/>
                  <a:pt x="15801" y="12601"/>
                </a:cubicBezTo>
                <a:cubicBezTo>
                  <a:pt x="15737" y="12425"/>
                  <a:pt x="15751" y="12353"/>
                  <a:pt x="15850" y="12204"/>
                </a:cubicBezTo>
                <a:cubicBezTo>
                  <a:pt x="15949" y="12330"/>
                  <a:pt x="16029" y="12444"/>
                  <a:pt x="16073" y="12601"/>
                </a:cubicBezTo>
              </a:path>
              <a:path w="2233" h="572">
                <a:moveTo>
                  <a:pt x="16148" y="12303"/>
                </a:moveTo>
                <a:cubicBezTo>
                  <a:pt x="16253" y="12275"/>
                  <a:pt x="16498" y="12222"/>
                  <a:pt x="16297" y="12154"/>
                </a:cubicBezTo>
                <a:cubicBezTo>
                  <a:pt x="16189" y="12247"/>
                  <a:pt x="16021" y="12489"/>
                  <a:pt x="16272" y="12576"/>
                </a:cubicBezTo>
                <a:cubicBezTo>
                  <a:pt x="16485" y="12650"/>
                  <a:pt x="16511" y="12438"/>
                  <a:pt x="16570" y="12303"/>
                </a:cubicBezTo>
                <a:cubicBezTo>
                  <a:pt x="16587" y="12411"/>
                  <a:pt x="16595" y="12418"/>
                  <a:pt x="16594" y="12477"/>
                </a:cubicBezTo>
                <a:cubicBezTo>
                  <a:pt x="16586" y="12363"/>
                  <a:pt x="16510" y="12113"/>
                  <a:pt x="16718" y="12129"/>
                </a:cubicBezTo>
                <a:cubicBezTo>
                  <a:pt x="16920" y="12145"/>
                  <a:pt x="16989" y="12366"/>
                  <a:pt x="17016" y="1252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84960" y="4259160"/>
            <a:ext cx="1231920" cy="527040"/>
          </a:xfrm>
          <a:custGeom>
            <a:avLst/>
            <a:gdLst/>
            <a:ahLst/>
            <a:rect l="l" t="t" r="r" b="b"/>
            <a:pathLst>
              <a:path w="3424" h="1464">
                <a:moveTo>
                  <a:pt x="18207" y="12378"/>
                </a:moveTo>
                <a:cubicBezTo>
                  <a:pt x="18072" y="12285"/>
                  <a:pt x="17899" y="12145"/>
                  <a:pt x="17760" y="12353"/>
                </a:cubicBezTo>
                <a:cubicBezTo>
                  <a:pt x="17528" y="12700"/>
                  <a:pt x="18040" y="12597"/>
                  <a:pt x="18157" y="12551"/>
                </a:cubicBezTo>
              </a:path>
              <a:path w="3424" h="1464">
                <a:moveTo>
                  <a:pt x="18008" y="11906"/>
                </a:moveTo>
                <a:cubicBezTo>
                  <a:pt x="18075" y="12119"/>
                  <a:pt x="18106" y="12344"/>
                  <a:pt x="18182" y="12551"/>
                </a:cubicBezTo>
              </a:path>
              <a:path w="3424" h="1464">
                <a:moveTo>
                  <a:pt x="18430" y="12328"/>
                </a:moveTo>
                <a:cubicBezTo>
                  <a:pt x="18455" y="12454"/>
                  <a:pt x="18465" y="12498"/>
                  <a:pt x="18504" y="12576"/>
                </a:cubicBezTo>
              </a:path>
              <a:path w="3424" h="1464">
                <a:moveTo>
                  <a:pt x="18430" y="12080"/>
                </a:moveTo>
                <a:lnTo>
                  <a:pt x="18430" y="12080"/>
                </a:lnTo>
              </a:path>
              <a:path w="3424" h="1464">
                <a:moveTo>
                  <a:pt x="18653" y="12204"/>
                </a:moveTo>
                <a:cubicBezTo>
                  <a:pt x="18729" y="12340"/>
                  <a:pt x="18793" y="12492"/>
                  <a:pt x="18926" y="12551"/>
                </a:cubicBezTo>
                <a:cubicBezTo>
                  <a:pt x="18988" y="12417"/>
                  <a:pt x="19000" y="12325"/>
                  <a:pt x="19000" y="12179"/>
                </a:cubicBezTo>
              </a:path>
              <a:path w="3424" h="1464">
                <a:moveTo>
                  <a:pt x="19248" y="12353"/>
                </a:moveTo>
                <a:cubicBezTo>
                  <a:pt x="19248" y="12438"/>
                  <a:pt x="19242" y="12458"/>
                  <a:pt x="19273" y="12502"/>
                </a:cubicBezTo>
              </a:path>
              <a:path w="3424" h="1464">
                <a:moveTo>
                  <a:pt x="19248" y="11981"/>
                </a:moveTo>
                <a:lnTo>
                  <a:pt x="19248" y="11981"/>
                </a:lnTo>
              </a:path>
              <a:path w="3424" h="1464">
                <a:moveTo>
                  <a:pt x="19695" y="12254"/>
                </a:moveTo>
                <a:cubicBezTo>
                  <a:pt x="19715" y="12117"/>
                  <a:pt x="19521" y="12176"/>
                  <a:pt x="19472" y="12278"/>
                </a:cubicBezTo>
                <a:cubicBezTo>
                  <a:pt x="19449" y="12414"/>
                  <a:pt x="19435" y="12451"/>
                  <a:pt x="19496" y="12526"/>
                </a:cubicBezTo>
                <a:cubicBezTo>
                  <a:pt x="19739" y="12478"/>
                  <a:pt x="19836" y="12359"/>
                  <a:pt x="19794" y="12080"/>
                </a:cubicBezTo>
                <a:cubicBezTo>
                  <a:pt x="19779" y="11977"/>
                  <a:pt x="19709" y="11906"/>
                  <a:pt x="19645" y="11832"/>
                </a:cubicBezTo>
                <a:cubicBezTo>
                  <a:pt x="19735" y="12021"/>
                  <a:pt x="19727" y="12292"/>
                  <a:pt x="19844" y="12452"/>
                </a:cubicBezTo>
                <a:cubicBezTo>
                  <a:pt x="19903" y="12482"/>
                  <a:pt x="19926" y="12481"/>
                  <a:pt x="19943" y="12402"/>
                </a:cubicBezTo>
              </a:path>
              <a:path w="3424" h="1464">
                <a:moveTo>
                  <a:pt x="20092" y="12154"/>
                </a:moveTo>
                <a:cubicBezTo>
                  <a:pt x="20070" y="12283"/>
                  <a:pt x="20070" y="12373"/>
                  <a:pt x="20092" y="12502"/>
                </a:cubicBezTo>
              </a:path>
              <a:path w="3424" h="1464">
                <a:moveTo>
                  <a:pt x="20067" y="12030"/>
                </a:moveTo>
                <a:lnTo>
                  <a:pt x="20067" y="12030"/>
                </a:lnTo>
              </a:path>
              <a:path w="3424" h="1464">
                <a:moveTo>
                  <a:pt x="20340" y="12278"/>
                </a:moveTo>
                <a:cubicBezTo>
                  <a:pt x="20380" y="12378"/>
                  <a:pt x="20384" y="12396"/>
                  <a:pt x="20414" y="12452"/>
                </a:cubicBezTo>
                <a:cubicBezTo>
                  <a:pt x="20397" y="12348"/>
                  <a:pt x="20328" y="12172"/>
                  <a:pt x="20464" y="12129"/>
                </a:cubicBezTo>
                <a:cubicBezTo>
                  <a:pt x="20644" y="12073"/>
                  <a:pt x="20699" y="12332"/>
                  <a:pt x="20737" y="12477"/>
                </a:cubicBezTo>
                <a:cubicBezTo>
                  <a:pt x="20737" y="12485"/>
                  <a:pt x="20737" y="12494"/>
                  <a:pt x="20737" y="12502"/>
                </a:cubicBezTo>
              </a:path>
              <a:path w="3424" h="1464">
                <a:moveTo>
                  <a:pt x="21084" y="12179"/>
                </a:moveTo>
                <a:cubicBezTo>
                  <a:pt x="20939" y="12215"/>
                  <a:pt x="20879" y="12239"/>
                  <a:pt x="20861" y="12402"/>
                </a:cubicBezTo>
                <a:cubicBezTo>
                  <a:pt x="20970" y="12420"/>
                  <a:pt x="21022" y="12425"/>
                  <a:pt x="21059" y="12303"/>
                </a:cubicBezTo>
                <a:cubicBezTo>
                  <a:pt x="21059" y="12295"/>
                  <a:pt x="21059" y="12286"/>
                  <a:pt x="21059" y="12278"/>
                </a:cubicBezTo>
                <a:cubicBezTo>
                  <a:pt x="21182" y="12474"/>
                  <a:pt x="21175" y="12722"/>
                  <a:pt x="21134" y="12948"/>
                </a:cubicBezTo>
                <a:cubicBezTo>
                  <a:pt x="21101" y="13126"/>
                  <a:pt x="20975" y="13454"/>
                  <a:pt x="20762" y="13221"/>
                </a:cubicBezTo>
                <a:cubicBezTo>
                  <a:pt x="20737" y="13180"/>
                  <a:pt x="20712" y="13138"/>
                  <a:pt x="20687" y="13097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39920" y="6848640"/>
            <a:ext cx="223920" cy="1440"/>
          </a:xfrm>
          <a:custGeom>
            <a:avLst/>
            <a:gdLst/>
            <a:ahLst/>
            <a:rect l="l" t="t" r="r" b="b"/>
            <a:pathLst>
              <a:path w="621" h="1">
                <a:moveTo>
                  <a:pt x="4341" y="19025"/>
                </a:moveTo>
                <a:cubicBezTo>
                  <a:pt x="4134" y="19025"/>
                  <a:pt x="3928" y="19025"/>
                  <a:pt x="3721" y="19025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23120" y="1116000"/>
            <a:ext cx="1616040" cy="2278080"/>
          </a:xfrm>
          <a:custGeom>
            <a:avLst/>
            <a:gdLst/>
            <a:ahLst/>
            <a:rect l="l" t="t" r="r" b="b"/>
            <a:pathLst>
              <a:path w="4490" h="6326">
                <a:moveTo>
                  <a:pt x="24383" y="9426"/>
                </a:moveTo>
                <a:cubicBezTo>
                  <a:pt x="24566" y="9155"/>
                  <a:pt x="24678" y="8965"/>
                  <a:pt x="24730" y="8632"/>
                </a:cubicBezTo>
                <a:cubicBezTo>
                  <a:pt x="24750" y="8502"/>
                  <a:pt x="24765" y="8360"/>
                  <a:pt x="24780" y="8235"/>
                </a:cubicBezTo>
                <a:cubicBezTo>
                  <a:pt x="24788" y="8167"/>
                  <a:pt x="24806" y="8106"/>
                  <a:pt x="24805" y="8037"/>
                </a:cubicBezTo>
                <a:cubicBezTo>
                  <a:pt x="24803" y="7891"/>
                  <a:pt x="24793" y="7764"/>
                  <a:pt x="24805" y="7615"/>
                </a:cubicBezTo>
                <a:cubicBezTo>
                  <a:pt x="24817" y="7465"/>
                  <a:pt x="24827" y="7320"/>
                  <a:pt x="24829" y="7169"/>
                </a:cubicBezTo>
                <a:cubicBezTo>
                  <a:pt x="24831" y="6982"/>
                  <a:pt x="24792" y="6852"/>
                  <a:pt x="24755" y="6672"/>
                </a:cubicBezTo>
                <a:cubicBezTo>
                  <a:pt x="24707" y="6440"/>
                  <a:pt x="24639" y="6234"/>
                  <a:pt x="24532" y="6028"/>
                </a:cubicBezTo>
                <a:cubicBezTo>
                  <a:pt x="24475" y="5917"/>
                  <a:pt x="24413" y="5829"/>
                  <a:pt x="24333" y="5730"/>
                </a:cubicBezTo>
                <a:cubicBezTo>
                  <a:pt x="24233" y="5605"/>
                  <a:pt x="24110" y="5506"/>
                  <a:pt x="24011" y="5383"/>
                </a:cubicBezTo>
                <a:cubicBezTo>
                  <a:pt x="23941" y="5296"/>
                  <a:pt x="23889" y="5192"/>
                  <a:pt x="23812" y="5110"/>
                </a:cubicBezTo>
                <a:cubicBezTo>
                  <a:pt x="23705" y="4997"/>
                  <a:pt x="23581" y="4967"/>
                  <a:pt x="23440" y="4911"/>
                </a:cubicBezTo>
                <a:cubicBezTo>
                  <a:pt x="23305" y="4857"/>
                  <a:pt x="23189" y="4810"/>
                  <a:pt x="23068" y="4738"/>
                </a:cubicBezTo>
                <a:cubicBezTo>
                  <a:pt x="22943" y="4663"/>
                  <a:pt x="22852" y="4578"/>
                  <a:pt x="22721" y="4514"/>
                </a:cubicBezTo>
                <a:cubicBezTo>
                  <a:pt x="22542" y="4427"/>
                  <a:pt x="22328" y="4381"/>
                  <a:pt x="22151" y="4291"/>
                </a:cubicBezTo>
                <a:cubicBezTo>
                  <a:pt x="22049" y="4239"/>
                  <a:pt x="21955" y="4171"/>
                  <a:pt x="21853" y="4118"/>
                </a:cubicBezTo>
                <a:cubicBezTo>
                  <a:pt x="21697" y="4037"/>
                  <a:pt x="21486" y="3967"/>
                  <a:pt x="21357" y="3845"/>
                </a:cubicBezTo>
                <a:cubicBezTo>
                  <a:pt x="21256" y="3750"/>
                  <a:pt x="21182" y="3624"/>
                  <a:pt x="21084" y="3522"/>
                </a:cubicBezTo>
                <a:cubicBezTo>
                  <a:pt x="21037" y="3474"/>
                  <a:pt x="20987" y="3392"/>
                  <a:pt x="20935" y="3349"/>
                </a:cubicBezTo>
                <a:cubicBezTo>
                  <a:pt x="20824" y="3258"/>
                  <a:pt x="20697" y="3160"/>
                  <a:pt x="20563" y="3125"/>
                </a:cubicBezTo>
                <a:cubicBezTo>
                  <a:pt x="20496" y="3108"/>
                  <a:pt x="20437" y="3130"/>
                  <a:pt x="20389" y="3125"/>
                </a:cubicBezTo>
                <a:cubicBezTo>
                  <a:pt x="20373" y="3125"/>
                  <a:pt x="20356" y="3125"/>
                  <a:pt x="20340" y="3125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610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Objective:  Students will divide decimals by whole number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Verdana"/>
              </a:rPr>
              <a:t>When dividing a decimal by a whole number, place the decimal point in the quotient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above</a:t>
            </a:r>
            <a:r>
              <a:rPr b="1" lang="en-US" sz="2800" spc="-1" strike="noStrike">
                <a:solidFill>
                  <a:srgbClr val="33ccff"/>
                </a:solidFill>
                <a:latin typeface="Verdana"/>
              </a:rPr>
              <a:t> the decimal point in the dividend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276720" y="3886200"/>
          <a:ext cx="144756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886200"/>
                    <a:ext cx="144756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 flipV="1">
            <a:off x="4343400" y="5029200"/>
            <a:ext cx="0" cy="457200"/>
          </a:xfrm>
          <a:prstGeom prst="line">
            <a:avLst/>
          </a:prstGeom>
          <a:ln w="442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3505320"/>
            <a:ext cx="0" cy="533160"/>
          </a:xfrm>
          <a:prstGeom prst="line">
            <a:avLst/>
          </a:prstGeom>
          <a:ln w="442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Objective:  Students will divide decimals by whole number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Verdana"/>
              </a:rPr>
              <a:t>Skill Practice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1.)   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2.)   291.7 ÷ 9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3.)  0.7368 ÷ 2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4.)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a8456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aa8456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aa8456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aa8456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295280" y="1488960"/>
          <a:ext cx="1676520" cy="9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88960"/>
                    <a:ext cx="167652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334120" y="4114800"/>
          <a:ext cx="1904760" cy="89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4114800"/>
                    <a:ext cx="190476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1830240" y="1366920"/>
            <a:ext cx="795600" cy="231840"/>
          </a:xfrm>
          <a:custGeom>
            <a:avLst/>
            <a:gdLst/>
            <a:ahLst/>
            <a:rect l="l" t="t" r="r" b="b"/>
            <a:pathLst>
              <a:path w="2209" h="646">
                <a:moveTo>
                  <a:pt x="5110" y="3919"/>
                </a:moveTo>
                <a:cubicBezTo>
                  <a:pt x="5098" y="4064"/>
                  <a:pt x="5065" y="4272"/>
                  <a:pt x="5110" y="4415"/>
                </a:cubicBezTo>
                <a:cubicBezTo>
                  <a:pt x="5118" y="4423"/>
                  <a:pt x="5127" y="4432"/>
                  <a:pt x="5135" y="4440"/>
                </a:cubicBezTo>
              </a:path>
              <a:path w="2209" h="646">
                <a:moveTo>
                  <a:pt x="5407" y="3919"/>
                </a:moveTo>
                <a:cubicBezTo>
                  <a:pt x="5373" y="4050"/>
                  <a:pt x="5331" y="4203"/>
                  <a:pt x="5358" y="4341"/>
                </a:cubicBezTo>
                <a:cubicBezTo>
                  <a:pt x="5379" y="4449"/>
                  <a:pt x="5536" y="4430"/>
                  <a:pt x="5606" y="4390"/>
                </a:cubicBezTo>
                <a:cubicBezTo>
                  <a:pt x="5667" y="4356"/>
                  <a:pt x="5698" y="4274"/>
                  <a:pt x="5730" y="4217"/>
                </a:cubicBezTo>
                <a:cubicBezTo>
                  <a:pt x="5643" y="4158"/>
                  <a:pt x="5611" y="4148"/>
                  <a:pt x="5581" y="4242"/>
                </a:cubicBezTo>
                <a:cubicBezTo>
                  <a:pt x="5558" y="4309"/>
                  <a:pt x="5547" y="4327"/>
                  <a:pt x="5581" y="4366"/>
                </a:cubicBezTo>
              </a:path>
              <a:path w="2209" h="646">
                <a:moveTo>
                  <a:pt x="6028" y="3919"/>
                </a:moveTo>
                <a:cubicBezTo>
                  <a:pt x="6003" y="4086"/>
                  <a:pt x="5958" y="4165"/>
                  <a:pt x="6152" y="4118"/>
                </a:cubicBezTo>
                <a:cubicBezTo>
                  <a:pt x="6177" y="4110"/>
                  <a:pt x="6201" y="4101"/>
                  <a:pt x="6226" y="4093"/>
                </a:cubicBezTo>
              </a:path>
              <a:path w="2209" h="646">
                <a:moveTo>
                  <a:pt x="6152" y="3795"/>
                </a:moveTo>
                <a:cubicBezTo>
                  <a:pt x="6189" y="3951"/>
                  <a:pt x="6220" y="4115"/>
                  <a:pt x="6276" y="4266"/>
                </a:cubicBezTo>
                <a:cubicBezTo>
                  <a:pt x="6284" y="4283"/>
                  <a:pt x="6292" y="4299"/>
                  <a:pt x="6300" y="4316"/>
                </a:cubicBezTo>
              </a:path>
              <a:path w="2209" h="646">
                <a:moveTo>
                  <a:pt x="6921" y="3969"/>
                </a:moveTo>
                <a:cubicBezTo>
                  <a:pt x="6960" y="3919"/>
                  <a:pt x="7027" y="3803"/>
                  <a:pt x="7069" y="3919"/>
                </a:cubicBezTo>
                <a:cubicBezTo>
                  <a:pt x="7069" y="3959"/>
                  <a:pt x="7058" y="3978"/>
                  <a:pt x="7020" y="3994"/>
                </a:cubicBezTo>
                <a:cubicBezTo>
                  <a:pt x="7020" y="4002"/>
                  <a:pt x="7020" y="4010"/>
                  <a:pt x="7020" y="4018"/>
                </a:cubicBezTo>
                <a:cubicBezTo>
                  <a:pt x="7102" y="4005"/>
                  <a:pt x="7211" y="3945"/>
                  <a:pt x="7268" y="4043"/>
                </a:cubicBezTo>
                <a:cubicBezTo>
                  <a:pt x="7336" y="4160"/>
                  <a:pt x="7260" y="4316"/>
                  <a:pt x="7119" y="4316"/>
                </a:cubicBezTo>
                <a:cubicBezTo>
                  <a:pt x="7094" y="4308"/>
                  <a:pt x="7070" y="4299"/>
                  <a:pt x="7045" y="4291"/>
                </a:cubicBezTo>
              </a:path>
              <a:path w="2209" h="646">
                <a:moveTo>
                  <a:pt x="6747" y="4242"/>
                </a:moveTo>
                <a:cubicBezTo>
                  <a:pt x="6692" y="4308"/>
                  <a:pt x="6680" y="4316"/>
                  <a:pt x="6772" y="431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14680" y="2125800"/>
            <a:ext cx="1152360" cy="1758960"/>
          </a:xfrm>
          <a:custGeom>
            <a:avLst/>
            <a:gdLst/>
            <a:ahLst/>
            <a:rect l="l" t="t" r="r" b="b"/>
            <a:pathLst>
              <a:path w="3201" h="4887">
                <a:moveTo>
                  <a:pt x="5358" y="5904"/>
                </a:moveTo>
                <a:cubicBezTo>
                  <a:pt x="5289" y="5926"/>
                  <a:pt x="5232" y="5928"/>
                  <a:pt x="5159" y="5928"/>
                </a:cubicBezTo>
                <a:cubicBezTo>
                  <a:pt x="5082" y="5928"/>
                  <a:pt x="5110" y="6099"/>
                  <a:pt x="5110" y="6152"/>
                </a:cubicBezTo>
                <a:cubicBezTo>
                  <a:pt x="5152" y="6144"/>
                  <a:pt x="5288" y="6063"/>
                  <a:pt x="5333" y="6102"/>
                </a:cubicBezTo>
                <a:cubicBezTo>
                  <a:pt x="5431" y="6188"/>
                  <a:pt x="5377" y="6276"/>
                  <a:pt x="5283" y="6325"/>
                </a:cubicBezTo>
                <a:cubicBezTo>
                  <a:pt x="5218" y="6347"/>
                  <a:pt x="5203" y="6355"/>
                  <a:pt x="5159" y="6350"/>
                </a:cubicBezTo>
              </a:path>
              <a:path w="3201" h="4887">
                <a:moveTo>
                  <a:pt x="4762" y="6176"/>
                </a:moveTo>
                <a:cubicBezTo>
                  <a:pt x="4787" y="6168"/>
                  <a:pt x="4812" y="6160"/>
                  <a:pt x="4837" y="6152"/>
                </a:cubicBezTo>
              </a:path>
              <a:path w="3201" h="4887">
                <a:moveTo>
                  <a:pt x="4862" y="6598"/>
                </a:moveTo>
                <a:cubicBezTo>
                  <a:pt x="5009" y="6565"/>
                  <a:pt x="5158" y="6530"/>
                  <a:pt x="5308" y="6499"/>
                </a:cubicBezTo>
              </a:path>
              <a:path w="3201" h="4887">
                <a:moveTo>
                  <a:pt x="5184" y="6821"/>
                </a:moveTo>
                <a:cubicBezTo>
                  <a:pt x="5238" y="6806"/>
                  <a:pt x="5452" y="6739"/>
                  <a:pt x="5457" y="6846"/>
                </a:cubicBezTo>
                <a:cubicBezTo>
                  <a:pt x="5461" y="6925"/>
                  <a:pt x="5379" y="6993"/>
                  <a:pt x="5333" y="7045"/>
                </a:cubicBezTo>
                <a:cubicBezTo>
                  <a:pt x="5233" y="7012"/>
                  <a:pt x="5439" y="6985"/>
                  <a:pt x="5482" y="7045"/>
                </a:cubicBezTo>
                <a:cubicBezTo>
                  <a:pt x="5597" y="7208"/>
                  <a:pt x="5340" y="7305"/>
                  <a:pt x="5234" y="7317"/>
                </a:cubicBezTo>
                <a:cubicBezTo>
                  <a:pt x="5193" y="7317"/>
                  <a:pt x="5176" y="7326"/>
                  <a:pt x="5184" y="7293"/>
                </a:cubicBezTo>
              </a:path>
              <a:path w="3201" h="4887">
                <a:moveTo>
                  <a:pt x="5854" y="5953"/>
                </a:moveTo>
                <a:cubicBezTo>
                  <a:pt x="5854" y="6104"/>
                  <a:pt x="5880" y="6230"/>
                  <a:pt x="5904" y="6375"/>
                </a:cubicBezTo>
                <a:cubicBezTo>
                  <a:pt x="5910" y="6414"/>
                  <a:pt x="5904" y="6459"/>
                  <a:pt x="5904" y="6499"/>
                </a:cubicBezTo>
              </a:path>
              <a:path w="3201" h="4887">
                <a:moveTo>
                  <a:pt x="5804" y="6424"/>
                </a:moveTo>
                <a:cubicBezTo>
                  <a:pt x="5869" y="6489"/>
                  <a:pt x="5926" y="6550"/>
                  <a:pt x="6003" y="6598"/>
                </a:cubicBezTo>
                <a:cubicBezTo>
                  <a:pt x="6026" y="6530"/>
                  <a:pt x="6048" y="6465"/>
                  <a:pt x="6077" y="6400"/>
                </a:cubicBezTo>
              </a:path>
              <a:path w="3201" h="4887">
                <a:moveTo>
                  <a:pt x="5829" y="6846"/>
                </a:moveTo>
                <a:cubicBezTo>
                  <a:pt x="5890" y="6793"/>
                  <a:pt x="5964" y="6717"/>
                  <a:pt x="6028" y="6821"/>
                </a:cubicBezTo>
                <a:cubicBezTo>
                  <a:pt x="6067" y="6885"/>
                  <a:pt x="6027" y="7038"/>
                  <a:pt x="5978" y="7094"/>
                </a:cubicBezTo>
                <a:cubicBezTo>
                  <a:pt x="5917" y="7163"/>
                  <a:pt x="5872" y="7206"/>
                  <a:pt x="5829" y="7293"/>
                </a:cubicBezTo>
                <a:cubicBezTo>
                  <a:pt x="5942" y="7214"/>
                  <a:pt x="5946" y="7227"/>
                  <a:pt x="6077" y="7243"/>
                </a:cubicBezTo>
                <a:cubicBezTo>
                  <a:pt x="6142" y="7251"/>
                  <a:pt x="6190" y="7228"/>
                  <a:pt x="6251" y="7218"/>
                </a:cubicBezTo>
              </a:path>
              <a:path w="3201" h="4887">
                <a:moveTo>
                  <a:pt x="5259" y="7516"/>
                </a:moveTo>
                <a:cubicBezTo>
                  <a:pt x="5347" y="7459"/>
                  <a:pt x="5357" y="7450"/>
                  <a:pt x="5457" y="7441"/>
                </a:cubicBezTo>
                <a:cubicBezTo>
                  <a:pt x="5466" y="7596"/>
                  <a:pt x="5460" y="7617"/>
                  <a:pt x="5358" y="7739"/>
                </a:cubicBezTo>
                <a:cubicBezTo>
                  <a:pt x="5452" y="7718"/>
                  <a:pt x="5569" y="7643"/>
                  <a:pt x="5556" y="7813"/>
                </a:cubicBezTo>
                <a:cubicBezTo>
                  <a:pt x="5546" y="7943"/>
                  <a:pt x="5460" y="7938"/>
                  <a:pt x="5358" y="7938"/>
                </a:cubicBezTo>
              </a:path>
              <a:path w="3201" h="4887">
                <a:moveTo>
                  <a:pt x="5904" y="7466"/>
                </a:moveTo>
                <a:cubicBezTo>
                  <a:pt x="5860" y="7604"/>
                  <a:pt x="5848" y="7628"/>
                  <a:pt x="5879" y="7764"/>
                </a:cubicBezTo>
                <a:cubicBezTo>
                  <a:pt x="6022" y="7748"/>
                  <a:pt x="6071" y="7691"/>
                  <a:pt x="6028" y="7541"/>
                </a:cubicBezTo>
                <a:cubicBezTo>
                  <a:pt x="6014" y="7491"/>
                  <a:pt x="5939" y="7495"/>
                  <a:pt x="5904" y="7491"/>
                </a:cubicBezTo>
              </a:path>
              <a:path w="3201" h="4887">
                <a:moveTo>
                  <a:pt x="4887" y="7739"/>
                </a:moveTo>
                <a:cubicBezTo>
                  <a:pt x="4946" y="7732"/>
                  <a:pt x="5001" y="7721"/>
                  <a:pt x="5060" y="7714"/>
                </a:cubicBezTo>
              </a:path>
              <a:path w="3201" h="4887">
                <a:moveTo>
                  <a:pt x="5060" y="8086"/>
                </a:moveTo>
                <a:cubicBezTo>
                  <a:pt x="5255" y="8065"/>
                  <a:pt x="5461" y="8027"/>
                  <a:pt x="5655" y="7987"/>
                </a:cubicBezTo>
                <a:cubicBezTo>
                  <a:pt x="5828" y="7944"/>
                  <a:pt x="5867" y="7928"/>
                  <a:pt x="5978" y="7938"/>
                </a:cubicBezTo>
              </a:path>
              <a:path w="3201" h="4887">
                <a:moveTo>
                  <a:pt x="5904" y="8210"/>
                </a:moveTo>
                <a:cubicBezTo>
                  <a:pt x="5947" y="8171"/>
                  <a:pt x="6079" y="8008"/>
                  <a:pt x="6152" y="8111"/>
                </a:cubicBezTo>
                <a:cubicBezTo>
                  <a:pt x="6233" y="8224"/>
                  <a:pt x="6078" y="8416"/>
                  <a:pt x="6028" y="8508"/>
                </a:cubicBezTo>
                <a:cubicBezTo>
                  <a:pt x="5889" y="8554"/>
                  <a:pt x="6181" y="8417"/>
                  <a:pt x="6226" y="8409"/>
                </a:cubicBezTo>
                <a:cubicBezTo>
                  <a:pt x="6297" y="8396"/>
                  <a:pt x="6378" y="8428"/>
                  <a:pt x="6449" y="8434"/>
                </a:cubicBezTo>
              </a:path>
              <a:path w="3201" h="4887">
                <a:moveTo>
                  <a:pt x="6623" y="5978"/>
                </a:moveTo>
                <a:cubicBezTo>
                  <a:pt x="6591" y="6125"/>
                  <a:pt x="6598" y="6271"/>
                  <a:pt x="6598" y="6424"/>
                </a:cubicBezTo>
                <a:cubicBezTo>
                  <a:pt x="6598" y="6567"/>
                  <a:pt x="6623" y="6702"/>
                  <a:pt x="6623" y="6846"/>
                </a:cubicBezTo>
                <a:cubicBezTo>
                  <a:pt x="6623" y="7081"/>
                  <a:pt x="6622" y="7312"/>
                  <a:pt x="6648" y="7541"/>
                </a:cubicBezTo>
                <a:cubicBezTo>
                  <a:pt x="6660" y="7646"/>
                  <a:pt x="6640" y="7738"/>
                  <a:pt x="6672" y="7838"/>
                </a:cubicBezTo>
              </a:path>
              <a:path w="3201" h="4887">
                <a:moveTo>
                  <a:pt x="6722" y="8086"/>
                </a:moveTo>
                <a:cubicBezTo>
                  <a:pt x="6732" y="8190"/>
                  <a:pt x="6758" y="8286"/>
                  <a:pt x="6796" y="8384"/>
                </a:cubicBezTo>
              </a:path>
              <a:path w="3201" h="4887">
                <a:moveTo>
                  <a:pt x="6474" y="7689"/>
                </a:moveTo>
                <a:cubicBezTo>
                  <a:pt x="6512" y="7765"/>
                  <a:pt x="6556" y="7869"/>
                  <a:pt x="6648" y="7888"/>
                </a:cubicBezTo>
                <a:cubicBezTo>
                  <a:pt x="6735" y="7906"/>
                  <a:pt x="6792" y="7722"/>
                  <a:pt x="6821" y="7665"/>
                </a:cubicBezTo>
              </a:path>
              <a:path w="3201" h="4887">
                <a:moveTo>
                  <a:pt x="6102" y="8682"/>
                </a:moveTo>
                <a:cubicBezTo>
                  <a:pt x="6224" y="8617"/>
                  <a:pt x="6267" y="8592"/>
                  <a:pt x="6400" y="8582"/>
                </a:cubicBezTo>
                <a:cubicBezTo>
                  <a:pt x="6422" y="8762"/>
                  <a:pt x="6416" y="8824"/>
                  <a:pt x="6276" y="8954"/>
                </a:cubicBezTo>
                <a:cubicBezTo>
                  <a:pt x="6251" y="8971"/>
                  <a:pt x="6226" y="8987"/>
                  <a:pt x="6201" y="9004"/>
                </a:cubicBezTo>
                <a:cubicBezTo>
                  <a:pt x="6339" y="8988"/>
                  <a:pt x="6463" y="8931"/>
                  <a:pt x="6598" y="8905"/>
                </a:cubicBezTo>
                <a:cubicBezTo>
                  <a:pt x="6615" y="8905"/>
                  <a:pt x="6631" y="8905"/>
                  <a:pt x="6648" y="8905"/>
                </a:cubicBezTo>
              </a:path>
              <a:path w="3201" h="4887">
                <a:moveTo>
                  <a:pt x="6846" y="8607"/>
                </a:moveTo>
                <a:cubicBezTo>
                  <a:pt x="6773" y="8695"/>
                  <a:pt x="6732" y="8767"/>
                  <a:pt x="6722" y="8880"/>
                </a:cubicBezTo>
                <a:cubicBezTo>
                  <a:pt x="6722" y="8897"/>
                  <a:pt x="6722" y="8913"/>
                  <a:pt x="6722" y="8930"/>
                </a:cubicBezTo>
                <a:cubicBezTo>
                  <a:pt x="6849" y="8957"/>
                  <a:pt x="6931" y="8905"/>
                  <a:pt x="6921" y="8756"/>
                </a:cubicBezTo>
                <a:cubicBezTo>
                  <a:pt x="6910" y="8591"/>
                  <a:pt x="6792" y="8617"/>
                  <a:pt x="6672" y="8632"/>
                </a:cubicBezTo>
              </a:path>
              <a:path w="3201" h="4887">
                <a:moveTo>
                  <a:pt x="5631" y="8880"/>
                </a:moveTo>
                <a:cubicBezTo>
                  <a:pt x="5682" y="8845"/>
                  <a:pt x="5717" y="8837"/>
                  <a:pt x="5779" y="8830"/>
                </a:cubicBezTo>
              </a:path>
              <a:path w="3201" h="4887">
                <a:moveTo>
                  <a:pt x="5928" y="9203"/>
                </a:moveTo>
                <a:cubicBezTo>
                  <a:pt x="6162" y="9144"/>
                  <a:pt x="6409" y="9118"/>
                  <a:pt x="6648" y="9079"/>
                </a:cubicBezTo>
                <a:cubicBezTo>
                  <a:pt x="6788" y="9059"/>
                  <a:pt x="6812" y="9050"/>
                  <a:pt x="6896" y="9054"/>
                </a:cubicBezTo>
              </a:path>
              <a:path w="3201" h="4887">
                <a:moveTo>
                  <a:pt x="6896" y="9252"/>
                </a:moveTo>
                <a:cubicBezTo>
                  <a:pt x="6927" y="9370"/>
                  <a:pt x="6945" y="9476"/>
                  <a:pt x="6945" y="9599"/>
                </a:cubicBezTo>
              </a:path>
              <a:path w="3201" h="4887">
                <a:moveTo>
                  <a:pt x="7516" y="5928"/>
                </a:moveTo>
                <a:cubicBezTo>
                  <a:pt x="7516" y="6082"/>
                  <a:pt x="7512" y="6226"/>
                  <a:pt x="7491" y="6375"/>
                </a:cubicBezTo>
                <a:cubicBezTo>
                  <a:pt x="7476" y="6485"/>
                  <a:pt x="7504" y="6592"/>
                  <a:pt x="7516" y="6697"/>
                </a:cubicBezTo>
                <a:cubicBezTo>
                  <a:pt x="7528" y="6802"/>
                  <a:pt x="7533" y="6918"/>
                  <a:pt x="7541" y="7020"/>
                </a:cubicBezTo>
                <a:cubicBezTo>
                  <a:pt x="7553" y="7168"/>
                  <a:pt x="7554" y="7319"/>
                  <a:pt x="7565" y="7466"/>
                </a:cubicBezTo>
                <a:cubicBezTo>
                  <a:pt x="7575" y="7606"/>
                  <a:pt x="7586" y="7748"/>
                  <a:pt x="7590" y="7888"/>
                </a:cubicBezTo>
                <a:cubicBezTo>
                  <a:pt x="7594" y="8031"/>
                  <a:pt x="7612" y="8168"/>
                  <a:pt x="7615" y="8310"/>
                </a:cubicBezTo>
                <a:cubicBezTo>
                  <a:pt x="7618" y="8434"/>
                  <a:pt x="7652" y="8537"/>
                  <a:pt x="7665" y="8657"/>
                </a:cubicBezTo>
                <a:cubicBezTo>
                  <a:pt x="7674" y="8739"/>
                  <a:pt x="7661" y="8802"/>
                  <a:pt x="7689" y="8880"/>
                </a:cubicBezTo>
              </a:path>
              <a:path w="3201" h="4887">
                <a:moveTo>
                  <a:pt x="7491" y="8731"/>
                </a:moveTo>
                <a:cubicBezTo>
                  <a:pt x="7510" y="8746"/>
                  <a:pt x="7701" y="8940"/>
                  <a:pt x="7739" y="8905"/>
                </a:cubicBezTo>
                <a:cubicBezTo>
                  <a:pt x="7800" y="8848"/>
                  <a:pt x="7845" y="8753"/>
                  <a:pt x="7888" y="8682"/>
                </a:cubicBezTo>
              </a:path>
              <a:path w="3201" h="4887">
                <a:moveTo>
                  <a:pt x="7813" y="9203"/>
                </a:moveTo>
                <a:cubicBezTo>
                  <a:pt x="7767" y="9203"/>
                  <a:pt x="7594" y="9173"/>
                  <a:pt x="7565" y="9227"/>
                </a:cubicBezTo>
                <a:cubicBezTo>
                  <a:pt x="7537" y="9279"/>
                  <a:pt x="7541" y="9322"/>
                  <a:pt x="7541" y="9376"/>
                </a:cubicBezTo>
                <a:cubicBezTo>
                  <a:pt x="7616" y="9398"/>
                  <a:pt x="7654" y="9364"/>
                  <a:pt x="7739" y="9351"/>
                </a:cubicBezTo>
                <a:cubicBezTo>
                  <a:pt x="7802" y="9341"/>
                  <a:pt x="7898" y="9431"/>
                  <a:pt x="7863" y="9500"/>
                </a:cubicBezTo>
                <a:cubicBezTo>
                  <a:pt x="7809" y="9607"/>
                  <a:pt x="7707" y="9605"/>
                  <a:pt x="7615" y="9575"/>
                </a:cubicBezTo>
              </a:path>
              <a:path w="3201" h="4887">
                <a:moveTo>
                  <a:pt x="7094" y="9872"/>
                </a:moveTo>
                <a:cubicBezTo>
                  <a:pt x="7116" y="9954"/>
                  <a:pt x="7126" y="10035"/>
                  <a:pt x="7144" y="10120"/>
                </a:cubicBezTo>
              </a:path>
              <a:path w="3201" h="4887">
                <a:moveTo>
                  <a:pt x="7789" y="9723"/>
                </a:moveTo>
                <a:cubicBezTo>
                  <a:pt x="7653" y="9723"/>
                  <a:pt x="7599" y="9687"/>
                  <a:pt x="7541" y="9798"/>
                </a:cubicBezTo>
                <a:cubicBezTo>
                  <a:pt x="7517" y="9846"/>
                  <a:pt x="7508" y="9860"/>
                  <a:pt x="7516" y="9897"/>
                </a:cubicBezTo>
                <a:cubicBezTo>
                  <a:pt x="7621" y="9918"/>
                  <a:pt x="7695" y="9849"/>
                  <a:pt x="7813" y="9872"/>
                </a:cubicBezTo>
                <a:cubicBezTo>
                  <a:pt x="7873" y="9884"/>
                  <a:pt x="7878" y="9978"/>
                  <a:pt x="7888" y="10021"/>
                </a:cubicBezTo>
                <a:cubicBezTo>
                  <a:pt x="7795" y="10086"/>
                  <a:pt x="7757" y="10089"/>
                  <a:pt x="7640" y="10096"/>
                </a:cubicBezTo>
              </a:path>
              <a:path w="3201" h="4887">
                <a:moveTo>
                  <a:pt x="6648" y="9922"/>
                </a:moveTo>
                <a:cubicBezTo>
                  <a:pt x="6715" y="9922"/>
                  <a:pt x="6748" y="9918"/>
                  <a:pt x="6796" y="9897"/>
                </a:cubicBezTo>
              </a:path>
              <a:path w="3201" h="4887">
                <a:moveTo>
                  <a:pt x="6970" y="10393"/>
                </a:moveTo>
                <a:cubicBezTo>
                  <a:pt x="7145" y="10355"/>
                  <a:pt x="7311" y="10298"/>
                  <a:pt x="7491" y="10269"/>
                </a:cubicBezTo>
                <a:cubicBezTo>
                  <a:pt x="7611" y="10250"/>
                  <a:pt x="7719" y="10244"/>
                  <a:pt x="7838" y="10244"/>
                </a:cubicBezTo>
              </a:path>
              <a:path w="3201" h="4887">
                <a:moveTo>
                  <a:pt x="7838" y="10344"/>
                </a:moveTo>
                <a:cubicBezTo>
                  <a:pt x="7727" y="10392"/>
                  <a:pt x="7667" y="10432"/>
                  <a:pt x="7640" y="10567"/>
                </a:cubicBezTo>
                <a:cubicBezTo>
                  <a:pt x="7611" y="10714"/>
                  <a:pt x="7690" y="10819"/>
                  <a:pt x="7838" y="10765"/>
                </a:cubicBezTo>
                <a:cubicBezTo>
                  <a:pt x="7942" y="10727"/>
                  <a:pt x="8019" y="10562"/>
                  <a:pt x="7938" y="10468"/>
                </a:cubicBezTo>
                <a:cubicBezTo>
                  <a:pt x="7908" y="10434"/>
                  <a:pt x="7827" y="10406"/>
                  <a:pt x="7789" y="10393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29080" y="330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303" y="918"/>
                </a:moveTo>
                <a:lnTo>
                  <a:pt x="12303" y="918"/>
                </a:ln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29280" y="2259000"/>
            <a:ext cx="196920" cy="277920"/>
          </a:xfrm>
          <a:custGeom>
            <a:avLst/>
            <a:gdLst/>
            <a:ahLst/>
            <a:rect l="l" t="t" r="r" b="b"/>
            <a:pathLst>
              <a:path w="547" h="770">
                <a:moveTo>
                  <a:pt x="19472" y="6524"/>
                </a:moveTo>
                <a:cubicBezTo>
                  <a:pt x="19515" y="6679"/>
                  <a:pt x="19523" y="6842"/>
                  <a:pt x="19571" y="6995"/>
                </a:cubicBezTo>
                <a:cubicBezTo>
                  <a:pt x="19579" y="7012"/>
                  <a:pt x="19588" y="7028"/>
                  <a:pt x="19596" y="7045"/>
                </a:cubicBezTo>
              </a:path>
              <a:path w="547" h="770">
                <a:moveTo>
                  <a:pt x="19248" y="6325"/>
                </a:moveTo>
                <a:cubicBezTo>
                  <a:pt x="19327" y="6298"/>
                  <a:pt x="19390" y="6281"/>
                  <a:pt x="19472" y="6276"/>
                </a:cubicBezTo>
                <a:cubicBezTo>
                  <a:pt x="19539" y="6272"/>
                  <a:pt x="19584" y="6290"/>
                  <a:pt x="19645" y="6300"/>
                </a:cubicBezTo>
                <a:cubicBezTo>
                  <a:pt x="19692" y="6308"/>
                  <a:pt x="19746" y="6300"/>
                  <a:pt x="19794" y="6300"/>
                </a:cubicBezTo>
                <a:cubicBezTo>
                  <a:pt x="19739" y="6268"/>
                  <a:pt x="19688" y="6276"/>
                  <a:pt x="19621" y="6276"/>
                </a:cubicBezTo>
                <a:cubicBezTo>
                  <a:pt x="19561" y="6276"/>
                  <a:pt x="19504" y="6315"/>
                  <a:pt x="19447" y="6325"/>
                </a:cubicBezTo>
                <a:cubicBezTo>
                  <a:pt x="19386" y="6335"/>
                  <a:pt x="19333" y="6369"/>
                  <a:pt x="19273" y="6375"/>
                </a:cubicBezTo>
                <a:cubicBezTo>
                  <a:pt x="19265" y="6375"/>
                  <a:pt x="19256" y="6375"/>
                  <a:pt x="19248" y="6375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26200" y="3009960"/>
            <a:ext cx="438120" cy="1276200"/>
          </a:xfrm>
          <a:custGeom>
            <a:avLst/>
            <a:gdLst/>
            <a:ahLst/>
            <a:rect l="l" t="t" r="r" b="b"/>
            <a:pathLst>
              <a:path w="1217" h="3548">
                <a:moveTo>
                  <a:pt x="19794" y="8359"/>
                </a:moveTo>
                <a:cubicBezTo>
                  <a:pt x="19828" y="8388"/>
                  <a:pt x="19855" y="8404"/>
                  <a:pt x="19869" y="8458"/>
                </a:cubicBezTo>
                <a:cubicBezTo>
                  <a:pt x="19885" y="8521"/>
                  <a:pt x="19876" y="8595"/>
                  <a:pt x="19893" y="8657"/>
                </a:cubicBezTo>
                <a:cubicBezTo>
                  <a:pt x="19914" y="8730"/>
                  <a:pt x="19899" y="8807"/>
                  <a:pt x="19918" y="8880"/>
                </a:cubicBezTo>
                <a:cubicBezTo>
                  <a:pt x="19936" y="8948"/>
                  <a:pt x="19938" y="9007"/>
                  <a:pt x="19943" y="9079"/>
                </a:cubicBezTo>
                <a:cubicBezTo>
                  <a:pt x="19949" y="9158"/>
                  <a:pt x="19965" y="9227"/>
                  <a:pt x="19968" y="9302"/>
                </a:cubicBezTo>
                <a:cubicBezTo>
                  <a:pt x="19973" y="9415"/>
                  <a:pt x="19961" y="9514"/>
                  <a:pt x="19993" y="9624"/>
                </a:cubicBezTo>
                <a:cubicBezTo>
                  <a:pt x="20020" y="9716"/>
                  <a:pt x="20054" y="9809"/>
                  <a:pt x="20092" y="9897"/>
                </a:cubicBezTo>
                <a:cubicBezTo>
                  <a:pt x="20124" y="9972"/>
                  <a:pt x="20121" y="10023"/>
                  <a:pt x="20141" y="10096"/>
                </a:cubicBezTo>
                <a:cubicBezTo>
                  <a:pt x="20157" y="10154"/>
                  <a:pt x="20144" y="10240"/>
                  <a:pt x="20166" y="10294"/>
                </a:cubicBezTo>
                <a:cubicBezTo>
                  <a:pt x="20181" y="10331"/>
                  <a:pt x="20221" y="10379"/>
                  <a:pt x="20241" y="10418"/>
                </a:cubicBezTo>
              </a:path>
              <a:path w="1217" h="3548">
                <a:moveTo>
                  <a:pt x="20092" y="10319"/>
                </a:moveTo>
                <a:cubicBezTo>
                  <a:pt x="20143" y="10370"/>
                  <a:pt x="20163" y="10388"/>
                  <a:pt x="20216" y="10393"/>
                </a:cubicBezTo>
                <a:cubicBezTo>
                  <a:pt x="20253" y="10326"/>
                  <a:pt x="20286" y="10265"/>
                  <a:pt x="20315" y="10195"/>
                </a:cubicBezTo>
              </a:path>
              <a:path w="1217" h="3548">
                <a:moveTo>
                  <a:pt x="20439" y="10641"/>
                </a:moveTo>
                <a:cubicBezTo>
                  <a:pt x="20331" y="10655"/>
                  <a:pt x="20326" y="10687"/>
                  <a:pt x="20290" y="10790"/>
                </a:cubicBezTo>
                <a:cubicBezTo>
                  <a:pt x="20244" y="10920"/>
                  <a:pt x="20317" y="11011"/>
                  <a:pt x="20464" y="10988"/>
                </a:cubicBezTo>
                <a:cubicBezTo>
                  <a:pt x="20518" y="10979"/>
                  <a:pt x="20601" y="10860"/>
                  <a:pt x="20613" y="10815"/>
                </a:cubicBezTo>
                <a:cubicBezTo>
                  <a:pt x="20637" y="10725"/>
                  <a:pt x="20537" y="10689"/>
                  <a:pt x="20464" y="10666"/>
                </a:cubicBezTo>
                <a:cubicBezTo>
                  <a:pt x="20431" y="10666"/>
                  <a:pt x="20414" y="10666"/>
                  <a:pt x="20389" y="10666"/>
                </a:cubicBezTo>
              </a:path>
              <a:path w="1217" h="3548">
                <a:moveTo>
                  <a:pt x="20662" y="11088"/>
                </a:moveTo>
                <a:cubicBezTo>
                  <a:pt x="20619" y="11035"/>
                  <a:pt x="20579" y="11009"/>
                  <a:pt x="20513" y="11063"/>
                </a:cubicBezTo>
                <a:cubicBezTo>
                  <a:pt x="20459" y="11107"/>
                  <a:pt x="20473" y="11196"/>
                  <a:pt x="20538" y="11212"/>
                </a:cubicBezTo>
                <a:cubicBezTo>
                  <a:pt x="20598" y="11227"/>
                  <a:pt x="20655" y="11165"/>
                  <a:pt x="20662" y="11112"/>
                </a:cubicBezTo>
                <a:cubicBezTo>
                  <a:pt x="20662" y="11096"/>
                  <a:pt x="20662" y="11079"/>
                  <a:pt x="20662" y="11063"/>
                </a:cubicBezTo>
                <a:cubicBezTo>
                  <a:pt x="20707" y="11171"/>
                  <a:pt x="20758" y="11271"/>
                  <a:pt x="20786" y="11385"/>
                </a:cubicBezTo>
                <a:cubicBezTo>
                  <a:pt x="20786" y="11393"/>
                  <a:pt x="20786" y="11402"/>
                  <a:pt x="20786" y="11410"/>
                </a:cubicBezTo>
              </a:path>
              <a:path w="1217" h="3548">
                <a:moveTo>
                  <a:pt x="20067" y="11112"/>
                </a:moveTo>
                <a:cubicBezTo>
                  <a:pt x="20100" y="11096"/>
                  <a:pt x="20133" y="11079"/>
                  <a:pt x="20166" y="11063"/>
                </a:cubicBezTo>
              </a:path>
              <a:path w="1217" h="3548">
                <a:moveTo>
                  <a:pt x="20439" y="11460"/>
                </a:moveTo>
                <a:cubicBezTo>
                  <a:pt x="20587" y="11477"/>
                  <a:pt x="20709" y="11469"/>
                  <a:pt x="20861" y="11460"/>
                </a:cubicBezTo>
                <a:cubicBezTo>
                  <a:pt x="20952" y="11460"/>
                  <a:pt x="20960" y="11460"/>
                  <a:pt x="21010" y="11460"/>
                </a:cubicBezTo>
              </a:path>
              <a:path w="1217" h="3548">
                <a:moveTo>
                  <a:pt x="20935" y="11658"/>
                </a:moveTo>
                <a:cubicBezTo>
                  <a:pt x="20944" y="11743"/>
                  <a:pt x="20964" y="11822"/>
                  <a:pt x="20985" y="1190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81800" y="2367000"/>
            <a:ext cx="1643040" cy="1990800"/>
          </a:xfrm>
          <a:custGeom>
            <a:avLst/>
            <a:gdLst/>
            <a:ahLst/>
            <a:rect l="l" t="t" r="r" b="b"/>
            <a:pathLst>
              <a:path w="4565" h="5533">
                <a:moveTo>
                  <a:pt x="16619" y="7640"/>
                </a:moveTo>
                <a:cubicBezTo>
                  <a:pt x="16687" y="7558"/>
                  <a:pt x="16761" y="7478"/>
                  <a:pt x="16867" y="7441"/>
                </a:cubicBezTo>
                <a:cubicBezTo>
                  <a:pt x="16898" y="7430"/>
                  <a:pt x="17021" y="7447"/>
                  <a:pt x="17041" y="7466"/>
                </a:cubicBezTo>
                <a:cubicBezTo>
                  <a:pt x="17172" y="7591"/>
                  <a:pt x="17047" y="7846"/>
                  <a:pt x="16966" y="7962"/>
                </a:cubicBezTo>
                <a:cubicBezTo>
                  <a:pt x="16845" y="8136"/>
                  <a:pt x="16684" y="8279"/>
                  <a:pt x="16570" y="8458"/>
                </a:cubicBezTo>
                <a:cubicBezTo>
                  <a:pt x="16671" y="8278"/>
                  <a:pt x="16739" y="8180"/>
                  <a:pt x="16966" y="8235"/>
                </a:cubicBezTo>
                <a:cubicBezTo>
                  <a:pt x="17066" y="8275"/>
                  <a:pt x="17084" y="8280"/>
                  <a:pt x="17140" y="8310"/>
                </a:cubicBezTo>
              </a:path>
              <a:path w="4565" h="5533">
                <a:moveTo>
                  <a:pt x="17760" y="7789"/>
                </a:moveTo>
                <a:cubicBezTo>
                  <a:pt x="17737" y="7682"/>
                  <a:pt x="17685" y="7601"/>
                  <a:pt x="17587" y="7541"/>
                </a:cubicBezTo>
                <a:cubicBezTo>
                  <a:pt x="17497" y="7496"/>
                  <a:pt x="17474" y="7476"/>
                  <a:pt x="17413" y="7516"/>
                </a:cubicBezTo>
                <a:cubicBezTo>
                  <a:pt x="17351" y="7674"/>
                  <a:pt x="17264" y="7904"/>
                  <a:pt x="17388" y="8062"/>
                </a:cubicBezTo>
                <a:cubicBezTo>
                  <a:pt x="17516" y="8226"/>
                  <a:pt x="17661" y="7844"/>
                  <a:pt x="17686" y="7789"/>
                </a:cubicBezTo>
                <a:cubicBezTo>
                  <a:pt x="17686" y="7756"/>
                  <a:pt x="17686" y="7722"/>
                  <a:pt x="17686" y="7689"/>
                </a:cubicBezTo>
                <a:cubicBezTo>
                  <a:pt x="17745" y="7905"/>
                  <a:pt x="17785" y="8087"/>
                  <a:pt x="17785" y="8310"/>
                </a:cubicBezTo>
              </a:path>
              <a:path w="4565" h="5533">
                <a:moveTo>
                  <a:pt x="18008" y="7541"/>
                </a:moveTo>
                <a:cubicBezTo>
                  <a:pt x="18067" y="7763"/>
                  <a:pt x="18080" y="7962"/>
                  <a:pt x="18107" y="8186"/>
                </a:cubicBezTo>
                <a:cubicBezTo>
                  <a:pt x="18115" y="8219"/>
                  <a:pt x="18124" y="8252"/>
                  <a:pt x="18132" y="8285"/>
                </a:cubicBezTo>
              </a:path>
              <a:path w="4565" h="5533">
                <a:moveTo>
                  <a:pt x="18380" y="8136"/>
                </a:moveTo>
                <a:cubicBezTo>
                  <a:pt x="18397" y="8144"/>
                  <a:pt x="18413" y="8153"/>
                  <a:pt x="18430" y="8161"/>
                </a:cubicBezTo>
              </a:path>
              <a:path w="4565" h="5533">
                <a:moveTo>
                  <a:pt x="18628" y="7441"/>
                </a:moveTo>
                <a:cubicBezTo>
                  <a:pt x="18817" y="7498"/>
                  <a:pt x="18929" y="7485"/>
                  <a:pt x="19124" y="7441"/>
                </a:cubicBezTo>
                <a:cubicBezTo>
                  <a:pt x="19212" y="7645"/>
                  <a:pt x="19153" y="7900"/>
                  <a:pt x="19149" y="8136"/>
                </a:cubicBezTo>
                <a:cubicBezTo>
                  <a:pt x="19149" y="8227"/>
                  <a:pt x="19149" y="8235"/>
                  <a:pt x="19149" y="8285"/>
                </a:cubicBezTo>
              </a:path>
              <a:path w="4565" h="5533">
                <a:moveTo>
                  <a:pt x="16321" y="8756"/>
                </a:moveTo>
                <a:cubicBezTo>
                  <a:pt x="16358" y="8586"/>
                  <a:pt x="16371" y="8360"/>
                  <a:pt x="16346" y="8186"/>
                </a:cubicBezTo>
                <a:cubicBezTo>
                  <a:pt x="16315" y="7969"/>
                  <a:pt x="16217" y="7738"/>
                  <a:pt x="16222" y="7516"/>
                </a:cubicBezTo>
                <a:cubicBezTo>
                  <a:pt x="16223" y="7463"/>
                  <a:pt x="16237" y="7396"/>
                  <a:pt x="16247" y="7342"/>
                </a:cubicBezTo>
                <a:cubicBezTo>
                  <a:pt x="16265" y="7238"/>
                  <a:pt x="16365" y="7252"/>
                  <a:pt x="16470" y="7243"/>
                </a:cubicBezTo>
                <a:cubicBezTo>
                  <a:pt x="16635" y="7229"/>
                  <a:pt x="16801" y="7237"/>
                  <a:pt x="16966" y="7218"/>
                </a:cubicBezTo>
                <a:cubicBezTo>
                  <a:pt x="17140" y="7198"/>
                  <a:pt x="17313" y="7174"/>
                  <a:pt x="17487" y="7169"/>
                </a:cubicBezTo>
                <a:cubicBezTo>
                  <a:pt x="18026" y="7155"/>
                  <a:pt x="18560" y="7200"/>
                  <a:pt x="19050" y="7268"/>
                </a:cubicBezTo>
                <a:cubicBezTo>
                  <a:pt x="19186" y="7287"/>
                  <a:pt x="19348" y="7193"/>
                  <a:pt x="19496" y="7193"/>
                </a:cubicBezTo>
                <a:cubicBezTo>
                  <a:pt x="19587" y="7193"/>
                  <a:pt x="19678" y="7193"/>
                  <a:pt x="19769" y="7193"/>
                </a:cubicBezTo>
              </a:path>
              <a:path w="4565" h="5533">
                <a:moveTo>
                  <a:pt x="15949" y="7689"/>
                </a:moveTo>
                <a:cubicBezTo>
                  <a:pt x="15840" y="7621"/>
                  <a:pt x="15790" y="7591"/>
                  <a:pt x="15652" y="7640"/>
                </a:cubicBezTo>
                <a:cubicBezTo>
                  <a:pt x="15524" y="7686"/>
                  <a:pt x="15417" y="7902"/>
                  <a:pt x="15553" y="8012"/>
                </a:cubicBezTo>
                <a:cubicBezTo>
                  <a:pt x="15712" y="8140"/>
                  <a:pt x="15821" y="7957"/>
                  <a:pt x="15875" y="7838"/>
                </a:cubicBezTo>
                <a:cubicBezTo>
                  <a:pt x="15898" y="7771"/>
                  <a:pt x="15903" y="7753"/>
                  <a:pt x="15925" y="7714"/>
                </a:cubicBezTo>
                <a:cubicBezTo>
                  <a:pt x="15954" y="7902"/>
                  <a:pt x="15968" y="8094"/>
                  <a:pt x="15974" y="8285"/>
                </a:cubicBezTo>
                <a:cubicBezTo>
                  <a:pt x="15974" y="8301"/>
                  <a:pt x="15974" y="8318"/>
                  <a:pt x="15974" y="8334"/>
                </a:cubicBezTo>
              </a:path>
              <a:path w="4565" h="5533">
                <a:moveTo>
                  <a:pt x="17041" y="8508"/>
                </a:moveTo>
                <a:cubicBezTo>
                  <a:pt x="17091" y="8457"/>
                  <a:pt x="17109" y="8440"/>
                  <a:pt x="17165" y="8458"/>
                </a:cubicBezTo>
                <a:cubicBezTo>
                  <a:pt x="17231" y="8603"/>
                  <a:pt x="17219" y="8705"/>
                  <a:pt x="17066" y="8806"/>
                </a:cubicBezTo>
                <a:cubicBezTo>
                  <a:pt x="16999" y="8828"/>
                  <a:pt x="16981" y="8839"/>
                  <a:pt x="16942" y="8806"/>
                </a:cubicBezTo>
                <a:cubicBezTo>
                  <a:pt x="16970" y="8651"/>
                  <a:pt x="17058" y="8642"/>
                  <a:pt x="17214" y="8682"/>
                </a:cubicBezTo>
                <a:cubicBezTo>
                  <a:pt x="17231" y="8690"/>
                  <a:pt x="17247" y="8698"/>
                  <a:pt x="17264" y="8706"/>
                </a:cubicBezTo>
              </a:path>
              <a:path w="4565" h="5533">
                <a:moveTo>
                  <a:pt x="17363" y="8458"/>
                </a:moveTo>
                <a:cubicBezTo>
                  <a:pt x="17455" y="8418"/>
                  <a:pt x="17535" y="8387"/>
                  <a:pt x="17636" y="8384"/>
                </a:cubicBezTo>
                <a:cubicBezTo>
                  <a:pt x="17750" y="8380"/>
                  <a:pt x="17820" y="8383"/>
                  <a:pt x="17785" y="8533"/>
                </a:cubicBezTo>
                <a:cubicBezTo>
                  <a:pt x="17742" y="8640"/>
                  <a:pt x="17731" y="8663"/>
                  <a:pt x="17711" y="8731"/>
                </a:cubicBezTo>
              </a:path>
              <a:path w="4565" h="5533">
                <a:moveTo>
                  <a:pt x="16793" y="8954"/>
                </a:moveTo>
                <a:cubicBezTo>
                  <a:pt x="17007" y="8954"/>
                  <a:pt x="17227" y="8941"/>
                  <a:pt x="17438" y="8905"/>
                </a:cubicBezTo>
                <a:cubicBezTo>
                  <a:pt x="17590" y="8879"/>
                  <a:pt x="17689" y="8855"/>
                  <a:pt x="17835" y="8855"/>
                </a:cubicBezTo>
              </a:path>
              <a:path w="4565" h="5533">
                <a:moveTo>
                  <a:pt x="16421" y="8682"/>
                </a:moveTo>
                <a:cubicBezTo>
                  <a:pt x="16487" y="8682"/>
                  <a:pt x="16553" y="8682"/>
                  <a:pt x="16619" y="8682"/>
                </a:cubicBezTo>
              </a:path>
              <a:path w="4565" h="5533">
                <a:moveTo>
                  <a:pt x="17711" y="9153"/>
                </a:moveTo>
                <a:cubicBezTo>
                  <a:pt x="17741" y="9094"/>
                  <a:pt x="17827" y="8993"/>
                  <a:pt x="17909" y="9054"/>
                </a:cubicBezTo>
                <a:cubicBezTo>
                  <a:pt x="18069" y="9172"/>
                  <a:pt x="17847" y="9348"/>
                  <a:pt x="17760" y="9426"/>
                </a:cubicBezTo>
                <a:cubicBezTo>
                  <a:pt x="17727" y="9451"/>
                  <a:pt x="17694" y="9475"/>
                  <a:pt x="17661" y="9500"/>
                </a:cubicBezTo>
                <a:cubicBezTo>
                  <a:pt x="17795" y="9474"/>
                  <a:pt x="17926" y="9416"/>
                  <a:pt x="18058" y="9376"/>
                </a:cubicBezTo>
                <a:cubicBezTo>
                  <a:pt x="18066" y="9376"/>
                  <a:pt x="18075" y="9376"/>
                  <a:pt x="18083" y="9376"/>
                </a:cubicBezTo>
              </a:path>
              <a:path w="4565" h="5533">
                <a:moveTo>
                  <a:pt x="18107" y="8508"/>
                </a:moveTo>
                <a:cubicBezTo>
                  <a:pt x="18107" y="8500"/>
                  <a:pt x="18107" y="8491"/>
                  <a:pt x="18107" y="8483"/>
                </a:cubicBezTo>
                <a:cubicBezTo>
                  <a:pt x="18160" y="8588"/>
                  <a:pt x="18173" y="8709"/>
                  <a:pt x="18182" y="8830"/>
                </a:cubicBezTo>
              </a:path>
              <a:path w="4565" h="5533">
                <a:moveTo>
                  <a:pt x="18083" y="8781"/>
                </a:moveTo>
                <a:cubicBezTo>
                  <a:pt x="18202" y="8900"/>
                  <a:pt x="18176" y="8875"/>
                  <a:pt x="18306" y="8781"/>
                </a:cubicBezTo>
              </a:path>
              <a:path w="4565" h="5533">
                <a:moveTo>
                  <a:pt x="18331" y="9128"/>
                </a:moveTo>
                <a:cubicBezTo>
                  <a:pt x="18375" y="9218"/>
                  <a:pt x="18355" y="9276"/>
                  <a:pt x="18355" y="9376"/>
                </a:cubicBezTo>
              </a:path>
              <a:path w="4565" h="5533">
                <a:moveTo>
                  <a:pt x="17711" y="6623"/>
                </a:moveTo>
                <a:cubicBezTo>
                  <a:pt x="17795" y="6572"/>
                  <a:pt x="17804" y="6555"/>
                  <a:pt x="17884" y="6598"/>
                </a:cubicBezTo>
                <a:cubicBezTo>
                  <a:pt x="17953" y="6635"/>
                  <a:pt x="17980" y="6658"/>
                  <a:pt x="17959" y="6747"/>
                </a:cubicBezTo>
                <a:cubicBezTo>
                  <a:pt x="17937" y="6837"/>
                  <a:pt x="17873" y="6882"/>
                  <a:pt x="17810" y="6945"/>
                </a:cubicBezTo>
                <a:cubicBezTo>
                  <a:pt x="17802" y="6953"/>
                  <a:pt x="17793" y="6962"/>
                  <a:pt x="17785" y="6970"/>
                </a:cubicBezTo>
                <a:cubicBezTo>
                  <a:pt x="17862" y="6960"/>
                  <a:pt x="17927" y="6906"/>
                  <a:pt x="18008" y="6921"/>
                </a:cubicBezTo>
                <a:cubicBezTo>
                  <a:pt x="18102" y="6938"/>
                  <a:pt x="18095" y="6945"/>
                  <a:pt x="18182" y="6896"/>
                </a:cubicBezTo>
              </a:path>
              <a:path w="4565" h="5533">
                <a:moveTo>
                  <a:pt x="18008" y="9500"/>
                </a:moveTo>
                <a:cubicBezTo>
                  <a:pt x="18013" y="9595"/>
                  <a:pt x="18024" y="9680"/>
                  <a:pt x="18033" y="9773"/>
                </a:cubicBezTo>
              </a:path>
              <a:path w="4565" h="5533">
                <a:moveTo>
                  <a:pt x="18455" y="9451"/>
                </a:moveTo>
                <a:cubicBezTo>
                  <a:pt x="18370" y="9514"/>
                  <a:pt x="18349" y="9526"/>
                  <a:pt x="18306" y="9575"/>
                </a:cubicBezTo>
                <a:cubicBezTo>
                  <a:pt x="18311" y="9577"/>
                  <a:pt x="18574" y="9698"/>
                  <a:pt x="18504" y="9748"/>
                </a:cubicBezTo>
                <a:cubicBezTo>
                  <a:pt x="18413" y="9766"/>
                  <a:pt x="18406" y="9775"/>
                  <a:pt x="18355" y="9773"/>
                </a:cubicBezTo>
                <a:cubicBezTo>
                  <a:pt x="18378" y="9670"/>
                  <a:pt x="18421" y="9589"/>
                  <a:pt x="18430" y="9475"/>
                </a:cubicBezTo>
              </a:path>
              <a:path w="4565" h="5533">
                <a:moveTo>
                  <a:pt x="17611" y="9922"/>
                </a:moveTo>
                <a:cubicBezTo>
                  <a:pt x="17832" y="9889"/>
                  <a:pt x="18058" y="9895"/>
                  <a:pt x="18281" y="9872"/>
                </a:cubicBezTo>
                <a:cubicBezTo>
                  <a:pt x="18411" y="9859"/>
                  <a:pt x="18443" y="9835"/>
                  <a:pt x="18554" y="9872"/>
                </a:cubicBezTo>
              </a:path>
              <a:path w="4565" h="5533">
                <a:moveTo>
                  <a:pt x="18504" y="10021"/>
                </a:moveTo>
                <a:cubicBezTo>
                  <a:pt x="18566" y="9979"/>
                  <a:pt x="18735" y="9898"/>
                  <a:pt x="18703" y="10071"/>
                </a:cubicBezTo>
                <a:cubicBezTo>
                  <a:pt x="18657" y="10117"/>
                  <a:pt x="18644" y="10131"/>
                  <a:pt x="18604" y="10145"/>
                </a:cubicBezTo>
                <a:cubicBezTo>
                  <a:pt x="18694" y="10122"/>
                  <a:pt x="18718" y="10114"/>
                  <a:pt x="18777" y="10120"/>
                </a:cubicBezTo>
                <a:cubicBezTo>
                  <a:pt x="18752" y="10298"/>
                  <a:pt x="18705" y="10291"/>
                  <a:pt x="18529" y="10269"/>
                </a:cubicBezTo>
              </a:path>
              <a:path w="4565" h="5533">
                <a:moveTo>
                  <a:pt x="19100" y="8508"/>
                </a:moveTo>
                <a:cubicBezTo>
                  <a:pt x="19110" y="8755"/>
                  <a:pt x="19172" y="8964"/>
                  <a:pt x="19224" y="9203"/>
                </a:cubicBezTo>
                <a:cubicBezTo>
                  <a:pt x="19248" y="9311"/>
                  <a:pt x="19225" y="9422"/>
                  <a:pt x="19248" y="9525"/>
                </a:cubicBezTo>
                <a:cubicBezTo>
                  <a:pt x="19264" y="9598"/>
                  <a:pt x="19273" y="9707"/>
                  <a:pt x="19298" y="9773"/>
                </a:cubicBezTo>
                <a:cubicBezTo>
                  <a:pt x="19306" y="9781"/>
                  <a:pt x="19315" y="9790"/>
                  <a:pt x="19323" y="9798"/>
                </a:cubicBezTo>
              </a:path>
              <a:path w="4565" h="5533">
                <a:moveTo>
                  <a:pt x="19075" y="9674"/>
                </a:moveTo>
                <a:cubicBezTo>
                  <a:pt x="19152" y="9725"/>
                  <a:pt x="19205" y="9823"/>
                  <a:pt x="19298" y="9773"/>
                </a:cubicBezTo>
                <a:cubicBezTo>
                  <a:pt x="19371" y="9734"/>
                  <a:pt x="19389" y="9665"/>
                  <a:pt x="19422" y="9599"/>
                </a:cubicBezTo>
              </a:path>
              <a:path w="4565" h="5533">
                <a:moveTo>
                  <a:pt x="19174" y="9996"/>
                </a:moveTo>
                <a:cubicBezTo>
                  <a:pt x="19166" y="9980"/>
                  <a:pt x="19157" y="9963"/>
                  <a:pt x="19149" y="9947"/>
                </a:cubicBezTo>
                <a:cubicBezTo>
                  <a:pt x="19247" y="9921"/>
                  <a:pt x="19306" y="9882"/>
                  <a:pt x="19397" y="9922"/>
                </a:cubicBezTo>
                <a:cubicBezTo>
                  <a:pt x="19346" y="10049"/>
                  <a:pt x="19336" y="10079"/>
                  <a:pt x="19397" y="10195"/>
                </a:cubicBezTo>
                <a:cubicBezTo>
                  <a:pt x="19405" y="10211"/>
                  <a:pt x="19414" y="10228"/>
                  <a:pt x="19422" y="10244"/>
                </a:cubicBezTo>
              </a:path>
              <a:path w="4565" h="5533">
                <a:moveTo>
                  <a:pt x="18802" y="10393"/>
                </a:moveTo>
                <a:cubicBezTo>
                  <a:pt x="18841" y="10383"/>
                  <a:pt x="19006" y="10316"/>
                  <a:pt x="19000" y="10418"/>
                </a:cubicBezTo>
                <a:cubicBezTo>
                  <a:pt x="18992" y="10435"/>
                  <a:pt x="18984" y="10451"/>
                  <a:pt x="18976" y="10468"/>
                </a:cubicBezTo>
                <a:cubicBezTo>
                  <a:pt x="19032" y="10474"/>
                  <a:pt x="19198" y="10503"/>
                  <a:pt x="19100" y="10592"/>
                </a:cubicBezTo>
                <a:cubicBezTo>
                  <a:pt x="19059" y="10612"/>
                  <a:pt x="19053" y="10620"/>
                  <a:pt x="19025" y="10616"/>
                </a:cubicBezTo>
              </a:path>
              <a:path w="4565" h="5533">
                <a:moveTo>
                  <a:pt x="19422" y="10393"/>
                </a:moveTo>
                <a:cubicBezTo>
                  <a:pt x="19442" y="10353"/>
                  <a:pt x="19451" y="10347"/>
                  <a:pt x="19447" y="10319"/>
                </a:cubicBezTo>
                <a:cubicBezTo>
                  <a:pt x="19455" y="10410"/>
                  <a:pt x="19474" y="10496"/>
                  <a:pt x="19596" y="10492"/>
                </a:cubicBezTo>
                <a:cubicBezTo>
                  <a:pt x="19644" y="10491"/>
                  <a:pt x="19843" y="10423"/>
                  <a:pt x="19819" y="10344"/>
                </a:cubicBezTo>
                <a:cubicBezTo>
                  <a:pt x="19779" y="10213"/>
                  <a:pt x="19679" y="10447"/>
                  <a:pt x="19670" y="10468"/>
                </a:cubicBezTo>
              </a:path>
              <a:path w="4565" h="5533">
                <a:moveTo>
                  <a:pt x="18331" y="10368"/>
                </a:moveTo>
                <a:cubicBezTo>
                  <a:pt x="18364" y="10376"/>
                  <a:pt x="18397" y="10385"/>
                  <a:pt x="18430" y="10393"/>
                </a:cubicBezTo>
              </a:path>
              <a:path w="4565" h="5533">
                <a:moveTo>
                  <a:pt x="18802" y="10716"/>
                </a:moveTo>
                <a:cubicBezTo>
                  <a:pt x="19128" y="10689"/>
                  <a:pt x="19444" y="10593"/>
                  <a:pt x="19769" y="10542"/>
                </a:cubicBezTo>
                <a:cubicBezTo>
                  <a:pt x="19934" y="10521"/>
                  <a:pt x="19967" y="10513"/>
                  <a:pt x="20067" y="10517"/>
                </a:cubicBezTo>
              </a:path>
              <a:path w="4565" h="5533">
                <a:moveTo>
                  <a:pt x="19993" y="10666"/>
                </a:moveTo>
                <a:cubicBezTo>
                  <a:pt x="19980" y="10789"/>
                  <a:pt x="19958" y="10809"/>
                  <a:pt x="20017" y="10914"/>
                </a:cubicBezTo>
              </a:path>
              <a:path w="4565" h="5533">
                <a:moveTo>
                  <a:pt x="19745" y="7565"/>
                </a:moveTo>
                <a:cubicBezTo>
                  <a:pt x="19575" y="7673"/>
                  <a:pt x="19555" y="7857"/>
                  <a:pt x="19596" y="8062"/>
                </a:cubicBezTo>
                <a:cubicBezTo>
                  <a:pt x="19612" y="8103"/>
                  <a:pt x="19629" y="8145"/>
                  <a:pt x="19645" y="8186"/>
                </a:cubicBezTo>
                <a:cubicBezTo>
                  <a:pt x="19827" y="8185"/>
                  <a:pt x="20021" y="8110"/>
                  <a:pt x="19943" y="7863"/>
                </a:cubicBezTo>
                <a:cubicBezTo>
                  <a:pt x="19876" y="7773"/>
                  <a:pt x="19857" y="7749"/>
                  <a:pt x="19819" y="7689"/>
                </a:cubicBezTo>
              </a:path>
              <a:path w="4565" h="5533">
                <a:moveTo>
                  <a:pt x="18430" y="6945"/>
                </a:moveTo>
                <a:cubicBezTo>
                  <a:pt x="18356" y="6897"/>
                  <a:pt x="18401" y="6887"/>
                  <a:pt x="18331" y="6945"/>
                </a:cubicBezTo>
                <a:cubicBezTo>
                  <a:pt x="18391" y="6971"/>
                  <a:pt x="18390" y="6970"/>
                  <a:pt x="18455" y="6970"/>
                </a:cubicBezTo>
              </a:path>
              <a:path w="4565" h="5533">
                <a:moveTo>
                  <a:pt x="17686" y="11212"/>
                </a:moveTo>
                <a:cubicBezTo>
                  <a:pt x="17699" y="11246"/>
                  <a:pt x="17682" y="11502"/>
                  <a:pt x="17711" y="11509"/>
                </a:cubicBezTo>
                <a:cubicBezTo>
                  <a:pt x="17751" y="11518"/>
                  <a:pt x="17879" y="11485"/>
                  <a:pt x="17934" y="11485"/>
                </a:cubicBezTo>
              </a:path>
              <a:path w="4565" h="5533">
                <a:moveTo>
                  <a:pt x="17884" y="11137"/>
                </a:moveTo>
                <a:cubicBezTo>
                  <a:pt x="17884" y="11330"/>
                  <a:pt x="17895" y="11517"/>
                  <a:pt x="17909" y="11708"/>
                </a:cubicBezTo>
                <a:cubicBezTo>
                  <a:pt x="17909" y="11733"/>
                  <a:pt x="17909" y="11757"/>
                  <a:pt x="17909" y="11782"/>
                </a:cubicBezTo>
              </a:path>
              <a:path w="4565" h="5533">
                <a:moveTo>
                  <a:pt x="18355" y="11609"/>
                </a:moveTo>
                <a:cubicBezTo>
                  <a:pt x="18275" y="11597"/>
                  <a:pt x="18238" y="11717"/>
                  <a:pt x="18306" y="11733"/>
                </a:cubicBezTo>
                <a:cubicBezTo>
                  <a:pt x="18322" y="11725"/>
                  <a:pt x="18339" y="11716"/>
                  <a:pt x="18355" y="11708"/>
                </a:cubicBezTo>
                <a:cubicBezTo>
                  <a:pt x="18325" y="11602"/>
                  <a:pt x="18218" y="11652"/>
                  <a:pt x="18256" y="11708"/>
                </a:cubicBezTo>
                <a:cubicBezTo>
                  <a:pt x="18301" y="11775"/>
                  <a:pt x="18314" y="11706"/>
                  <a:pt x="18256" y="11658"/>
                </a:cubicBezTo>
              </a:path>
              <a:path w="4565" h="5533">
                <a:moveTo>
                  <a:pt x="18802" y="11212"/>
                </a:moveTo>
                <a:cubicBezTo>
                  <a:pt x="18696" y="11257"/>
                  <a:pt x="18707" y="11384"/>
                  <a:pt x="18703" y="11509"/>
                </a:cubicBezTo>
                <a:cubicBezTo>
                  <a:pt x="18703" y="11585"/>
                  <a:pt x="18703" y="11611"/>
                  <a:pt x="18678" y="11658"/>
                </a:cubicBezTo>
                <a:cubicBezTo>
                  <a:pt x="18762" y="11679"/>
                  <a:pt x="18857" y="11725"/>
                  <a:pt x="18901" y="11633"/>
                </a:cubicBezTo>
                <a:cubicBezTo>
                  <a:pt x="18949" y="11532"/>
                  <a:pt x="18916" y="11456"/>
                  <a:pt x="18876" y="11361"/>
                </a:cubicBezTo>
                <a:cubicBezTo>
                  <a:pt x="18849" y="11297"/>
                  <a:pt x="18800" y="11261"/>
                  <a:pt x="18752" y="11212"/>
                </a:cubicBezTo>
                <a:cubicBezTo>
                  <a:pt x="18744" y="11204"/>
                  <a:pt x="18736" y="11195"/>
                  <a:pt x="18728" y="11187"/>
                </a:cubicBezTo>
              </a:path>
              <a:path w="4565" h="5533">
                <a:moveTo>
                  <a:pt x="19298" y="11162"/>
                </a:moveTo>
                <a:cubicBezTo>
                  <a:pt x="19272" y="11249"/>
                  <a:pt x="19255" y="11365"/>
                  <a:pt x="19273" y="11460"/>
                </a:cubicBezTo>
                <a:cubicBezTo>
                  <a:pt x="19295" y="11579"/>
                  <a:pt x="19367" y="11591"/>
                  <a:pt x="19447" y="11584"/>
                </a:cubicBezTo>
                <a:cubicBezTo>
                  <a:pt x="19518" y="11578"/>
                  <a:pt x="19576" y="11571"/>
                  <a:pt x="19596" y="11485"/>
                </a:cubicBezTo>
                <a:cubicBezTo>
                  <a:pt x="19596" y="11468"/>
                  <a:pt x="19596" y="11452"/>
                  <a:pt x="19596" y="11435"/>
                </a:cubicBezTo>
                <a:cubicBezTo>
                  <a:pt x="19483" y="11390"/>
                  <a:pt x="19462" y="11380"/>
                  <a:pt x="19397" y="11509"/>
                </a:cubicBezTo>
                <a:cubicBezTo>
                  <a:pt x="19377" y="11570"/>
                  <a:pt x="19358" y="11585"/>
                  <a:pt x="19397" y="11609"/>
                </a:cubicBezTo>
              </a:path>
              <a:path w="4565" h="5533">
                <a:moveTo>
                  <a:pt x="19348" y="10914"/>
                </a:moveTo>
                <a:cubicBezTo>
                  <a:pt x="19269" y="10864"/>
                  <a:pt x="19217" y="10844"/>
                  <a:pt x="19124" y="10815"/>
                </a:cubicBezTo>
                <a:cubicBezTo>
                  <a:pt x="18982" y="10771"/>
                  <a:pt x="18854" y="10750"/>
                  <a:pt x="18703" y="10765"/>
                </a:cubicBezTo>
                <a:cubicBezTo>
                  <a:pt x="18533" y="10781"/>
                  <a:pt x="18319" y="10807"/>
                  <a:pt x="18157" y="10864"/>
                </a:cubicBezTo>
                <a:cubicBezTo>
                  <a:pt x="18031" y="10908"/>
                  <a:pt x="17719" y="11038"/>
                  <a:pt x="17686" y="11187"/>
                </a:cubicBezTo>
                <a:cubicBezTo>
                  <a:pt x="17660" y="11305"/>
                  <a:pt x="17653" y="11421"/>
                  <a:pt x="17661" y="11534"/>
                </a:cubicBezTo>
                <a:cubicBezTo>
                  <a:pt x="17674" y="11720"/>
                  <a:pt x="17733" y="11760"/>
                  <a:pt x="17859" y="11881"/>
                </a:cubicBezTo>
                <a:cubicBezTo>
                  <a:pt x="17909" y="11929"/>
                  <a:pt x="17945" y="11976"/>
                  <a:pt x="18008" y="12005"/>
                </a:cubicBezTo>
                <a:cubicBezTo>
                  <a:pt x="18106" y="12050"/>
                  <a:pt x="18197" y="12095"/>
                  <a:pt x="18306" y="12105"/>
                </a:cubicBezTo>
                <a:cubicBezTo>
                  <a:pt x="18466" y="12120"/>
                  <a:pt x="18621" y="12093"/>
                  <a:pt x="18777" y="12080"/>
                </a:cubicBezTo>
                <a:cubicBezTo>
                  <a:pt x="18883" y="12071"/>
                  <a:pt x="18975" y="12058"/>
                  <a:pt x="19075" y="12030"/>
                </a:cubicBezTo>
                <a:cubicBezTo>
                  <a:pt x="19181" y="12001"/>
                  <a:pt x="19294" y="11983"/>
                  <a:pt x="19397" y="11956"/>
                </a:cubicBezTo>
                <a:cubicBezTo>
                  <a:pt x="19470" y="11937"/>
                  <a:pt x="19562" y="11880"/>
                  <a:pt x="19621" y="11832"/>
                </a:cubicBezTo>
                <a:cubicBezTo>
                  <a:pt x="19673" y="11790"/>
                  <a:pt x="19738" y="11670"/>
                  <a:pt x="19769" y="11609"/>
                </a:cubicBezTo>
                <a:cubicBezTo>
                  <a:pt x="19812" y="11526"/>
                  <a:pt x="19794" y="11425"/>
                  <a:pt x="19794" y="11336"/>
                </a:cubicBezTo>
                <a:cubicBezTo>
                  <a:pt x="19794" y="11243"/>
                  <a:pt x="19756" y="11150"/>
                  <a:pt x="19720" y="11063"/>
                </a:cubicBezTo>
                <a:cubicBezTo>
                  <a:pt x="19688" y="10985"/>
                  <a:pt x="19641" y="10954"/>
                  <a:pt x="19596" y="10889"/>
                </a:cubicBezTo>
                <a:cubicBezTo>
                  <a:pt x="19554" y="10828"/>
                  <a:pt x="19470" y="10768"/>
                  <a:pt x="19397" y="10740"/>
                </a:cubicBezTo>
                <a:cubicBezTo>
                  <a:pt x="19311" y="10707"/>
                  <a:pt x="19244" y="10696"/>
                  <a:pt x="19149" y="10716"/>
                </a:cubicBezTo>
                <a:cubicBezTo>
                  <a:pt x="19065" y="10734"/>
                  <a:pt x="19022" y="10736"/>
                  <a:pt x="18976" y="10815"/>
                </a:cubicBezTo>
                <a:cubicBezTo>
                  <a:pt x="18968" y="10831"/>
                  <a:pt x="18959" y="10848"/>
                  <a:pt x="18951" y="10864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18120" y="4705200"/>
            <a:ext cx="1179720" cy="1644840"/>
          </a:xfrm>
          <a:custGeom>
            <a:avLst/>
            <a:gdLst/>
            <a:ahLst/>
            <a:rect l="l" t="t" r="r" b="b"/>
            <a:pathLst>
              <a:path w="3276" h="4565">
                <a:moveTo>
                  <a:pt x="17214" y="13295"/>
                </a:moveTo>
                <a:lnTo>
                  <a:pt x="17214" y="13295"/>
                </a:lnTo>
              </a:path>
              <a:path w="3276" h="4565">
                <a:moveTo>
                  <a:pt x="17214" y="13271"/>
                </a:moveTo>
                <a:cubicBezTo>
                  <a:pt x="17198" y="13254"/>
                  <a:pt x="17181" y="13238"/>
                  <a:pt x="17165" y="13221"/>
                </a:cubicBezTo>
                <a:cubicBezTo>
                  <a:pt x="17165" y="13313"/>
                  <a:pt x="17167" y="13340"/>
                  <a:pt x="17140" y="13395"/>
                </a:cubicBezTo>
                <a:cubicBezTo>
                  <a:pt x="17201" y="13412"/>
                  <a:pt x="17286" y="13400"/>
                  <a:pt x="17363" y="13395"/>
                </a:cubicBezTo>
              </a:path>
              <a:path w="3276" h="4565">
                <a:moveTo>
                  <a:pt x="17338" y="13122"/>
                </a:moveTo>
                <a:cubicBezTo>
                  <a:pt x="17346" y="13313"/>
                  <a:pt x="17363" y="13501"/>
                  <a:pt x="17363" y="13692"/>
                </a:cubicBezTo>
              </a:path>
              <a:path w="3276" h="4565">
                <a:moveTo>
                  <a:pt x="17661" y="13271"/>
                </a:moveTo>
                <a:cubicBezTo>
                  <a:pt x="17596" y="13314"/>
                  <a:pt x="17581" y="13325"/>
                  <a:pt x="17537" y="13345"/>
                </a:cubicBezTo>
                <a:cubicBezTo>
                  <a:pt x="17570" y="13475"/>
                  <a:pt x="17738" y="13497"/>
                  <a:pt x="17785" y="13618"/>
                </a:cubicBezTo>
                <a:cubicBezTo>
                  <a:pt x="17777" y="13634"/>
                  <a:pt x="17768" y="13651"/>
                  <a:pt x="17760" y="13667"/>
                </a:cubicBezTo>
                <a:cubicBezTo>
                  <a:pt x="17617" y="13626"/>
                  <a:pt x="17724" y="13458"/>
                  <a:pt x="17760" y="13345"/>
                </a:cubicBezTo>
                <a:cubicBezTo>
                  <a:pt x="17768" y="13320"/>
                  <a:pt x="17777" y="13296"/>
                  <a:pt x="17785" y="13271"/>
                </a:cubicBezTo>
              </a:path>
              <a:path w="3276" h="4565">
                <a:moveTo>
                  <a:pt x="17165" y="13841"/>
                </a:moveTo>
                <a:cubicBezTo>
                  <a:pt x="17438" y="13833"/>
                  <a:pt x="17709" y="13816"/>
                  <a:pt x="17983" y="13816"/>
                </a:cubicBezTo>
              </a:path>
              <a:path w="3276" h="4565">
                <a:moveTo>
                  <a:pt x="16718" y="13618"/>
                </a:moveTo>
                <a:cubicBezTo>
                  <a:pt x="16796" y="13618"/>
                  <a:pt x="16838" y="13608"/>
                  <a:pt x="16892" y="13568"/>
                </a:cubicBezTo>
              </a:path>
              <a:path w="3276" h="4565">
                <a:moveTo>
                  <a:pt x="17810" y="14163"/>
                </a:moveTo>
                <a:cubicBezTo>
                  <a:pt x="17843" y="14003"/>
                  <a:pt x="17705" y="14446"/>
                  <a:pt x="17711" y="14511"/>
                </a:cubicBezTo>
                <a:cubicBezTo>
                  <a:pt x="17727" y="14544"/>
                  <a:pt x="17744" y="14577"/>
                  <a:pt x="17760" y="14610"/>
                </a:cubicBezTo>
                <a:cubicBezTo>
                  <a:pt x="17984" y="14524"/>
                  <a:pt x="17962" y="14416"/>
                  <a:pt x="17884" y="14213"/>
                </a:cubicBezTo>
              </a:path>
              <a:path w="3276" h="4565">
                <a:moveTo>
                  <a:pt x="18752" y="13097"/>
                </a:moveTo>
                <a:cubicBezTo>
                  <a:pt x="18679" y="13072"/>
                  <a:pt x="18747" y="13253"/>
                  <a:pt x="18752" y="13320"/>
                </a:cubicBezTo>
                <a:cubicBezTo>
                  <a:pt x="18762" y="13444"/>
                  <a:pt x="18772" y="13569"/>
                  <a:pt x="18777" y="13692"/>
                </a:cubicBezTo>
                <a:cubicBezTo>
                  <a:pt x="18780" y="13768"/>
                  <a:pt x="18798" y="13823"/>
                  <a:pt x="18802" y="13891"/>
                </a:cubicBezTo>
                <a:cubicBezTo>
                  <a:pt x="18802" y="13907"/>
                  <a:pt x="18802" y="13924"/>
                  <a:pt x="18802" y="13940"/>
                </a:cubicBezTo>
              </a:path>
              <a:path w="3276" h="4565">
                <a:moveTo>
                  <a:pt x="18678" y="13940"/>
                </a:moveTo>
                <a:cubicBezTo>
                  <a:pt x="18725" y="13980"/>
                  <a:pt x="18773" y="14009"/>
                  <a:pt x="18827" y="14039"/>
                </a:cubicBezTo>
                <a:cubicBezTo>
                  <a:pt x="18855" y="13966"/>
                  <a:pt x="18881" y="13904"/>
                  <a:pt x="18926" y="13841"/>
                </a:cubicBezTo>
              </a:path>
              <a:path w="3276" h="4565">
                <a:moveTo>
                  <a:pt x="18678" y="14139"/>
                </a:moveTo>
                <a:cubicBezTo>
                  <a:pt x="18781" y="14190"/>
                  <a:pt x="18806" y="14188"/>
                  <a:pt x="18926" y="14188"/>
                </a:cubicBezTo>
                <a:cubicBezTo>
                  <a:pt x="18949" y="14316"/>
                  <a:pt x="18926" y="14469"/>
                  <a:pt x="18926" y="14610"/>
                </a:cubicBezTo>
                <a:cubicBezTo>
                  <a:pt x="18926" y="14627"/>
                  <a:pt x="18926" y="14643"/>
                  <a:pt x="18926" y="14660"/>
                </a:cubicBezTo>
              </a:path>
              <a:path w="3276" h="4565">
                <a:moveTo>
                  <a:pt x="19000" y="14734"/>
                </a:moveTo>
                <a:cubicBezTo>
                  <a:pt x="18873" y="14747"/>
                  <a:pt x="18871" y="14809"/>
                  <a:pt x="18827" y="14932"/>
                </a:cubicBezTo>
                <a:cubicBezTo>
                  <a:pt x="18797" y="15015"/>
                  <a:pt x="18813" y="15090"/>
                  <a:pt x="18926" y="15081"/>
                </a:cubicBezTo>
                <a:cubicBezTo>
                  <a:pt x="19008" y="15074"/>
                  <a:pt x="19097" y="15010"/>
                  <a:pt x="19124" y="14932"/>
                </a:cubicBezTo>
                <a:cubicBezTo>
                  <a:pt x="19151" y="14853"/>
                  <a:pt x="19072" y="14820"/>
                  <a:pt x="19025" y="14784"/>
                </a:cubicBezTo>
              </a:path>
              <a:path w="3276" h="4565">
                <a:moveTo>
                  <a:pt x="17760" y="15553"/>
                </a:moveTo>
                <a:cubicBezTo>
                  <a:pt x="18158" y="15488"/>
                  <a:pt x="18546" y="15404"/>
                  <a:pt x="18951" y="15379"/>
                </a:cubicBezTo>
                <a:cubicBezTo>
                  <a:pt x="19067" y="15379"/>
                  <a:pt x="19083" y="15379"/>
                  <a:pt x="19149" y="15379"/>
                </a:cubicBezTo>
              </a:path>
              <a:path w="3276" h="4565">
                <a:moveTo>
                  <a:pt x="18752" y="15652"/>
                </a:moveTo>
                <a:cubicBezTo>
                  <a:pt x="18861" y="15632"/>
                  <a:pt x="18962" y="15588"/>
                  <a:pt x="19075" y="15577"/>
                </a:cubicBezTo>
                <a:cubicBezTo>
                  <a:pt x="19103" y="15716"/>
                  <a:pt x="19031" y="15854"/>
                  <a:pt x="19000" y="15999"/>
                </a:cubicBezTo>
                <a:cubicBezTo>
                  <a:pt x="18982" y="16090"/>
                  <a:pt x="18974" y="16097"/>
                  <a:pt x="18976" y="16148"/>
                </a:cubicBezTo>
              </a:path>
              <a:path w="3276" h="4565">
                <a:moveTo>
                  <a:pt x="19323" y="13469"/>
                </a:moveTo>
                <a:cubicBezTo>
                  <a:pt x="19323" y="13440"/>
                  <a:pt x="19323" y="13215"/>
                  <a:pt x="19323" y="13345"/>
                </a:cubicBezTo>
                <a:cubicBezTo>
                  <a:pt x="19323" y="13559"/>
                  <a:pt x="19355" y="13754"/>
                  <a:pt x="19372" y="13965"/>
                </a:cubicBezTo>
                <a:cubicBezTo>
                  <a:pt x="19383" y="14101"/>
                  <a:pt x="19379" y="14232"/>
                  <a:pt x="19372" y="14362"/>
                </a:cubicBezTo>
                <a:cubicBezTo>
                  <a:pt x="19362" y="14539"/>
                  <a:pt x="19393" y="14708"/>
                  <a:pt x="19397" y="14883"/>
                </a:cubicBezTo>
                <a:cubicBezTo>
                  <a:pt x="19399" y="14997"/>
                  <a:pt x="19409" y="15095"/>
                  <a:pt x="19422" y="15205"/>
                </a:cubicBezTo>
                <a:cubicBezTo>
                  <a:pt x="19434" y="15306"/>
                  <a:pt x="19397" y="15330"/>
                  <a:pt x="19447" y="15429"/>
                </a:cubicBezTo>
              </a:path>
              <a:path w="3276" h="4565">
                <a:moveTo>
                  <a:pt x="19298" y="15205"/>
                </a:moveTo>
                <a:cubicBezTo>
                  <a:pt x="19350" y="15322"/>
                  <a:pt x="19364" y="15352"/>
                  <a:pt x="19496" y="15379"/>
                </a:cubicBezTo>
                <a:cubicBezTo>
                  <a:pt x="19540" y="15284"/>
                  <a:pt x="19584" y="15204"/>
                  <a:pt x="19621" y="15106"/>
                </a:cubicBezTo>
              </a:path>
              <a:path w="3276" h="4565">
                <a:moveTo>
                  <a:pt x="19546" y="15825"/>
                </a:moveTo>
                <a:cubicBezTo>
                  <a:pt x="19507" y="15722"/>
                  <a:pt x="19521" y="15712"/>
                  <a:pt x="19621" y="15652"/>
                </a:cubicBezTo>
                <a:cubicBezTo>
                  <a:pt x="19672" y="15621"/>
                  <a:pt x="19688" y="15627"/>
                  <a:pt x="19745" y="15627"/>
                </a:cubicBezTo>
                <a:cubicBezTo>
                  <a:pt x="19781" y="15738"/>
                  <a:pt x="19760" y="15835"/>
                  <a:pt x="19670" y="15925"/>
                </a:cubicBezTo>
                <a:cubicBezTo>
                  <a:pt x="19613" y="15982"/>
                  <a:pt x="19504" y="16034"/>
                  <a:pt x="19472" y="16098"/>
                </a:cubicBezTo>
                <a:cubicBezTo>
                  <a:pt x="19556" y="16051"/>
                  <a:pt x="19620" y="16005"/>
                  <a:pt x="19720" y="15999"/>
                </a:cubicBezTo>
                <a:cubicBezTo>
                  <a:pt x="19811" y="15994"/>
                  <a:pt x="19862" y="16077"/>
                  <a:pt x="19943" y="16073"/>
                </a:cubicBezTo>
                <a:cubicBezTo>
                  <a:pt x="19960" y="16065"/>
                  <a:pt x="19976" y="16057"/>
                  <a:pt x="19993" y="16049"/>
                </a:cubicBezTo>
              </a:path>
              <a:path w="3276" h="4565">
                <a:moveTo>
                  <a:pt x="19050" y="16346"/>
                </a:moveTo>
                <a:cubicBezTo>
                  <a:pt x="19056" y="16359"/>
                  <a:pt x="19176" y="16346"/>
                  <a:pt x="19273" y="16346"/>
                </a:cubicBezTo>
                <a:cubicBezTo>
                  <a:pt x="19245" y="16476"/>
                  <a:pt x="19171" y="16611"/>
                  <a:pt x="19124" y="16743"/>
                </a:cubicBezTo>
                <a:cubicBezTo>
                  <a:pt x="19116" y="16768"/>
                  <a:pt x="19108" y="16793"/>
                  <a:pt x="19100" y="16818"/>
                </a:cubicBezTo>
              </a:path>
              <a:path w="3276" h="4565">
                <a:moveTo>
                  <a:pt x="19472" y="16371"/>
                </a:moveTo>
                <a:cubicBezTo>
                  <a:pt x="19558" y="16359"/>
                  <a:pt x="19633" y="16346"/>
                  <a:pt x="19720" y="16346"/>
                </a:cubicBezTo>
                <a:cubicBezTo>
                  <a:pt x="19733" y="16509"/>
                  <a:pt x="19651" y="16626"/>
                  <a:pt x="19521" y="16743"/>
                </a:cubicBezTo>
                <a:cubicBezTo>
                  <a:pt x="19349" y="16898"/>
                  <a:pt x="19723" y="16725"/>
                  <a:pt x="19794" y="16694"/>
                </a:cubicBezTo>
              </a:path>
              <a:path w="3276" h="4565">
                <a:moveTo>
                  <a:pt x="18703" y="16644"/>
                </a:moveTo>
                <a:cubicBezTo>
                  <a:pt x="18814" y="16606"/>
                  <a:pt x="18907" y="16600"/>
                  <a:pt x="19025" y="16594"/>
                </a:cubicBezTo>
              </a:path>
              <a:path w="3276" h="4565">
                <a:moveTo>
                  <a:pt x="18852" y="17115"/>
                </a:moveTo>
                <a:cubicBezTo>
                  <a:pt x="19117" y="17095"/>
                  <a:pt x="19375" y="17024"/>
                  <a:pt x="19645" y="17041"/>
                </a:cubicBezTo>
                <a:cubicBezTo>
                  <a:pt x="19695" y="17049"/>
                  <a:pt x="19744" y="17058"/>
                  <a:pt x="19794" y="17066"/>
                </a:cubicBezTo>
              </a:path>
              <a:path w="3276" h="4565">
                <a:moveTo>
                  <a:pt x="19621" y="17314"/>
                </a:moveTo>
                <a:cubicBezTo>
                  <a:pt x="19504" y="17404"/>
                  <a:pt x="19483" y="17466"/>
                  <a:pt x="19472" y="17611"/>
                </a:cubicBezTo>
                <a:cubicBezTo>
                  <a:pt x="19634" y="17660"/>
                  <a:pt x="19714" y="17613"/>
                  <a:pt x="19794" y="17462"/>
                </a:cubicBezTo>
                <a:cubicBezTo>
                  <a:pt x="19854" y="17349"/>
                  <a:pt x="19758" y="17363"/>
                  <a:pt x="19670" y="17338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24800" y="2330280"/>
            <a:ext cx="106200" cy="187560"/>
          </a:xfrm>
          <a:custGeom>
            <a:avLst/>
            <a:gdLst/>
            <a:ahLst/>
            <a:rect l="l" t="t" r="r" b="b"/>
            <a:pathLst>
              <a:path w="299" h="522">
                <a:moveTo>
                  <a:pt x="18728" y="6499"/>
                </a:moveTo>
                <a:cubicBezTo>
                  <a:pt x="18736" y="6491"/>
                  <a:pt x="18744" y="6482"/>
                  <a:pt x="18752" y="6474"/>
                </a:cubicBezTo>
              </a:path>
              <a:path w="299" h="522">
                <a:moveTo>
                  <a:pt x="18703" y="6573"/>
                </a:moveTo>
                <a:cubicBezTo>
                  <a:pt x="18700" y="6614"/>
                  <a:pt x="18643" y="6796"/>
                  <a:pt x="18728" y="6796"/>
                </a:cubicBezTo>
                <a:cubicBezTo>
                  <a:pt x="18800" y="6796"/>
                  <a:pt x="18920" y="6764"/>
                  <a:pt x="18976" y="6722"/>
                </a:cubicBezTo>
              </a:path>
              <a:path w="299" h="522">
                <a:moveTo>
                  <a:pt x="18951" y="6548"/>
                </a:moveTo>
                <a:cubicBezTo>
                  <a:pt x="18951" y="6685"/>
                  <a:pt x="18969" y="6812"/>
                  <a:pt x="18976" y="6945"/>
                </a:cubicBezTo>
                <a:cubicBezTo>
                  <a:pt x="18976" y="6962"/>
                  <a:pt x="18976" y="6978"/>
                  <a:pt x="18976" y="6995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56200" y="2384280"/>
            <a:ext cx="142920" cy="142920"/>
          </a:xfrm>
          <a:custGeom>
            <a:avLst/>
            <a:gdLst/>
            <a:ahLst/>
            <a:rect l="l" t="t" r="r" b="b"/>
            <a:pathLst>
              <a:path w="398" h="398">
                <a:moveTo>
                  <a:pt x="16694" y="6623"/>
                </a:moveTo>
                <a:cubicBezTo>
                  <a:pt x="16607" y="6635"/>
                  <a:pt x="16560" y="6700"/>
                  <a:pt x="16545" y="6796"/>
                </a:cubicBezTo>
                <a:cubicBezTo>
                  <a:pt x="16528" y="6903"/>
                  <a:pt x="16572" y="7029"/>
                  <a:pt x="16694" y="7020"/>
                </a:cubicBezTo>
                <a:cubicBezTo>
                  <a:pt x="16753" y="7015"/>
                  <a:pt x="16864" y="6955"/>
                  <a:pt x="16892" y="6896"/>
                </a:cubicBezTo>
                <a:cubicBezTo>
                  <a:pt x="16926" y="6823"/>
                  <a:pt x="16972" y="6733"/>
                  <a:pt x="16892" y="6672"/>
                </a:cubicBezTo>
                <a:cubicBezTo>
                  <a:pt x="16848" y="6638"/>
                  <a:pt x="16774" y="6609"/>
                  <a:pt x="16718" y="6623"/>
                </a:cubicBezTo>
                <a:cubicBezTo>
                  <a:pt x="16693" y="6631"/>
                  <a:pt x="16669" y="6640"/>
                  <a:pt x="16644" y="6648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05680" y="2357280"/>
            <a:ext cx="90360" cy="160560"/>
          </a:xfrm>
          <a:custGeom>
            <a:avLst/>
            <a:gdLst/>
            <a:ahLst/>
            <a:rect l="l" t="t" r="r" b="b"/>
            <a:pathLst>
              <a:path w="249" h="448">
                <a:moveTo>
                  <a:pt x="17239" y="6598"/>
                </a:moveTo>
                <a:cubicBezTo>
                  <a:pt x="17309" y="6563"/>
                  <a:pt x="17409" y="6532"/>
                  <a:pt x="17388" y="6672"/>
                </a:cubicBezTo>
                <a:cubicBezTo>
                  <a:pt x="17363" y="6722"/>
                  <a:pt x="17355" y="6739"/>
                  <a:pt x="17338" y="6772"/>
                </a:cubicBezTo>
                <a:cubicBezTo>
                  <a:pt x="17390" y="6735"/>
                  <a:pt x="17547" y="6742"/>
                  <a:pt x="17487" y="6871"/>
                </a:cubicBezTo>
                <a:cubicBezTo>
                  <a:pt x="17448" y="6957"/>
                  <a:pt x="17341" y="6969"/>
                  <a:pt x="17264" y="6995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73120" y="4697280"/>
            <a:ext cx="1866960" cy="2106720"/>
          </a:xfrm>
          <a:custGeom>
            <a:avLst/>
            <a:gdLst/>
            <a:ahLst/>
            <a:rect l="l" t="t" r="r" b="b"/>
            <a:pathLst>
              <a:path w="5185" h="5855">
                <a:moveTo>
                  <a:pt x="4242" y="14635"/>
                </a:moveTo>
                <a:cubicBezTo>
                  <a:pt x="4211" y="14542"/>
                  <a:pt x="4318" y="14430"/>
                  <a:pt x="4440" y="14436"/>
                </a:cubicBezTo>
                <a:cubicBezTo>
                  <a:pt x="4777" y="14454"/>
                  <a:pt x="4594" y="14932"/>
                  <a:pt x="4465" y="15056"/>
                </a:cubicBezTo>
                <a:cubicBezTo>
                  <a:pt x="4291" y="15224"/>
                  <a:pt x="4210" y="15174"/>
                  <a:pt x="4093" y="15056"/>
                </a:cubicBezTo>
                <a:cubicBezTo>
                  <a:pt x="4207" y="14927"/>
                  <a:pt x="4405" y="14906"/>
                  <a:pt x="4564" y="15007"/>
                </a:cubicBezTo>
                <a:cubicBezTo>
                  <a:pt x="4589" y="15040"/>
                  <a:pt x="4613" y="15073"/>
                  <a:pt x="4638" y="15106"/>
                </a:cubicBezTo>
              </a:path>
              <a:path w="5185" h="5855">
                <a:moveTo>
                  <a:pt x="5085" y="15131"/>
                </a:moveTo>
                <a:cubicBezTo>
                  <a:pt x="5043" y="14869"/>
                  <a:pt x="5013" y="14617"/>
                  <a:pt x="4936" y="14362"/>
                </a:cubicBezTo>
                <a:cubicBezTo>
                  <a:pt x="4917" y="14305"/>
                  <a:pt x="4908" y="14298"/>
                  <a:pt x="4911" y="14263"/>
                </a:cubicBezTo>
                <a:cubicBezTo>
                  <a:pt x="5220" y="14247"/>
                  <a:pt x="5520" y="14155"/>
                  <a:pt x="5829" y="14139"/>
                </a:cubicBezTo>
                <a:cubicBezTo>
                  <a:pt x="6483" y="14105"/>
                  <a:pt x="7135" y="14100"/>
                  <a:pt x="7789" y="14039"/>
                </a:cubicBezTo>
                <a:cubicBezTo>
                  <a:pt x="8009" y="14018"/>
                  <a:pt x="8237" y="13989"/>
                  <a:pt x="8458" y="13965"/>
                </a:cubicBezTo>
              </a:path>
              <a:path w="5185" h="5855">
                <a:moveTo>
                  <a:pt x="5779" y="14461"/>
                </a:moveTo>
                <a:cubicBezTo>
                  <a:pt x="5598" y="14461"/>
                  <a:pt x="5613" y="14465"/>
                  <a:pt x="5531" y="14660"/>
                </a:cubicBezTo>
                <a:cubicBezTo>
                  <a:pt x="5450" y="14854"/>
                  <a:pt x="5439" y="14925"/>
                  <a:pt x="5507" y="15106"/>
                </a:cubicBezTo>
                <a:cubicBezTo>
                  <a:pt x="5722" y="15022"/>
                  <a:pt x="5874" y="14927"/>
                  <a:pt x="5829" y="14660"/>
                </a:cubicBezTo>
                <a:cubicBezTo>
                  <a:pt x="5814" y="14571"/>
                  <a:pt x="5744" y="14568"/>
                  <a:pt x="5680" y="14560"/>
                </a:cubicBezTo>
              </a:path>
              <a:path w="5185" h="5855">
                <a:moveTo>
                  <a:pt x="6176" y="14883"/>
                </a:moveTo>
                <a:cubicBezTo>
                  <a:pt x="6168" y="14899"/>
                  <a:pt x="6160" y="14916"/>
                  <a:pt x="6152" y="14932"/>
                </a:cubicBezTo>
              </a:path>
              <a:path w="5185" h="5855">
                <a:moveTo>
                  <a:pt x="6276" y="14511"/>
                </a:moveTo>
                <a:cubicBezTo>
                  <a:pt x="6394" y="14504"/>
                  <a:pt x="6504" y="14486"/>
                  <a:pt x="6623" y="14486"/>
                </a:cubicBezTo>
                <a:cubicBezTo>
                  <a:pt x="6784" y="14486"/>
                  <a:pt x="6644" y="14849"/>
                  <a:pt x="6623" y="14908"/>
                </a:cubicBezTo>
                <a:cubicBezTo>
                  <a:pt x="6598" y="14957"/>
                  <a:pt x="6589" y="14974"/>
                  <a:pt x="6573" y="15007"/>
                </a:cubicBezTo>
              </a:path>
              <a:path w="5185" h="5855">
                <a:moveTo>
                  <a:pt x="6921" y="14486"/>
                </a:moveTo>
                <a:cubicBezTo>
                  <a:pt x="7015" y="14405"/>
                  <a:pt x="7033" y="14408"/>
                  <a:pt x="7144" y="14387"/>
                </a:cubicBezTo>
                <a:cubicBezTo>
                  <a:pt x="7175" y="14538"/>
                  <a:pt x="7102" y="14601"/>
                  <a:pt x="6970" y="14684"/>
                </a:cubicBezTo>
                <a:cubicBezTo>
                  <a:pt x="6978" y="14676"/>
                  <a:pt x="6987" y="14668"/>
                  <a:pt x="6995" y="14660"/>
                </a:cubicBezTo>
                <a:cubicBezTo>
                  <a:pt x="7086" y="14660"/>
                  <a:pt x="7342" y="14670"/>
                  <a:pt x="7193" y="14858"/>
                </a:cubicBezTo>
                <a:cubicBezTo>
                  <a:pt x="7101" y="14974"/>
                  <a:pt x="6989" y="14950"/>
                  <a:pt x="6896" y="14908"/>
                </a:cubicBezTo>
              </a:path>
              <a:path w="5185" h="5855">
                <a:moveTo>
                  <a:pt x="7491" y="14312"/>
                </a:moveTo>
                <a:cubicBezTo>
                  <a:pt x="7417" y="14474"/>
                  <a:pt x="7356" y="14626"/>
                  <a:pt x="7367" y="14808"/>
                </a:cubicBezTo>
                <a:cubicBezTo>
                  <a:pt x="7375" y="14849"/>
                  <a:pt x="7384" y="14891"/>
                  <a:pt x="7392" y="14932"/>
                </a:cubicBezTo>
                <a:cubicBezTo>
                  <a:pt x="7599" y="14945"/>
                  <a:pt x="7656" y="14899"/>
                  <a:pt x="7739" y="14709"/>
                </a:cubicBezTo>
                <a:cubicBezTo>
                  <a:pt x="7574" y="14720"/>
                  <a:pt x="7572" y="14771"/>
                  <a:pt x="7491" y="14932"/>
                </a:cubicBezTo>
              </a:path>
              <a:path w="5185" h="5855">
                <a:moveTo>
                  <a:pt x="8210" y="14238"/>
                </a:moveTo>
                <a:cubicBezTo>
                  <a:pt x="8045" y="14309"/>
                  <a:pt x="7978" y="14349"/>
                  <a:pt x="7913" y="14511"/>
                </a:cubicBezTo>
                <a:cubicBezTo>
                  <a:pt x="7996" y="14572"/>
                  <a:pt x="8365" y="14693"/>
                  <a:pt x="8334" y="14833"/>
                </a:cubicBezTo>
                <a:cubicBezTo>
                  <a:pt x="8238" y="14929"/>
                  <a:pt x="8210" y="14961"/>
                  <a:pt x="8111" y="14957"/>
                </a:cubicBezTo>
                <a:cubicBezTo>
                  <a:pt x="8071" y="14741"/>
                  <a:pt x="8236" y="14649"/>
                  <a:pt x="8285" y="14436"/>
                </a:cubicBezTo>
                <a:cubicBezTo>
                  <a:pt x="8277" y="14428"/>
                  <a:pt x="8268" y="14420"/>
                  <a:pt x="8260" y="14412"/>
                </a:cubicBezTo>
              </a:path>
              <a:path w="5185" h="5855">
                <a:moveTo>
                  <a:pt x="6152" y="15032"/>
                </a:moveTo>
                <a:cubicBezTo>
                  <a:pt x="6167" y="14951"/>
                  <a:pt x="6245" y="14914"/>
                  <a:pt x="6152" y="14932"/>
                </a:cubicBezTo>
                <a:cubicBezTo>
                  <a:pt x="6166" y="15065"/>
                  <a:pt x="6215" y="15026"/>
                  <a:pt x="6251" y="14908"/>
                </a:cubicBezTo>
                <a:cubicBezTo>
                  <a:pt x="6168" y="14908"/>
                  <a:pt x="6169" y="14908"/>
                  <a:pt x="6127" y="14982"/>
                </a:cubicBezTo>
              </a:path>
              <a:path w="5185" h="5855">
                <a:moveTo>
                  <a:pt x="5383" y="13667"/>
                </a:moveTo>
                <a:cubicBezTo>
                  <a:pt x="5267" y="13622"/>
                  <a:pt x="5258" y="13774"/>
                  <a:pt x="5234" y="13866"/>
                </a:cubicBezTo>
                <a:cubicBezTo>
                  <a:pt x="5213" y="13950"/>
                  <a:pt x="5198" y="13969"/>
                  <a:pt x="5234" y="14015"/>
                </a:cubicBezTo>
                <a:cubicBezTo>
                  <a:pt x="5333" y="14047"/>
                  <a:pt x="5386" y="14036"/>
                  <a:pt x="5482" y="13990"/>
                </a:cubicBezTo>
                <a:cubicBezTo>
                  <a:pt x="5552" y="13957"/>
                  <a:pt x="5613" y="13867"/>
                  <a:pt x="5631" y="13791"/>
                </a:cubicBezTo>
                <a:cubicBezTo>
                  <a:pt x="5658" y="13678"/>
                  <a:pt x="5549" y="13680"/>
                  <a:pt x="5482" y="13643"/>
                </a:cubicBezTo>
                <a:cubicBezTo>
                  <a:pt x="5443" y="13621"/>
                  <a:pt x="5360" y="13631"/>
                  <a:pt x="5333" y="13692"/>
                </a:cubicBezTo>
                <a:cubicBezTo>
                  <a:pt x="5333" y="13737"/>
                  <a:pt x="5336" y="13750"/>
                  <a:pt x="5308" y="13767"/>
                </a:cubicBezTo>
              </a:path>
              <a:path w="5185" h="5855">
                <a:moveTo>
                  <a:pt x="5978" y="13965"/>
                </a:moveTo>
                <a:cubicBezTo>
                  <a:pt x="6012" y="13880"/>
                  <a:pt x="6016" y="13960"/>
                  <a:pt x="6003" y="13990"/>
                </a:cubicBezTo>
                <a:cubicBezTo>
                  <a:pt x="5967" y="14073"/>
                  <a:pt x="6081" y="14044"/>
                  <a:pt x="6003" y="13965"/>
                </a:cubicBezTo>
              </a:path>
              <a:path w="5185" h="5855">
                <a:moveTo>
                  <a:pt x="6350" y="13543"/>
                </a:moveTo>
                <a:cubicBezTo>
                  <a:pt x="6383" y="13527"/>
                  <a:pt x="6416" y="13510"/>
                  <a:pt x="6449" y="13494"/>
                </a:cubicBezTo>
                <a:cubicBezTo>
                  <a:pt x="6449" y="13569"/>
                  <a:pt x="6464" y="13701"/>
                  <a:pt x="6375" y="13742"/>
                </a:cubicBezTo>
                <a:cubicBezTo>
                  <a:pt x="6358" y="13742"/>
                  <a:pt x="6342" y="13742"/>
                  <a:pt x="6325" y="13742"/>
                </a:cubicBezTo>
                <a:cubicBezTo>
                  <a:pt x="6382" y="13723"/>
                  <a:pt x="6542" y="13677"/>
                  <a:pt x="6548" y="13791"/>
                </a:cubicBezTo>
                <a:cubicBezTo>
                  <a:pt x="6554" y="13913"/>
                  <a:pt x="6429" y="13903"/>
                  <a:pt x="6350" y="13915"/>
                </a:cubicBezTo>
              </a:path>
              <a:path w="5185" h="5855">
                <a:moveTo>
                  <a:pt x="6400" y="15180"/>
                </a:moveTo>
                <a:cubicBezTo>
                  <a:pt x="6391" y="15327"/>
                  <a:pt x="6355" y="15461"/>
                  <a:pt x="6375" y="15602"/>
                </a:cubicBezTo>
                <a:cubicBezTo>
                  <a:pt x="6424" y="15606"/>
                  <a:pt x="6639" y="15596"/>
                  <a:pt x="6648" y="15503"/>
                </a:cubicBezTo>
                <a:cubicBezTo>
                  <a:pt x="6640" y="15478"/>
                  <a:pt x="6631" y="15454"/>
                  <a:pt x="6623" y="15429"/>
                </a:cubicBezTo>
                <a:cubicBezTo>
                  <a:pt x="6511" y="15429"/>
                  <a:pt x="6516" y="15474"/>
                  <a:pt x="6499" y="15577"/>
                </a:cubicBezTo>
              </a:path>
              <a:path w="5185" h="5855">
                <a:moveTo>
                  <a:pt x="6077" y="15776"/>
                </a:moveTo>
                <a:cubicBezTo>
                  <a:pt x="6284" y="15753"/>
                  <a:pt x="6490" y="15754"/>
                  <a:pt x="6697" y="15726"/>
                </a:cubicBezTo>
                <a:cubicBezTo>
                  <a:pt x="6738" y="15718"/>
                  <a:pt x="6780" y="15709"/>
                  <a:pt x="6821" y="15701"/>
                </a:cubicBezTo>
              </a:path>
              <a:path w="5185" h="5855">
                <a:moveTo>
                  <a:pt x="5978" y="15577"/>
                </a:moveTo>
                <a:cubicBezTo>
                  <a:pt x="6051" y="15553"/>
                  <a:pt x="6075" y="15545"/>
                  <a:pt x="6127" y="15553"/>
                </a:cubicBezTo>
              </a:path>
              <a:path w="5185" h="5855">
                <a:moveTo>
                  <a:pt x="6524" y="15925"/>
                </a:moveTo>
                <a:cubicBezTo>
                  <a:pt x="6568" y="16033"/>
                  <a:pt x="6596" y="16132"/>
                  <a:pt x="6623" y="16247"/>
                </a:cubicBezTo>
              </a:path>
              <a:path w="5185" h="5855">
                <a:moveTo>
                  <a:pt x="6871" y="15180"/>
                </a:moveTo>
                <a:cubicBezTo>
                  <a:pt x="6877" y="15314"/>
                  <a:pt x="6889" y="15444"/>
                  <a:pt x="6896" y="15577"/>
                </a:cubicBezTo>
              </a:path>
              <a:path w="5185" h="5855">
                <a:moveTo>
                  <a:pt x="6821" y="15478"/>
                </a:moveTo>
                <a:cubicBezTo>
                  <a:pt x="6928" y="15571"/>
                  <a:pt x="6917" y="15556"/>
                  <a:pt x="7020" y="15453"/>
                </a:cubicBezTo>
              </a:path>
              <a:path w="5185" h="5855">
                <a:moveTo>
                  <a:pt x="6945" y="15875"/>
                </a:moveTo>
                <a:cubicBezTo>
                  <a:pt x="6966" y="15864"/>
                  <a:pt x="7209" y="15731"/>
                  <a:pt x="7169" y="15875"/>
                </a:cubicBezTo>
                <a:cubicBezTo>
                  <a:pt x="7119" y="15949"/>
                  <a:pt x="7102" y="15974"/>
                  <a:pt x="7045" y="15999"/>
                </a:cubicBezTo>
                <a:cubicBezTo>
                  <a:pt x="7187" y="15941"/>
                  <a:pt x="7206" y="15945"/>
                  <a:pt x="7293" y="16073"/>
                </a:cubicBezTo>
                <a:cubicBezTo>
                  <a:pt x="7183" y="16159"/>
                  <a:pt x="7151" y="16142"/>
                  <a:pt x="7020" y="16098"/>
                </a:cubicBezTo>
              </a:path>
              <a:path w="5185" h="5855">
                <a:moveTo>
                  <a:pt x="6796" y="13494"/>
                </a:moveTo>
                <a:cubicBezTo>
                  <a:pt x="6751" y="13608"/>
                  <a:pt x="6727" y="13718"/>
                  <a:pt x="6722" y="13841"/>
                </a:cubicBezTo>
                <a:cubicBezTo>
                  <a:pt x="6716" y="13982"/>
                  <a:pt x="6859" y="13978"/>
                  <a:pt x="6945" y="13915"/>
                </a:cubicBezTo>
                <a:cubicBezTo>
                  <a:pt x="6998" y="13876"/>
                  <a:pt x="7096" y="13775"/>
                  <a:pt x="7020" y="13717"/>
                </a:cubicBezTo>
                <a:cubicBezTo>
                  <a:pt x="7003" y="13709"/>
                  <a:pt x="6987" y="13700"/>
                  <a:pt x="6970" y="13692"/>
                </a:cubicBezTo>
                <a:cubicBezTo>
                  <a:pt x="6910" y="13779"/>
                  <a:pt x="6896" y="13831"/>
                  <a:pt x="6896" y="13940"/>
                </a:cubicBezTo>
              </a:path>
              <a:path w="5185" h="5855">
                <a:moveTo>
                  <a:pt x="6846" y="16371"/>
                </a:moveTo>
                <a:cubicBezTo>
                  <a:pt x="6863" y="16483"/>
                  <a:pt x="6871" y="16581"/>
                  <a:pt x="6871" y="16694"/>
                </a:cubicBezTo>
              </a:path>
              <a:path w="5185" h="5855">
                <a:moveTo>
                  <a:pt x="7020" y="16421"/>
                </a:moveTo>
                <a:cubicBezTo>
                  <a:pt x="7126" y="16378"/>
                  <a:pt x="7147" y="16362"/>
                  <a:pt x="7218" y="16371"/>
                </a:cubicBezTo>
                <a:cubicBezTo>
                  <a:pt x="7204" y="16496"/>
                  <a:pt x="7203" y="16514"/>
                  <a:pt x="7144" y="16619"/>
                </a:cubicBezTo>
                <a:cubicBezTo>
                  <a:pt x="7246" y="16609"/>
                  <a:pt x="7326" y="16580"/>
                  <a:pt x="7417" y="16619"/>
                </a:cubicBezTo>
              </a:path>
              <a:path w="5185" h="5855">
                <a:moveTo>
                  <a:pt x="6846" y="16917"/>
                </a:moveTo>
                <a:cubicBezTo>
                  <a:pt x="7008" y="16863"/>
                  <a:pt x="7171" y="16810"/>
                  <a:pt x="7342" y="16793"/>
                </a:cubicBezTo>
                <a:cubicBezTo>
                  <a:pt x="7375" y="16793"/>
                  <a:pt x="7408" y="16793"/>
                  <a:pt x="7441" y="16793"/>
                </a:cubicBezTo>
              </a:path>
              <a:path w="5185" h="5855">
                <a:moveTo>
                  <a:pt x="7342" y="17066"/>
                </a:moveTo>
                <a:cubicBezTo>
                  <a:pt x="7342" y="17182"/>
                  <a:pt x="7342" y="17297"/>
                  <a:pt x="7342" y="17413"/>
                </a:cubicBezTo>
              </a:path>
              <a:path w="5185" h="5855">
                <a:moveTo>
                  <a:pt x="7541" y="15280"/>
                </a:moveTo>
                <a:cubicBezTo>
                  <a:pt x="7541" y="15335"/>
                  <a:pt x="7572" y="15684"/>
                  <a:pt x="7590" y="15825"/>
                </a:cubicBezTo>
                <a:cubicBezTo>
                  <a:pt x="7611" y="15990"/>
                  <a:pt x="7651" y="16157"/>
                  <a:pt x="7665" y="16321"/>
                </a:cubicBezTo>
                <a:cubicBezTo>
                  <a:pt x="7672" y="16403"/>
                  <a:pt x="7665" y="16488"/>
                  <a:pt x="7665" y="16570"/>
                </a:cubicBezTo>
              </a:path>
              <a:path w="5185" h="5855">
                <a:moveTo>
                  <a:pt x="7590" y="16371"/>
                </a:moveTo>
                <a:cubicBezTo>
                  <a:pt x="7612" y="16423"/>
                  <a:pt x="7654" y="16574"/>
                  <a:pt x="7739" y="16570"/>
                </a:cubicBezTo>
                <a:cubicBezTo>
                  <a:pt x="7830" y="16566"/>
                  <a:pt x="7885" y="16412"/>
                  <a:pt x="7913" y="16346"/>
                </a:cubicBezTo>
              </a:path>
              <a:path w="5185" h="5855">
                <a:moveTo>
                  <a:pt x="7714" y="17016"/>
                </a:moveTo>
                <a:cubicBezTo>
                  <a:pt x="7714" y="17095"/>
                  <a:pt x="7677" y="17276"/>
                  <a:pt x="7739" y="17338"/>
                </a:cubicBezTo>
                <a:cubicBezTo>
                  <a:pt x="7822" y="17422"/>
                  <a:pt x="7971" y="17372"/>
                  <a:pt x="8037" y="17289"/>
                </a:cubicBezTo>
                <a:cubicBezTo>
                  <a:pt x="8090" y="17223"/>
                  <a:pt x="8060" y="17133"/>
                  <a:pt x="7962" y="17140"/>
                </a:cubicBezTo>
                <a:cubicBezTo>
                  <a:pt x="7892" y="17145"/>
                  <a:pt x="7895" y="17274"/>
                  <a:pt x="7888" y="17314"/>
                </a:cubicBezTo>
              </a:path>
              <a:path w="5185" h="5855">
                <a:moveTo>
                  <a:pt x="7491" y="13494"/>
                </a:moveTo>
                <a:cubicBezTo>
                  <a:pt x="7345" y="13516"/>
                  <a:pt x="7264" y="13540"/>
                  <a:pt x="7218" y="13667"/>
                </a:cubicBezTo>
                <a:cubicBezTo>
                  <a:pt x="7295" y="13716"/>
                  <a:pt x="7513" y="13789"/>
                  <a:pt x="7466" y="13915"/>
                </a:cubicBezTo>
                <a:cubicBezTo>
                  <a:pt x="7420" y="13962"/>
                  <a:pt x="7408" y="13976"/>
                  <a:pt x="7367" y="13990"/>
                </a:cubicBezTo>
                <a:cubicBezTo>
                  <a:pt x="7343" y="13820"/>
                  <a:pt x="7410" y="13784"/>
                  <a:pt x="7466" y="13643"/>
                </a:cubicBezTo>
                <a:cubicBezTo>
                  <a:pt x="7466" y="13626"/>
                  <a:pt x="7466" y="13610"/>
                  <a:pt x="7466" y="13593"/>
                </a:cubicBezTo>
              </a:path>
              <a:path w="5185" h="5855">
                <a:moveTo>
                  <a:pt x="7491" y="17512"/>
                </a:moveTo>
                <a:cubicBezTo>
                  <a:pt x="7513" y="17614"/>
                  <a:pt x="7516" y="17704"/>
                  <a:pt x="7516" y="17810"/>
                </a:cubicBezTo>
              </a:path>
              <a:path w="5185" h="5855">
                <a:moveTo>
                  <a:pt x="7888" y="17487"/>
                </a:moveTo>
                <a:cubicBezTo>
                  <a:pt x="7888" y="17552"/>
                  <a:pt x="7861" y="17683"/>
                  <a:pt x="7913" y="17735"/>
                </a:cubicBezTo>
                <a:cubicBezTo>
                  <a:pt x="7962" y="17784"/>
                  <a:pt x="8124" y="17712"/>
                  <a:pt x="8086" y="17636"/>
                </a:cubicBezTo>
                <a:cubicBezTo>
                  <a:pt x="8039" y="17542"/>
                  <a:pt x="7944" y="17734"/>
                  <a:pt x="7938" y="17760"/>
                </a:cubicBezTo>
              </a:path>
              <a:path w="5185" h="5855">
                <a:moveTo>
                  <a:pt x="7392" y="17934"/>
                </a:moveTo>
                <a:cubicBezTo>
                  <a:pt x="7640" y="17920"/>
                  <a:pt x="7894" y="17894"/>
                  <a:pt x="8136" y="17835"/>
                </a:cubicBezTo>
                <a:cubicBezTo>
                  <a:pt x="8243" y="17799"/>
                  <a:pt x="8249" y="17782"/>
                  <a:pt x="8310" y="17785"/>
                </a:cubicBezTo>
              </a:path>
              <a:path w="5185" h="5855">
                <a:moveTo>
                  <a:pt x="6945" y="17636"/>
                </a:moveTo>
                <a:cubicBezTo>
                  <a:pt x="7038" y="17636"/>
                  <a:pt x="7064" y="17638"/>
                  <a:pt x="7119" y="17611"/>
                </a:cubicBezTo>
              </a:path>
              <a:path w="5185" h="5855">
                <a:moveTo>
                  <a:pt x="8086" y="17983"/>
                </a:moveTo>
                <a:cubicBezTo>
                  <a:pt x="7955" y="18033"/>
                  <a:pt x="7970" y="18144"/>
                  <a:pt x="7962" y="18281"/>
                </a:cubicBezTo>
                <a:cubicBezTo>
                  <a:pt x="8071" y="18291"/>
                  <a:pt x="8285" y="18223"/>
                  <a:pt x="8285" y="18058"/>
                </a:cubicBezTo>
                <a:cubicBezTo>
                  <a:pt x="8233" y="18006"/>
                  <a:pt x="8214" y="17989"/>
                  <a:pt x="8161" y="17983"/>
                </a:cubicBezTo>
              </a:path>
              <a:path w="5185" h="5855">
                <a:moveTo>
                  <a:pt x="8334" y="15329"/>
                </a:moveTo>
                <a:cubicBezTo>
                  <a:pt x="8318" y="15321"/>
                  <a:pt x="8301" y="15312"/>
                  <a:pt x="8285" y="15304"/>
                </a:cubicBezTo>
                <a:cubicBezTo>
                  <a:pt x="8247" y="15522"/>
                  <a:pt x="8257" y="15666"/>
                  <a:pt x="8310" y="15900"/>
                </a:cubicBezTo>
                <a:cubicBezTo>
                  <a:pt x="8370" y="16165"/>
                  <a:pt x="8441" y="16426"/>
                  <a:pt x="8483" y="16694"/>
                </a:cubicBezTo>
                <a:cubicBezTo>
                  <a:pt x="8510" y="16865"/>
                  <a:pt x="8528" y="17042"/>
                  <a:pt x="8533" y="17214"/>
                </a:cubicBezTo>
                <a:cubicBezTo>
                  <a:pt x="8537" y="17341"/>
                  <a:pt x="8572" y="17461"/>
                  <a:pt x="8582" y="17587"/>
                </a:cubicBezTo>
                <a:cubicBezTo>
                  <a:pt x="8582" y="17669"/>
                  <a:pt x="8582" y="17686"/>
                  <a:pt x="8582" y="17735"/>
                </a:cubicBezTo>
              </a:path>
              <a:path w="5185" h="5855">
                <a:moveTo>
                  <a:pt x="8458" y="17636"/>
                </a:moveTo>
                <a:cubicBezTo>
                  <a:pt x="8475" y="17657"/>
                  <a:pt x="8576" y="17806"/>
                  <a:pt x="8632" y="17760"/>
                </a:cubicBezTo>
                <a:cubicBezTo>
                  <a:pt x="8694" y="17709"/>
                  <a:pt x="8740" y="17605"/>
                  <a:pt x="8781" y="17537"/>
                </a:cubicBezTo>
              </a:path>
              <a:path w="5185" h="5855">
                <a:moveTo>
                  <a:pt x="8731" y="17983"/>
                </a:moveTo>
                <a:cubicBezTo>
                  <a:pt x="8643" y="17934"/>
                  <a:pt x="8619" y="17911"/>
                  <a:pt x="8533" y="17983"/>
                </a:cubicBezTo>
                <a:cubicBezTo>
                  <a:pt x="8516" y="18000"/>
                  <a:pt x="8500" y="18016"/>
                  <a:pt x="8483" y="18033"/>
                </a:cubicBezTo>
                <a:cubicBezTo>
                  <a:pt x="8578" y="18128"/>
                  <a:pt x="8662" y="18109"/>
                  <a:pt x="8781" y="18157"/>
                </a:cubicBezTo>
                <a:cubicBezTo>
                  <a:pt x="8852" y="18205"/>
                  <a:pt x="8875" y="18218"/>
                  <a:pt x="8880" y="18281"/>
                </a:cubicBezTo>
                <a:cubicBezTo>
                  <a:pt x="8831" y="18340"/>
                  <a:pt x="8694" y="18397"/>
                  <a:pt x="8682" y="18256"/>
                </a:cubicBezTo>
                <a:cubicBezTo>
                  <a:pt x="8676" y="18193"/>
                  <a:pt x="8742" y="18118"/>
                  <a:pt x="8756" y="18058"/>
                </a:cubicBezTo>
              </a:path>
              <a:path w="5185" h="5855">
                <a:moveTo>
                  <a:pt x="7714" y="13444"/>
                </a:moveTo>
                <a:cubicBezTo>
                  <a:pt x="7693" y="13654"/>
                  <a:pt x="7739" y="13598"/>
                  <a:pt x="7938" y="13568"/>
                </a:cubicBezTo>
              </a:path>
              <a:path w="5185" h="5855">
                <a:moveTo>
                  <a:pt x="7838" y="13345"/>
                </a:moveTo>
                <a:cubicBezTo>
                  <a:pt x="7864" y="13519"/>
                  <a:pt x="7893" y="13672"/>
                  <a:pt x="7938" y="13841"/>
                </a:cubicBezTo>
              </a:path>
              <a:path w="5185" h="5855">
                <a:moveTo>
                  <a:pt x="8930" y="18479"/>
                </a:moveTo>
                <a:cubicBezTo>
                  <a:pt x="8856" y="18421"/>
                  <a:pt x="8838" y="18411"/>
                  <a:pt x="8781" y="18479"/>
                </a:cubicBezTo>
                <a:cubicBezTo>
                  <a:pt x="8831" y="18499"/>
                  <a:pt x="9105" y="18533"/>
                  <a:pt x="9029" y="18628"/>
                </a:cubicBezTo>
                <a:cubicBezTo>
                  <a:pt x="8978" y="18693"/>
                  <a:pt x="8854" y="18696"/>
                  <a:pt x="8781" y="18703"/>
                </a:cubicBezTo>
                <a:cubicBezTo>
                  <a:pt x="8825" y="18623"/>
                  <a:pt x="8868" y="18572"/>
                  <a:pt x="8930" y="18504"/>
                </a:cubicBezTo>
              </a:path>
              <a:path w="5185" h="5855">
                <a:moveTo>
                  <a:pt x="8458" y="18852"/>
                </a:moveTo>
                <a:cubicBezTo>
                  <a:pt x="8734" y="18783"/>
                  <a:pt x="8970" y="18706"/>
                  <a:pt x="9252" y="18752"/>
                </a:cubicBezTo>
              </a:path>
              <a:path w="5185" h="5855">
                <a:moveTo>
                  <a:pt x="9227" y="18802"/>
                </a:moveTo>
                <a:cubicBezTo>
                  <a:pt x="9150" y="18828"/>
                  <a:pt x="9122" y="18838"/>
                  <a:pt x="9079" y="18876"/>
                </a:cubicBezTo>
                <a:cubicBezTo>
                  <a:pt x="9120" y="18881"/>
                  <a:pt x="9423" y="18901"/>
                  <a:pt x="9227" y="18777"/>
                </a:cubicBezTo>
                <a:cubicBezTo>
                  <a:pt x="9211" y="18777"/>
                  <a:pt x="9194" y="18777"/>
                  <a:pt x="9178" y="18777"/>
                </a:cubicBezTo>
              </a:path>
              <a:path w="5185" h="5855">
                <a:moveTo>
                  <a:pt x="5085" y="14263"/>
                </a:moveTo>
                <a:cubicBezTo>
                  <a:pt x="5329" y="14344"/>
                  <a:pt x="5549" y="14343"/>
                  <a:pt x="5804" y="14362"/>
                </a:cubicBezTo>
                <a:cubicBezTo>
                  <a:pt x="6117" y="14385"/>
                  <a:pt x="6411" y="14375"/>
                  <a:pt x="6722" y="14362"/>
                </a:cubicBezTo>
                <a:cubicBezTo>
                  <a:pt x="7007" y="14350"/>
                  <a:pt x="7248" y="14261"/>
                  <a:pt x="7516" y="14163"/>
                </a:cubicBezTo>
                <a:cubicBezTo>
                  <a:pt x="7669" y="14107"/>
                  <a:pt x="7835" y="14019"/>
                  <a:pt x="7962" y="13915"/>
                </a:cubicBezTo>
                <a:cubicBezTo>
                  <a:pt x="8031" y="13858"/>
                  <a:pt x="8118" y="13796"/>
                  <a:pt x="8161" y="13717"/>
                </a:cubicBezTo>
                <a:cubicBezTo>
                  <a:pt x="8188" y="13668"/>
                  <a:pt x="8237" y="13550"/>
                  <a:pt x="8235" y="13494"/>
                </a:cubicBezTo>
                <a:cubicBezTo>
                  <a:pt x="8232" y="13406"/>
                  <a:pt x="8191" y="13289"/>
                  <a:pt x="8136" y="13221"/>
                </a:cubicBezTo>
                <a:cubicBezTo>
                  <a:pt x="8018" y="13075"/>
                  <a:pt x="7909" y="13093"/>
                  <a:pt x="7739" y="13072"/>
                </a:cubicBezTo>
                <a:cubicBezTo>
                  <a:pt x="7521" y="13046"/>
                  <a:pt x="7290" y="13028"/>
                  <a:pt x="7069" y="13047"/>
                </a:cubicBezTo>
                <a:cubicBezTo>
                  <a:pt x="6742" y="13074"/>
                  <a:pt x="6397" y="13127"/>
                  <a:pt x="6077" y="13196"/>
                </a:cubicBezTo>
                <a:cubicBezTo>
                  <a:pt x="5798" y="13257"/>
                  <a:pt x="5521" y="13328"/>
                  <a:pt x="5259" y="13444"/>
                </a:cubicBezTo>
                <a:cubicBezTo>
                  <a:pt x="5085" y="13521"/>
                  <a:pt x="4801" y="13624"/>
                  <a:pt x="4688" y="13791"/>
                </a:cubicBezTo>
                <a:cubicBezTo>
                  <a:pt x="4560" y="13980"/>
                  <a:pt x="4505" y="14187"/>
                  <a:pt x="4663" y="14362"/>
                </a:cubicBezTo>
                <a:cubicBezTo>
                  <a:pt x="4775" y="14486"/>
                  <a:pt x="4910" y="14518"/>
                  <a:pt x="5060" y="14560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98920" y="785880"/>
            <a:ext cx="27000" cy="206280"/>
          </a:xfrm>
          <a:custGeom>
            <a:avLst/>
            <a:gdLst/>
            <a:ahLst/>
            <a:rect l="l" t="t" r="r" b="b"/>
            <a:pathLst>
              <a:path w="76" h="571">
                <a:moveTo>
                  <a:pt x="10046" y="2232"/>
                </a:moveTo>
                <a:cubicBezTo>
                  <a:pt x="10054" y="2216"/>
                  <a:pt x="10063" y="2199"/>
                  <a:pt x="10071" y="2183"/>
                </a:cubicBezTo>
                <a:cubicBezTo>
                  <a:pt x="10057" y="2374"/>
                  <a:pt x="10027" y="2563"/>
                  <a:pt x="9996" y="2753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14840" y="785880"/>
            <a:ext cx="115920" cy="179280"/>
          </a:xfrm>
          <a:custGeom>
            <a:avLst/>
            <a:gdLst/>
            <a:ahLst/>
            <a:rect l="l" t="t" r="r" b="b"/>
            <a:pathLst>
              <a:path w="323" h="497">
                <a:moveTo>
                  <a:pt x="10368" y="2183"/>
                </a:moveTo>
                <a:cubicBezTo>
                  <a:pt x="10338" y="2319"/>
                  <a:pt x="10266" y="2520"/>
                  <a:pt x="10344" y="2654"/>
                </a:cubicBezTo>
                <a:cubicBezTo>
                  <a:pt x="10360" y="2662"/>
                  <a:pt x="10377" y="2671"/>
                  <a:pt x="10393" y="2679"/>
                </a:cubicBezTo>
                <a:cubicBezTo>
                  <a:pt x="10525" y="2621"/>
                  <a:pt x="10664" y="2560"/>
                  <a:pt x="10592" y="2431"/>
                </a:cubicBezTo>
                <a:cubicBezTo>
                  <a:pt x="10511" y="2526"/>
                  <a:pt x="10486" y="2557"/>
                  <a:pt x="10468" y="2679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75040" y="768240"/>
            <a:ext cx="117360" cy="71640"/>
          </a:xfrm>
          <a:custGeom>
            <a:avLst/>
            <a:gdLst/>
            <a:ahLst/>
            <a:rect l="l" t="t" r="r" b="b"/>
            <a:pathLst>
              <a:path w="324" h="200">
                <a:moveTo>
                  <a:pt x="10790" y="2133"/>
                </a:moveTo>
                <a:cubicBezTo>
                  <a:pt x="10764" y="2252"/>
                  <a:pt x="10743" y="2337"/>
                  <a:pt x="10914" y="2332"/>
                </a:cubicBezTo>
                <a:cubicBezTo>
                  <a:pt x="11009" y="2308"/>
                  <a:pt x="11039" y="2302"/>
                  <a:pt x="11088" y="2257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83040" y="687240"/>
            <a:ext cx="17640" cy="285840"/>
          </a:xfrm>
          <a:custGeom>
            <a:avLst/>
            <a:gdLst/>
            <a:ahLst/>
            <a:rect l="l" t="t" r="r" b="b"/>
            <a:pathLst>
              <a:path w="50" h="795">
                <a:moveTo>
                  <a:pt x="11112" y="1910"/>
                </a:moveTo>
                <a:cubicBezTo>
                  <a:pt x="11086" y="2149"/>
                  <a:pt x="11081" y="2390"/>
                  <a:pt x="11063" y="2629"/>
                </a:cubicBezTo>
                <a:cubicBezTo>
                  <a:pt x="11063" y="2654"/>
                  <a:pt x="11063" y="2679"/>
                  <a:pt x="11063" y="2704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98960" y="946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385" y="2629"/>
                </a:moveTo>
                <a:lnTo>
                  <a:pt x="11385" y="2629"/>
                </a:ln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32160" y="696960"/>
            <a:ext cx="135000" cy="231840"/>
          </a:xfrm>
          <a:custGeom>
            <a:avLst/>
            <a:gdLst/>
            <a:ahLst/>
            <a:rect l="l" t="t" r="r" b="b"/>
            <a:pathLst>
              <a:path w="373" h="646">
                <a:moveTo>
                  <a:pt x="11757" y="1984"/>
                </a:moveTo>
                <a:cubicBezTo>
                  <a:pt x="11848" y="1895"/>
                  <a:pt x="11943" y="1966"/>
                  <a:pt x="11906" y="2108"/>
                </a:cubicBezTo>
                <a:cubicBezTo>
                  <a:pt x="11890" y="2133"/>
                  <a:pt x="11873" y="2158"/>
                  <a:pt x="11857" y="2183"/>
                </a:cubicBezTo>
                <a:cubicBezTo>
                  <a:pt x="11849" y="2191"/>
                  <a:pt x="11840" y="2200"/>
                  <a:pt x="11832" y="2208"/>
                </a:cubicBezTo>
                <a:cubicBezTo>
                  <a:pt x="11956" y="2169"/>
                  <a:pt x="12196" y="2149"/>
                  <a:pt x="12129" y="2381"/>
                </a:cubicBezTo>
                <a:cubicBezTo>
                  <a:pt x="12084" y="2538"/>
                  <a:pt x="11889" y="2568"/>
                  <a:pt x="11757" y="2580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94080" y="1116000"/>
            <a:ext cx="54000" cy="98280"/>
          </a:xfrm>
          <a:custGeom>
            <a:avLst/>
            <a:gdLst/>
            <a:ahLst/>
            <a:rect l="l" t="t" r="r" b="b"/>
            <a:pathLst>
              <a:path w="150" h="273">
                <a:moveTo>
                  <a:pt x="9426" y="3101"/>
                </a:moveTo>
                <a:cubicBezTo>
                  <a:pt x="9483" y="3191"/>
                  <a:pt x="9533" y="3276"/>
                  <a:pt x="9575" y="3373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11360" y="1143000"/>
            <a:ext cx="54000" cy="108000"/>
          </a:xfrm>
          <a:custGeom>
            <a:avLst/>
            <a:gdLst/>
            <a:ahLst/>
            <a:rect l="l" t="t" r="r" b="b"/>
            <a:pathLst>
              <a:path w="150" h="299">
                <a:moveTo>
                  <a:pt x="9624" y="3175"/>
                </a:moveTo>
                <a:cubicBezTo>
                  <a:pt x="9556" y="3335"/>
                  <a:pt x="9539" y="3381"/>
                  <a:pt x="9475" y="3473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05160" y="965160"/>
            <a:ext cx="54000" cy="88920"/>
          </a:xfrm>
          <a:custGeom>
            <a:avLst/>
            <a:gdLst/>
            <a:ahLst/>
            <a:rect l="l" t="t" r="r" b="b"/>
            <a:pathLst>
              <a:path w="150" h="249">
                <a:moveTo>
                  <a:pt x="11757" y="2679"/>
                </a:moveTo>
                <a:cubicBezTo>
                  <a:pt x="11735" y="2746"/>
                  <a:pt x="11734" y="2767"/>
                  <a:pt x="11683" y="2778"/>
                </a:cubicBezTo>
                <a:cubicBezTo>
                  <a:pt x="11735" y="2765"/>
                  <a:pt x="11939" y="2714"/>
                  <a:pt x="11832" y="2877"/>
                </a:cubicBezTo>
                <a:cubicBezTo>
                  <a:pt x="11761" y="2924"/>
                  <a:pt x="11742" y="2941"/>
                  <a:pt x="11683" y="2927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14880" y="919080"/>
            <a:ext cx="115920" cy="36720"/>
          </a:xfrm>
          <a:custGeom>
            <a:avLst/>
            <a:gdLst/>
            <a:ahLst/>
            <a:rect l="l" t="t" r="r" b="b"/>
            <a:pathLst>
              <a:path w="323" h="100">
                <a:moveTo>
                  <a:pt x="11708" y="2654"/>
                </a:moveTo>
                <a:cubicBezTo>
                  <a:pt x="11818" y="2620"/>
                  <a:pt x="11918" y="2584"/>
                  <a:pt x="12030" y="2555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27280" y="982800"/>
            <a:ext cx="795600" cy="303120"/>
          </a:xfrm>
          <a:custGeom>
            <a:avLst/>
            <a:gdLst/>
            <a:ahLst/>
            <a:rect l="l" t="t" r="r" b="b"/>
            <a:pathLst>
              <a:path w="2208" h="844">
                <a:moveTo>
                  <a:pt x="9872" y="3572"/>
                </a:moveTo>
                <a:cubicBezTo>
                  <a:pt x="9771" y="3429"/>
                  <a:pt x="9825" y="3434"/>
                  <a:pt x="10021" y="3373"/>
                </a:cubicBezTo>
                <a:cubicBezTo>
                  <a:pt x="10583" y="3198"/>
                  <a:pt x="11154" y="3055"/>
                  <a:pt x="11708" y="2853"/>
                </a:cubicBezTo>
                <a:cubicBezTo>
                  <a:pt x="11890" y="2780"/>
                  <a:pt x="11909" y="2777"/>
                  <a:pt x="12005" y="2729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68880" y="1197000"/>
            <a:ext cx="160200" cy="160200"/>
          </a:xfrm>
          <a:custGeom>
            <a:avLst/>
            <a:gdLst/>
            <a:ahLst/>
            <a:rect l="l" t="t" r="r" b="b"/>
            <a:pathLst>
              <a:path w="447" h="447">
                <a:moveTo>
                  <a:pt x="12179" y="3324"/>
                </a:moveTo>
                <a:cubicBezTo>
                  <a:pt x="12078" y="3348"/>
                  <a:pt x="11981" y="3348"/>
                  <a:pt x="11906" y="3423"/>
                </a:cubicBezTo>
                <a:cubicBezTo>
                  <a:pt x="11906" y="3591"/>
                  <a:pt x="11997" y="3506"/>
                  <a:pt x="12129" y="3497"/>
                </a:cubicBezTo>
                <a:cubicBezTo>
                  <a:pt x="12242" y="3497"/>
                  <a:pt x="12277" y="3487"/>
                  <a:pt x="12303" y="3572"/>
                </a:cubicBezTo>
                <a:cubicBezTo>
                  <a:pt x="12244" y="3808"/>
                  <a:pt x="12073" y="3752"/>
                  <a:pt x="11857" y="374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11760" y="598320"/>
            <a:ext cx="27000" cy="88920"/>
          </a:xfrm>
          <a:custGeom>
            <a:avLst/>
            <a:gdLst/>
            <a:ahLst/>
            <a:rect l="l" t="t" r="r" b="b"/>
            <a:pathLst>
              <a:path w="76" h="249">
                <a:moveTo>
                  <a:pt x="10939" y="1786"/>
                </a:moveTo>
                <a:cubicBezTo>
                  <a:pt x="10913" y="1741"/>
                  <a:pt x="10890" y="1707"/>
                  <a:pt x="10864" y="1662"/>
                </a:cubicBezTo>
                <a:cubicBezTo>
                  <a:pt x="10886" y="1795"/>
                  <a:pt x="10891" y="1829"/>
                  <a:pt x="10914" y="1910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89240" y="1231920"/>
            <a:ext cx="1800" cy="108000"/>
          </a:xfrm>
          <a:custGeom>
            <a:avLst/>
            <a:gdLst/>
            <a:ahLst/>
            <a:rect l="l" t="t" r="r" b="b"/>
            <a:pathLst>
              <a:path w="1" h="299">
                <a:moveTo>
                  <a:pt x="11361" y="3423"/>
                </a:moveTo>
                <a:cubicBezTo>
                  <a:pt x="11361" y="3522"/>
                  <a:pt x="11361" y="3622"/>
                  <a:pt x="11361" y="3721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06840" y="571680"/>
            <a:ext cx="125280" cy="125280"/>
          </a:xfrm>
          <a:custGeom>
            <a:avLst/>
            <a:gdLst/>
            <a:ahLst/>
            <a:rect l="l" t="t" r="r" b="b"/>
            <a:pathLst>
              <a:path w="348" h="348">
                <a:moveTo>
                  <a:pt x="10021" y="1687"/>
                </a:moveTo>
                <a:cubicBezTo>
                  <a:pt x="10036" y="1628"/>
                  <a:pt x="10059" y="1631"/>
                  <a:pt x="10120" y="1588"/>
                </a:cubicBezTo>
                <a:cubicBezTo>
                  <a:pt x="10230" y="1680"/>
                  <a:pt x="10200" y="1756"/>
                  <a:pt x="10145" y="1885"/>
                </a:cubicBezTo>
                <a:cubicBezTo>
                  <a:pt x="10137" y="1902"/>
                  <a:pt x="10128" y="1918"/>
                  <a:pt x="10120" y="1935"/>
                </a:cubicBezTo>
                <a:cubicBezTo>
                  <a:pt x="10202" y="1899"/>
                  <a:pt x="10286" y="1872"/>
                  <a:pt x="10368" y="183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95840" y="1231920"/>
            <a:ext cx="106200" cy="196920"/>
          </a:xfrm>
          <a:custGeom>
            <a:avLst/>
            <a:gdLst/>
            <a:ahLst/>
            <a:rect l="l" t="t" r="r" b="b"/>
            <a:pathLst>
              <a:path w="299" h="547">
                <a:moveTo>
                  <a:pt x="10542" y="3522"/>
                </a:moveTo>
                <a:cubicBezTo>
                  <a:pt x="10618" y="3455"/>
                  <a:pt x="10625" y="3438"/>
                  <a:pt x="10716" y="3448"/>
                </a:cubicBezTo>
                <a:cubicBezTo>
                  <a:pt x="10756" y="3584"/>
                  <a:pt x="10746" y="3686"/>
                  <a:pt x="10691" y="3820"/>
                </a:cubicBezTo>
                <a:cubicBezTo>
                  <a:pt x="10649" y="3903"/>
                  <a:pt x="10641" y="3919"/>
                  <a:pt x="10616" y="3969"/>
                </a:cubicBezTo>
                <a:cubicBezTo>
                  <a:pt x="10704" y="3951"/>
                  <a:pt x="10762" y="3918"/>
                  <a:pt x="10840" y="3870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68800" y="608040"/>
            <a:ext cx="125280" cy="177840"/>
          </a:xfrm>
          <a:custGeom>
            <a:avLst/>
            <a:gdLst/>
            <a:ahLst/>
            <a:rect l="l" t="t" r="r" b="b"/>
            <a:pathLst>
              <a:path w="348" h="497">
                <a:moveTo>
                  <a:pt x="9079" y="1786"/>
                </a:moveTo>
                <a:cubicBezTo>
                  <a:pt x="9125" y="1710"/>
                  <a:pt x="9201" y="1655"/>
                  <a:pt x="9277" y="1736"/>
                </a:cubicBezTo>
                <a:cubicBezTo>
                  <a:pt x="9347" y="1811"/>
                  <a:pt x="9267" y="1878"/>
                  <a:pt x="9227" y="1935"/>
                </a:cubicBezTo>
                <a:cubicBezTo>
                  <a:pt x="9300" y="1941"/>
                  <a:pt x="9536" y="1972"/>
                  <a:pt x="9401" y="2108"/>
                </a:cubicBezTo>
                <a:cubicBezTo>
                  <a:pt x="9356" y="2153"/>
                  <a:pt x="9237" y="2171"/>
                  <a:pt x="9178" y="2183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10000" y="1320840"/>
            <a:ext cx="150840" cy="179280"/>
          </a:xfrm>
          <a:custGeom>
            <a:avLst/>
            <a:gdLst/>
            <a:ahLst/>
            <a:rect l="l" t="t" r="r" b="b"/>
            <a:pathLst>
              <a:path w="423" h="497">
                <a:moveTo>
                  <a:pt x="10021" y="3696"/>
                </a:moveTo>
                <a:cubicBezTo>
                  <a:pt x="9905" y="3657"/>
                  <a:pt x="9858" y="3691"/>
                  <a:pt x="9748" y="3746"/>
                </a:cubicBezTo>
                <a:cubicBezTo>
                  <a:pt x="9769" y="3911"/>
                  <a:pt x="9906" y="3888"/>
                  <a:pt x="10046" y="3944"/>
                </a:cubicBezTo>
                <a:cubicBezTo>
                  <a:pt x="10135" y="3989"/>
                  <a:pt x="10165" y="3995"/>
                  <a:pt x="10170" y="4068"/>
                </a:cubicBezTo>
                <a:cubicBezTo>
                  <a:pt x="10062" y="4130"/>
                  <a:pt x="9995" y="4153"/>
                  <a:pt x="9872" y="4167"/>
                </a:cubicBezTo>
                <a:cubicBezTo>
                  <a:pt x="9891" y="4023"/>
                  <a:pt x="9932" y="3874"/>
                  <a:pt x="9996" y="374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97240" y="1428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658" y="3969"/>
                </a:moveTo>
                <a:lnTo>
                  <a:pt x="11658" y="3969"/>
                </a:ln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893000" y="1731960"/>
            <a:ext cx="189000" cy="277920"/>
          </a:xfrm>
          <a:custGeom>
            <a:avLst/>
            <a:gdLst/>
            <a:ahLst/>
            <a:rect l="l" t="t" r="r" b="b"/>
            <a:pathLst>
              <a:path w="522" h="770">
                <a:moveTo>
                  <a:pt x="22076" y="4961"/>
                </a:moveTo>
                <a:cubicBezTo>
                  <a:pt x="22087" y="4917"/>
                  <a:pt x="22128" y="4798"/>
                  <a:pt x="22200" y="4812"/>
                </a:cubicBezTo>
                <a:cubicBezTo>
                  <a:pt x="22217" y="4820"/>
                  <a:pt x="22233" y="4829"/>
                  <a:pt x="22250" y="4837"/>
                </a:cubicBezTo>
                <a:cubicBezTo>
                  <a:pt x="22345" y="5013"/>
                  <a:pt x="22256" y="5136"/>
                  <a:pt x="22151" y="5308"/>
                </a:cubicBezTo>
                <a:cubicBezTo>
                  <a:pt x="22084" y="5418"/>
                  <a:pt x="22024" y="5506"/>
                  <a:pt x="21927" y="5581"/>
                </a:cubicBezTo>
                <a:cubicBezTo>
                  <a:pt x="22085" y="5529"/>
                  <a:pt x="22164" y="5405"/>
                  <a:pt x="22324" y="5482"/>
                </a:cubicBezTo>
                <a:cubicBezTo>
                  <a:pt x="22389" y="5525"/>
                  <a:pt x="22404" y="5536"/>
                  <a:pt x="22448" y="555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109000" y="1776240"/>
            <a:ext cx="142920" cy="243000"/>
          </a:xfrm>
          <a:custGeom>
            <a:avLst/>
            <a:gdLst/>
            <a:ahLst/>
            <a:rect l="l" t="t" r="r" b="b"/>
            <a:pathLst>
              <a:path w="398" h="671">
                <a:moveTo>
                  <a:pt x="22920" y="5159"/>
                </a:moveTo>
                <a:cubicBezTo>
                  <a:pt x="22911" y="5052"/>
                  <a:pt x="22914" y="4936"/>
                  <a:pt x="22771" y="4936"/>
                </a:cubicBezTo>
                <a:cubicBezTo>
                  <a:pt x="22582" y="4936"/>
                  <a:pt x="22541" y="5089"/>
                  <a:pt x="22523" y="5234"/>
                </a:cubicBezTo>
                <a:cubicBezTo>
                  <a:pt x="22680" y="5266"/>
                  <a:pt x="22749" y="5272"/>
                  <a:pt x="22820" y="5110"/>
                </a:cubicBezTo>
                <a:cubicBezTo>
                  <a:pt x="22842" y="5045"/>
                  <a:pt x="22850" y="5030"/>
                  <a:pt x="22845" y="4986"/>
                </a:cubicBezTo>
                <a:cubicBezTo>
                  <a:pt x="22864" y="5203"/>
                  <a:pt x="22860" y="5392"/>
                  <a:pt x="22845" y="560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40840" y="1741320"/>
            <a:ext cx="9360" cy="231840"/>
          </a:xfrm>
          <a:custGeom>
            <a:avLst/>
            <a:gdLst/>
            <a:ahLst/>
            <a:rect l="l" t="t" r="r" b="b"/>
            <a:pathLst>
              <a:path w="25" h="646">
                <a:moveTo>
                  <a:pt x="23168" y="4837"/>
                </a:moveTo>
                <a:cubicBezTo>
                  <a:pt x="23168" y="5039"/>
                  <a:pt x="23171" y="5234"/>
                  <a:pt x="23192" y="5432"/>
                </a:cubicBezTo>
                <a:cubicBezTo>
                  <a:pt x="23192" y="5449"/>
                  <a:pt x="23192" y="5465"/>
                  <a:pt x="23192" y="5482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429760" y="1946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3416" y="5407"/>
                </a:moveTo>
                <a:lnTo>
                  <a:pt x="23416" y="5407"/>
                </a:ln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501040" y="1741320"/>
            <a:ext cx="162000" cy="277920"/>
          </a:xfrm>
          <a:custGeom>
            <a:avLst/>
            <a:gdLst/>
            <a:ahLst/>
            <a:rect l="l" t="t" r="r" b="b"/>
            <a:pathLst>
              <a:path w="448" h="770">
                <a:moveTo>
                  <a:pt x="23614" y="4837"/>
                </a:moveTo>
                <a:cubicBezTo>
                  <a:pt x="23743" y="4849"/>
                  <a:pt x="23836" y="4853"/>
                  <a:pt x="23961" y="4837"/>
                </a:cubicBezTo>
                <a:cubicBezTo>
                  <a:pt x="24011" y="4837"/>
                  <a:pt x="24028" y="4837"/>
                  <a:pt x="24061" y="4837"/>
                </a:cubicBezTo>
                <a:cubicBezTo>
                  <a:pt x="24061" y="5022"/>
                  <a:pt x="23990" y="5182"/>
                  <a:pt x="23937" y="5358"/>
                </a:cubicBezTo>
                <a:cubicBezTo>
                  <a:pt x="23897" y="5497"/>
                  <a:pt x="23880" y="5520"/>
                  <a:pt x="23887" y="560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67800" y="2143080"/>
            <a:ext cx="722160" cy="36720"/>
          </a:xfrm>
          <a:custGeom>
            <a:avLst/>
            <a:gdLst/>
            <a:ahLst/>
            <a:rect l="l" t="t" r="r" b="b"/>
            <a:pathLst>
              <a:path w="2010" h="100">
                <a:moveTo>
                  <a:pt x="21853" y="6052"/>
                </a:moveTo>
                <a:cubicBezTo>
                  <a:pt x="21952" y="5915"/>
                  <a:pt x="22198" y="5978"/>
                  <a:pt x="22349" y="5978"/>
                </a:cubicBezTo>
                <a:cubicBezTo>
                  <a:pt x="22822" y="5978"/>
                  <a:pt x="23291" y="5973"/>
                  <a:pt x="23763" y="5953"/>
                </a:cubicBezTo>
                <a:cubicBezTo>
                  <a:pt x="23796" y="5953"/>
                  <a:pt x="23829" y="5953"/>
                  <a:pt x="23862" y="5953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15200" y="2224080"/>
            <a:ext cx="152640" cy="258840"/>
          </a:xfrm>
          <a:custGeom>
            <a:avLst/>
            <a:gdLst/>
            <a:ahLst/>
            <a:rect l="l" t="t" r="r" b="b"/>
            <a:pathLst>
              <a:path w="423" h="721">
                <a:moveTo>
                  <a:pt x="23192" y="6424"/>
                </a:moveTo>
                <a:cubicBezTo>
                  <a:pt x="23159" y="6298"/>
                  <a:pt x="23150" y="6274"/>
                  <a:pt x="23068" y="6176"/>
                </a:cubicBezTo>
                <a:cubicBezTo>
                  <a:pt x="22894" y="6230"/>
                  <a:pt x="22852" y="6321"/>
                  <a:pt x="22820" y="6499"/>
                </a:cubicBezTo>
                <a:cubicBezTo>
                  <a:pt x="22952" y="6535"/>
                  <a:pt x="23096" y="6522"/>
                  <a:pt x="23192" y="6400"/>
                </a:cubicBezTo>
                <a:cubicBezTo>
                  <a:pt x="23200" y="6375"/>
                  <a:pt x="23209" y="6350"/>
                  <a:pt x="23217" y="6325"/>
                </a:cubicBezTo>
                <a:cubicBezTo>
                  <a:pt x="23217" y="6510"/>
                  <a:pt x="23235" y="6688"/>
                  <a:pt x="23242" y="6871"/>
                </a:cubicBezTo>
                <a:cubicBezTo>
                  <a:pt x="23242" y="6879"/>
                  <a:pt x="23242" y="6888"/>
                  <a:pt x="23242" y="689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Objective:  Students will divide decimals by whole number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Verdana"/>
              </a:rPr>
              <a:t>Extension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There may be times when you will need to annex, or add, additional zeros behind the dividend so that division can complet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809880" y="3733920"/>
          <a:ext cx="1447920" cy="13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733920"/>
                    <a:ext cx="1447920" cy="13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4875120" y="3963960"/>
            <a:ext cx="750960" cy="2608200"/>
          </a:xfrm>
          <a:custGeom>
            <a:avLst/>
            <a:gdLst/>
            <a:ahLst/>
            <a:rect l="l" t="t" r="r" b="b"/>
            <a:pathLst>
              <a:path w="2085" h="7244">
                <a:moveTo>
                  <a:pt x="14610" y="12849"/>
                </a:moveTo>
                <a:cubicBezTo>
                  <a:pt x="14568" y="12776"/>
                  <a:pt x="14499" y="12753"/>
                  <a:pt x="14486" y="12675"/>
                </a:cubicBezTo>
                <a:cubicBezTo>
                  <a:pt x="14486" y="12659"/>
                  <a:pt x="14486" y="12642"/>
                  <a:pt x="14486" y="12626"/>
                </a:cubicBezTo>
                <a:cubicBezTo>
                  <a:pt x="14466" y="12800"/>
                  <a:pt x="14457" y="13118"/>
                  <a:pt x="14759" y="13072"/>
                </a:cubicBezTo>
                <a:cubicBezTo>
                  <a:pt x="15018" y="13033"/>
                  <a:pt x="15035" y="12721"/>
                  <a:pt x="14908" y="12551"/>
                </a:cubicBezTo>
                <a:cubicBezTo>
                  <a:pt x="14787" y="12388"/>
                  <a:pt x="14523" y="12419"/>
                  <a:pt x="14511" y="12650"/>
                </a:cubicBezTo>
                <a:cubicBezTo>
                  <a:pt x="14552" y="12795"/>
                  <a:pt x="14551" y="12827"/>
                  <a:pt x="14610" y="12898"/>
                </a:cubicBezTo>
              </a:path>
              <a:path w="2085" h="7244">
                <a:moveTo>
                  <a:pt x="14833" y="13171"/>
                </a:moveTo>
                <a:cubicBezTo>
                  <a:pt x="14781" y="13341"/>
                  <a:pt x="14784" y="13466"/>
                  <a:pt x="14808" y="13643"/>
                </a:cubicBezTo>
                <a:cubicBezTo>
                  <a:pt x="14839" y="13876"/>
                  <a:pt x="14879" y="14102"/>
                  <a:pt x="14883" y="14337"/>
                </a:cubicBezTo>
                <a:cubicBezTo>
                  <a:pt x="14886" y="14536"/>
                  <a:pt x="14858" y="14732"/>
                  <a:pt x="14858" y="14932"/>
                </a:cubicBezTo>
                <a:cubicBezTo>
                  <a:pt x="14858" y="15109"/>
                  <a:pt x="14840" y="15278"/>
                  <a:pt x="14833" y="15453"/>
                </a:cubicBezTo>
                <a:cubicBezTo>
                  <a:pt x="14833" y="15470"/>
                  <a:pt x="14833" y="15486"/>
                  <a:pt x="14833" y="15503"/>
                </a:cubicBezTo>
              </a:path>
              <a:path w="2085" h="7244">
                <a:moveTo>
                  <a:pt x="14536" y="15255"/>
                </a:moveTo>
                <a:cubicBezTo>
                  <a:pt x="14617" y="15296"/>
                  <a:pt x="14742" y="15549"/>
                  <a:pt x="14858" y="15453"/>
                </a:cubicBezTo>
                <a:cubicBezTo>
                  <a:pt x="14946" y="15380"/>
                  <a:pt x="15023" y="15205"/>
                  <a:pt x="15081" y="15106"/>
                </a:cubicBezTo>
              </a:path>
              <a:path w="2085" h="7244">
                <a:moveTo>
                  <a:pt x="14932" y="16098"/>
                </a:moveTo>
                <a:cubicBezTo>
                  <a:pt x="14750" y="16235"/>
                  <a:pt x="14751" y="16415"/>
                  <a:pt x="14734" y="16644"/>
                </a:cubicBezTo>
                <a:cubicBezTo>
                  <a:pt x="14904" y="16690"/>
                  <a:pt x="15136" y="16642"/>
                  <a:pt x="15131" y="16396"/>
                </a:cubicBezTo>
                <a:cubicBezTo>
                  <a:pt x="15083" y="16252"/>
                  <a:pt x="15070" y="16207"/>
                  <a:pt x="14982" y="16148"/>
                </a:cubicBezTo>
              </a:path>
              <a:path w="2085" h="7244">
                <a:moveTo>
                  <a:pt x="14238" y="11881"/>
                </a:moveTo>
                <a:cubicBezTo>
                  <a:pt x="14431" y="11850"/>
                  <a:pt x="14637" y="11820"/>
                  <a:pt x="14833" y="11807"/>
                </a:cubicBezTo>
                <a:cubicBezTo>
                  <a:pt x="15049" y="11793"/>
                  <a:pt x="15263" y="11799"/>
                  <a:pt x="15478" y="11782"/>
                </a:cubicBezTo>
                <a:cubicBezTo>
                  <a:pt x="15554" y="11782"/>
                  <a:pt x="15580" y="11782"/>
                  <a:pt x="15627" y="11757"/>
                </a:cubicBezTo>
              </a:path>
              <a:path w="2085" h="7244">
                <a:moveTo>
                  <a:pt x="14684" y="11038"/>
                </a:moveTo>
                <a:cubicBezTo>
                  <a:pt x="14685" y="11001"/>
                  <a:pt x="14527" y="11050"/>
                  <a:pt x="14436" y="11063"/>
                </a:cubicBezTo>
                <a:cubicBezTo>
                  <a:pt x="14346" y="11076"/>
                  <a:pt x="14402" y="11163"/>
                  <a:pt x="14412" y="11212"/>
                </a:cubicBezTo>
                <a:cubicBezTo>
                  <a:pt x="14494" y="11236"/>
                  <a:pt x="14585" y="11178"/>
                  <a:pt x="14684" y="11212"/>
                </a:cubicBezTo>
                <a:cubicBezTo>
                  <a:pt x="14872" y="11277"/>
                  <a:pt x="14919" y="11460"/>
                  <a:pt x="14734" y="11559"/>
                </a:cubicBezTo>
                <a:cubicBezTo>
                  <a:pt x="14595" y="11606"/>
                  <a:pt x="14555" y="11624"/>
                  <a:pt x="14461" y="11584"/>
                </a:cubicBezTo>
              </a:path>
              <a:path w="2085" h="7244">
                <a:moveTo>
                  <a:pt x="14163" y="16991"/>
                </a:moveTo>
                <a:cubicBezTo>
                  <a:pt x="14227" y="16983"/>
                  <a:pt x="14424" y="16915"/>
                  <a:pt x="14436" y="17041"/>
                </a:cubicBezTo>
                <a:cubicBezTo>
                  <a:pt x="14445" y="17134"/>
                  <a:pt x="14321" y="17187"/>
                  <a:pt x="14263" y="17239"/>
                </a:cubicBezTo>
                <a:cubicBezTo>
                  <a:pt x="14336" y="17246"/>
                  <a:pt x="14511" y="17261"/>
                  <a:pt x="14486" y="17388"/>
                </a:cubicBezTo>
                <a:cubicBezTo>
                  <a:pt x="14455" y="17546"/>
                  <a:pt x="14202" y="17495"/>
                  <a:pt x="14114" y="17438"/>
                </a:cubicBezTo>
                <a:cubicBezTo>
                  <a:pt x="14114" y="17430"/>
                  <a:pt x="14114" y="17421"/>
                  <a:pt x="14114" y="17413"/>
                </a:cubicBezTo>
              </a:path>
              <a:path w="2085" h="7244">
                <a:moveTo>
                  <a:pt x="14734" y="16991"/>
                </a:moveTo>
                <a:cubicBezTo>
                  <a:pt x="14679" y="17115"/>
                  <a:pt x="14651" y="17185"/>
                  <a:pt x="14660" y="17314"/>
                </a:cubicBezTo>
                <a:cubicBezTo>
                  <a:pt x="14723" y="17319"/>
                  <a:pt x="14964" y="17239"/>
                  <a:pt x="14883" y="17115"/>
                </a:cubicBezTo>
                <a:cubicBezTo>
                  <a:pt x="14850" y="17099"/>
                  <a:pt x="14817" y="17082"/>
                  <a:pt x="14784" y="17066"/>
                </a:cubicBezTo>
              </a:path>
              <a:path w="2085" h="7244">
                <a:moveTo>
                  <a:pt x="13543" y="17388"/>
                </a:moveTo>
                <a:cubicBezTo>
                  <a:pt x="13691" y="17363"/>
                  <a:pt x="13740" y="17355"/>
                  <a:pt x="13841" y="17363"/>
                </a:cubicBezTo>
              </a:path>
              <a:path w="2085" h="7244">
                <a:moveTo>
                  <a:pt x="13940" y="17711"/>
                </a:moveTo>
                <a:cubicBezTo>
                  <a:pt x="14238" y="17659"/>
                  <a:pt x="14554" y="17582"/>
                  <a:pt x="14858" y="17587"/>
                </a:cubicBezTo>
                <a:cubicBezTo>
                  <a:pt x="14891" y="17595"/>
                  <a:pt x="14924" y="17603"/>
                  <a:pt x="14957" y="17611"/>
                </a:cubicBezTo>
              </a:path>
              <a:path w="2085" h="7244">
                <a:moveTo>
                  <a:pt x="14932" y="17711"/>
                </a:moveTo>
                <a:cubicBezTo>
                  <a:pt x="14777" y="17818"/>
                  <a:pt x="14621" y="17942"/>
                  <a:pt x="14635" y="18157"/>
                </a:cubicBezTo>
                <a:cubicBezTo>
                  <a:pt x="14651" y="18190"/>
                  <a:pt x="14668" y="18223"/>
                  <a:pt x="14684" y="18256"/>
                </a:cubicBezTo>
                <a:cubicBezTo>
                  <a:pt x="14839" y="18205"/>
                  <a:pt x="15128" y="18114"/>
                  <a:pt x="15007" y="17884"/>
                </a:cubicBezTo>
                <a:cubicBezTo>
                  <a:pt x="14908" y="17810"/>
                  <a:pt x="14875" y="17785"/>
                  <a:pt x="14784" y="17810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22920" y="3946680"/>
            <a:ext cx="249120" cy="268200"/>
          </a:xfrm>
          <a:custGeom>
            <a:avLst/>
            <a:gdLst/>
            <a:ahLst/>
            <a:rect l="l" t="t" r="r" b="b"/>
            <a:pathLst>
              <a:path w="695" h="745">
                <a:moveTo>
                  <a:pt x="13444" y="11683"/>
                </a:moveTo>
                <a:cubicBezTo>
                  <a:pt x="13451" y="11629"/>
                  <a:pt x="13462" y="11588"/>
                  <a:pt x="13469" y="11534"/>
                </a:cubicBezTo>
                <a:cubicBezTo>
                  <a:pt x="13326" y="11616"/>
                  <a:pt x="13457" y="11737"/>
                  <a:pt x="13494" y="11633"/>
                </a:cubicBezTo>
                <a:cubicBezTo>
                  <a:pt x="13470" y="11585"/>
                  <a:pt x="13463" y="11569"/>
                  <a:pt x="13419" y="11584"/>
                </a:cubicBezTo>
              </a:path>
              <a:path w="695" h="745">
                <a:moveTo>
                  <a:pt x="13791" y="11063"/>
                </a:moveTo>
                <a:cubicBezTo>
                  <a:pt x="13786" y="11181"/>
                  <a:pt x="13773" y="11302"/>
                  <a:pt x="13791" y="11410"/>
                </a:cubicBezTo>
                <a:cubicBezTo>
                  <a:pt x="13882" y="11386"/>
                  <a:pt x="13971" y="11344"/>
                  <a:pt x="14064" y="11311"/>
                </a:cubicBezTo>
              </a:path>
              <a:path w="695" h="745">
                <a:moveTo>
                  <a:pt x="14015" y="10964"/>
                </a:moveTo>
                <a:cubicBezTo>
                  <a:pt x="14022" y="11219"/>
                  <a:pt x="14060" y="11459"/>
                  <a:pt x="14089" y="11708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38800" y="4786200"/>
            <a:ext cx="731520" cy="1312920"/>
          </a:xfrm>
          <a:custGeom>
            <a:avLst/>
            <a:gdLst/>
            <a:ahLst/>
            <a:rect l="l" t="t" r="r" b="b"/>
            <a:pathLst>
              <a:path w="2035" h="3648">
                <a:moveTo>
                  <a:pt x="13940" y="13469"/>
                </a:moveTo>
                <a:cubicBezTo>
                  <a:pt x="13940" y="13398"/>
                  <a:pt x="13944" y="13353"/>
                  <a:pt x="13915" y="13295"/>
                </a:cubicBezTo>
                <a:cubicBezTo>
                  <a:pt x="13926" y="13464"/>
                  <a:pt x="13953" y="13626"/>
                  <a:pt x="13990" y="13791"/>
                </a:cubicBezTo>
              </a:path>
              <a:path w="2035" h="3648">
                <a:moveTo>
                  <a:pt x="13866" y="14015"/>
                </a:moveTo>
                <a:cubicBezTo>
                  <a:pt x="13915" y="14082"/>
                  <a:pt x="13943" y="14127"/>
                  <a:pt x="13965" y="14213"/>
                </a:cubicBezTo>
                <a:cubicBezTo>
                  <a:pt x="14052" y="14132"/>
                  <a:pt x="14113" y="14058"/>
                  <a:pt x="14188" y="13965"/>
                </a:cubicBezTo>
              </a:path>
              <a:path w="2035" h="3648">
                <a:moveTo>
                  <a:pt x="13816" y="14461"/>
                </a:moveTo>
                <a:cubicBezTo>
                  <a:pt x="13926" y="14461"/>
                  <a:pt x="14009" y="14460"/>
                  <a:pt x="14114" y="14436"/>
                </a:cubicBezTo>
                <a:cubicBezTo>
                  <a:pt x="14088" y="14598"/>
                  <a:pt x="14045" y="14754"/>
                  <a:pt x="14015" y="14908"/>
                </a:cubicBezTo>
              </a:path>
              <a:path w="2035" h="3648">
                <a:moveTo>
                  <a:pt x="13271" y="15131"/>
                </a:moveTo>
                <a:cubicBezTo>
                  <a:pt x="13217" y="15158"/>
                  <a:pt x="13203" y="15163"/>
                  <a:pt x="13271" y="15106"/>
                </a:cubicBezTo>
                <a:cubicBezTo>
                  <a:pt x="13386" y="15273"/>
                  <a:pt x="13315" y="15454"/>
                  <a:pt x="13171" y="15602"/>
                </a:cubicBezTo>
                <a:cubicBezTo>
                  <a:pt x="13073" y="15661"/>
                  <a:pt x="13058" y="15673"/>
                  <a:pt x="12998" y="15701"/>
                </a:cubicBezTo>
                <a:cubicBezTo>
                  <a:pt x="13055" y="15595"/>
                  <a:pt x="13178" y="15485"/>
                  <a:pt x="13320" y="15577"/>
                </a:cubicBezTo>
                <a:cubicBezTo>
                  <a:pt x="13381" y="15658"/>
                  <a:pt x="13396" y="15670"/>
                  <a:pt x="13419" y="15726"/>
                </a:cubicBezTo>
              </a:path>
              <a:path w="2035" h="3648">
                <a:moveTo>
                  <a:pt x="13692" y="15156"/>
                </a:moveTo>
                <a:cubicBezTo>
                  <a:pt x="13717" y="15247"/>
                  <a:pt x="13717" y="15331"/>
                  <a:pt x="13717" y="15429"/>
                </a:cubicBezTo>
                <a:cubicBezTo>
                  <a:pt x="13852" y="15461"/>
                  <a:pt x="13931" y="15394"/>
                  <a:pt x="14039" y="15304"/>
                </a:cubicBezTo>
              </a:path>
              <a:path w="2035" h="3648">
                <a:moveTo>
                  <a:pt x="13965" y="15156"/>
                </a:moveTo>
                <a:cubicBezTo>
                  <a:pt x="13965" y="15363"/>
                  <a:pt x="13965" y="15569"/>
                  <a:pt x="13965" y="15776"/>
                </a:cubicBezTo>
              </a:path>
              <a:path w="2035" h="3648">
                <a:moveTo>
                  <a:pt x="12725" y="15949"/>
                </a:moveTo>
                <a:cubicBezTo>
                  <a:pt x="13170" y="15949"/>
                  <a:pt x="13597" y="15908"/>
                  <a:pt x="14039" y="15875"/>
                </a:cubicBezTo>
                <a:cubicBezTo>
                  <a:pt x="14172" y="15875"/>
                  <a:pt x="14188" y="15875"/>
                  <a:pt x="14263" y="15875"/>
                </a:cubicBezTo>
              </a:path>
              <a:path w="2035" h="3648">
                <a:moveTo>
                  <a:pt x="12328" y="15627"/>
                </a:moveTo>
                <a:cubicBezTo>
                  <a:pt x="12435" y="15627"/>
                  <a:pt x="12543" y="15627"/>
                  <a:pt x="12650" y="15627"/>
                </a:cubicBezTo>
              </a:path>
              <a:path w="2035" h="3648">
                <a:moveTo>
                  <a:pt x="13866" y="16148"/>
                </a:moveTo>
                <a:cubicBezTo>
                  <a:pt x="13953" y="16148"/>
                  <a:pt x="14104" y="16134"/>
                  <a:pt x="14163" y="16222"/>
                </a:cubicBezTo>
                <a:cubicBezTo>
                  <a:pt x="14255" y="16360"/>
                  <a:pt x="14095" y="16445"/>
                  <a:pt x="14015" y="16520"/>
                </a:cubicBezTo>
                <a:cubicBezTo>
                  <a:pt x="13998" y="16537"/>
                  <a:pt x="13982" y="16553"/>
                  <a:pt x="13965" y="16570"/>
                </a:cubicBezTo>
                <a:cubicBezTo>
                  <a:pt x="14096" y="16500"/>
                  <a:pt x="14321" y="16428"/>
                  <a:pt x="14362" y="16669"/>
                </a:cubicBezTo>
                <a:cubicBezTo>
                  <a:pt x="14398" y="16879"/>
                  <a:pt x="14138" y="16942"/>
                  <a:pt x="13990" y="16942"/>
                </a:cubicBezTo>
                <a:cubicBezTo>
                  <a:pt x="13949" y="16934"/>
                  <a:pt x="13907" y="16925"/>
                  <a:pt x="13866" y="16917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81360" y="3983040"/>
            <a:ext cx="125640" cy="241200"/>
          </a:xfrm>
          <a:custGeom>
            <a:avLst/>
            <a:gdLst/>
            <a:ahLst/>
            <a:rect l="l" t="t" r="r" b="b"/>
            <a:pathLst>
              <a:path w="348" h="671">
                <a:moveTo>
                  <a:pt x="12774" y="11063"/>
                </a:moveTo>
                <a:cubicBezTo>
                  <a:pt x="12764" y="11220"/>
                  <a:pt x="12682" y="11430"/>
                  <a:pt x="12725" y="11584"/>
                </a:cubicBezTo>
                <a:cubicBezTo>
                  <a:pt x="12761" y="11713"/>
                  <a:pt x="12964" y="11635"/>
                  <a:pt x="13022" y="11584"/>
                </a:cubicBezTo>
                <a:cubicBezTo>
                  <a:pt x="13069" y="11513"/>
                  <a:pt x="13086" y="11494"/>
                  <a:pt x="13072" y="11435"/>
                </a:cubicBezTo>
                <a:cubicBezTo>
                  <a:pt x="12869" y="11418"/>
                  <a:pt x="12907" y="11552"/>
                  <a:pt x="12898" y="11733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87880" y="4749840"/>
            <a:ext cx="554040" cy="652320"/>
          </a:xfrm>
          <a:custGeom>
            <a:avLst/>
            <a:gdLst/>
            <a:ahLst/>
            <a:rect l="l" t="t" r="r" b="b"/>
            <a:pathLst>
              <a:path w="1539" h="1812">
                <a:moveTo>
                  <a:pt x="12378" y="13320"/>
                </a:moveTo>
                <a:cubicBezTo>
                  <a:pt x="12406" y="13263"/>
                  <a:pt x="12565" y="13091"/>
                  <a:pt x="12576" y="13271"/>
                </a:cubicBezTo>
                <a:cubicBezTo>
                  <a:pt x="12550" y="13401"/>
                  <a:pt x="12538" y="13447"/>
                  <a:pt x="12477" y="13519"/>
                </a:cubicBezTo>
                <a:cubicBezTo>
                  <a:pt x="12301" y="13648"/>
                  <a:pt x="12643" y="13347"/>
                  <a:pt x="12650" y="13543"/>
                </a:cubicBezTo>
                <a:cubicBezTo>
                  <a:pt x="12656" y="13711"/>
                  <a:pt x="12439" y="13777"/>
                  <a:pt x="12328" y="13767"/>
                </a:cubicBezTo>
              </a:path>
              <a:path w="1539" h="1812">
                <a:moveTo>
                  <a:pt x="12799" y="13345"/>
                </a:moveTo>
                <a:cubicBezTo>
                  <a:pt x="12799" y="13480"/>
                  <a:pt x="12745" y="13700"/>
                  <a:pt x="12874" y="13791"/>
                </a:cubicBezTo>
                <a:cubicBezTo>
                  <a:pt x="13028" y="13900"/>
                  <a:pt x="13059" y="13611"/>
                  <a:pt x="13047" y="13543"/>
                </a:cubicBezTo>
                <a:cubicBezTo>
                  <a:pt x="12943" y="13622"/>
                  <a:pt x="12906" y="13653"/>
                  <a:pt x="12874" y="13742"/>
                </a:cubicBezTo>
              </a:path>
              <a:path w="1539" h="1812">
                <a:moveTo>
                  <a:pt x="12105" y="14089"/>
                </a:moveTo>
                <a:cubicBezTo>
                  <a:pt x="12394" y="14089"/>
                  <a:pt x="12686" y="14072"/>
                  <a:pt x="12973" y="14114"/>
                </a:cubicBezTo>
                <a:cubicBezTo>
                  <a:pt x="13043" y="14124"/>
                  <a:pt x="13107" y="14140"/>
                  <a:pt x="13171" y="14163"/>
                </a:cubicBezTo>
              </a:path>
              <a:path w="1539" h="1812">
                <a:moveTo>
                  <a:pt x="11633" y="13816"/>
                </a:moveTo>
                <a:cubicBezTo>
                  <a:pt x="11691" y="13816"/>
                  <a:pt x="11716" y="13816"/>
                  <a:pt x="11757" y="13816"/>
                </a:cubicBezTo>
              </a:path>
              <a:path w="1539" h="1812">
                <a:moveTo>
                  <a:pt x="12824" y="14511"/>
                </a:moveTo>
                <a:cubicBezTo>
                  <a:pt x="12897" y="14486"/>
                  <a:pt x="12921" y="14478"/>
                  <a:pt x="12973" y="14486"/>
                </a:cubicBezTo>
                <a:cubicBezTo>
                  <a:pt x="13074" y="14674"/>
                  <a:pt x="12965" y="14765"/>
                  <a:pt x="12849" y="14932"/>
                </a:cubicBezTo>
                <a:cubicBezTo>
                  <a:pt x="12738" y="15092"/>
                  <a:pt x="13065" y="14944"/>
                  <a:pt x="13171" y="14932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Objective:  Students will divide decimals by whole number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Skill Practic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.)  291.7 ÷ 4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.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vide and round to the nearest tenth if necessary. (How many digits are needed to be able to do this?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.)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4.)  8.014 ÷ 6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8456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aa8456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aa8456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aa8456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295280" y="5029200"/>
          <a:ext cx="1447920" cy="8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5029200"/>
                    <a:ext cx="144792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5410080" y="1523880"/>
          <a:ext cx="1600200" cy="81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1523880"/>
                    <a:ext cx="160020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2608200" y="2687760"/>
            <a:ext cx="480960" cy="527040"/>
          </a:xfrm>
          <a:custGeom>
            <a:avLst/>
            <a:gdLst/>
            <a:ahLst/>
            <a:rect l="l" t="t" r="r" b="b"/>
            <a:pathLst>
              <a:path w="1340" h="1465">
                <a:moveTo>
                  <a:pt x="7417" y="7565"/>
                </a:moveTo>
                <a:cubicBezTo>
                  <a:pt x="7498" y="7525"/>
                  <a:pt x="7510" y="7509"/>
                  <a:pt x="7565" y="7516"/>
                </a:cubicBezTo>
                <a:cubicBezTo>
                  <a:pt x="7580" y="7735"/>
                  <a:pt x="7458" y="7851"/>
                  <a:pt x="7342" y="8037"/>
                </a:cubicBezTo>
                <a:cubicBezTo>
                  <a:pt x="7334" y="8053"/>
                  <a:pt x="7325" y="8070"/>
                  <a:pt x="7317" y="8086"/>
                </a:cubicBezTo>
                <a:cubicBezTo>
                  <a:pt x="7430" y="8042"/>
                  <a:pt x="7548" y="8020"/>
                  <a:pt x="7665" y="7987"/>
                </a:cubicBezTo>
              </a:path>
              <a:path w="1340" h="1465">
                <a:moveTo>
                  <a:pt x="7243" y="8384"/>
                </a:moveTo>
                <a:cubicBezTo>
                  <a:pt x="7444" y="8384"/>
                  <a:pt x="7636" y="8350"/>
                  <a:pt x="7838" y="8359"/>
                </a:cubicBezTo>
                <a:cubicBezTo>
                  <a:pt x="8083" y="8370"/>
                  <a:pt x="8342" y="8391"/>
                  <a:pt x="8582" y="8434"/>
                </a:cubicBezTo>
              </a:path>
              <a:path w="1340" h="1465">
                <a:moveTo>
                  <a:pt x="7590" y="8458"/>
                </a:moveTo>
                <a:cubicBezTo>
                  <a:pt x="7445" y="8502"/>
                  <a:pt x="7336" y="8607"/>
                  <a:pt x="7367" y="8781"/>
                </a:cubicBezTo>
                <a:cubicBezTo>
                  <a:pt x="7384" y="8814"/>
                  <a:pt x="7400" y="8847"/>
                  <a:pt x="7417" y="8880"/>
                </a:cubicBezTo>
                <a:cubicBezTo>
                  <a:pt x="7581" y="8850"/>
                  <a:pt x="7913" y="8764"/>
                  <a:pt x="7789" y="8508"/>
                </a:cubicBezTo>
                <a:cubicBezTo>
                  <a:pt x="7717" y="8460"/>
                  <a:pt x="7696" y="8445"/>
                  <a:pt x="7640" y="8434"/>
                </a:cubicBezTo>
              </a:path>
              <a:path w="1340" h="1465">
                <a:moveTo>
                  <a:pt x="8260" y="8483"/>
                </a:moveTo>
                <a:cubicBezTo>
                  <a:pt x="8076" y="8526"/>
                  <a:pt x="7919" y="8624"/>
                  <a:pt x="7962" y="8855"/>
                </a:cubicBezTo>
                <a:cubicBezTo>
                  <a:pt x="7979" y="8880"/>
                  <a:pt x="7995" y="8905"/>
                  <a:pt x="8012" y="8930"/>
                </a:cubicBezTo>
                <a:cubicBezTo>
                  <a:pt x="8148" y="8885"/>
                  <a:pt x="8453" y="8796"/>
                  <a:pt x="8334" y="8582"/>
                </a:cubicBezTo>
                <a:cubicBezTo>
                  <a:pt x="8309" y="8566"/>
                  <a:pt x="8285" y="8549"/>
                  <a:pt x="8260" y="8533"/>
                </a:cubicBezTo>
              </a:path>
              <a:path w="1340" h="1465">
                <a:moveTo>
                  <a:pt x="8186" y="7466"/>
                </a:moveTo>
                <a:cubicBezTo>
                  <a:pt x="8111" y="7466"/>
                  <a:pt x="8057" y="7431"/>
                  <a:pt x="8012" y="7491"/>
                </a:cubicBezTo>
                <a:cubicBezTo>
                  <a:pt x="7949" y="7574"/>
                  <a:pt x="7969" y="7786"/>
                  <a:pt x="7962" y="7888"/>
                </a:cubicBezTo>
                <a:cubicBezTo>
                  <a:pt x="8073" y="7814"/>
                  <a:pt x="8187" y="7680"/>
                  <a:pt x="8310" y="7838"/>
                </a:cubicBezTo>
                <a:cubicBezTo>
                  <a:pt x="8454" y="8023"/>
                  <a:pt x="8139" y="8105"/>
                  <a:pt x="8037" y="813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89160" y="3295800"/>
            <a:ext cx="519120" cy="820440"/>
          </a:xfrm>
          <a:custGeom>
            <a:avLst/>
            <a:gdLst/>
            <a:ahLst/>
            <a:rect l="l" t="t" r="r" b="b"/>
            <a:pathLst>
              <a:path w="1440" h="2283">
                <a:moveTo>
                  <a:pt x="8855" y="9153"/>
                </a:moveTo>
                <a:cubicBezTo>
                  <a:pt x="8820" y="9300"/>
                  <a:pt x="8802" y="9449"/>
                  <a:pt x="8781" y="9599"/>
                </a:cubicBezTo>
              </a:path>
              <a:path w="1440" h="2283">
                <a:moveTo>
                  <a:pt x="9079" y="9178"/>
                </a:moveTo>
                <a:cubicBezTo>
                  <a:pt x="9031" y="9307"/>
                  <a:pt x="9011" y="9410"/>
                  <a:pt x="9004" y="9550"/>
                </a:cubicBezTo>
                <a:cubicBezTo>
                  <a:pt x="9151" y="9561"/>
                  <a:pt x="9289" y="9468"/>
                  <a:pt x="9252" y="9277"/>
                </a:cubicBezTo>
                <a:cubicBezTo>
                  <a:pt x="9236" y="9269"/>
                  <a:pt x="9219" y="9260"/>
                  <a:pt x="9203" y="9252"/>
                </a:cubicBezTo>
              </a:path>
              <a:path w="1440" h="2283">
                <a:moveTo>
                  <a:pt x="8582" y="9847"/>
                </a:moveTo>
                <a:cubicBezTo>
                  <a:pt x="8658" y="9847"/>
                  <a:pt x="8684" y="9847"/>
                  <a:pt x="8731" y="9823"/>
                </a:cubicBezTo>
              </a:path>
              <a:path w="1440" h="2283">
                <a:moveTo>
                  <a:pt x="9277" y="9798"/>
                </a:moveTo>
                <a:cubicBezTo>
                  <a:pt x="9132" y="9742"/>
                  <a:pt x="9096" y="9759"/>
                  <a:pt x="9004" y="9897"/>
                </a:cubicBezTo>
                <a:cubicBezTo>
                  <a:pt x="9128" y="9920"/>
                  <a:pt x="9210" y="9918"/>
                  <a:pt x="9178" y="10046"/>
                </a:cubicBezTo>
                <a:cubicBezTo>
                  <a:pt x="8951" y="10046"/>
                  <a:pt x="9211" y="9923"/>
                  <a:pt x="9277" y="9847"/>
                </a:cubicBezTo>
                <a:cubicBezTo>
                  <a:pt x="9285" y="9831"/>
                  <a:pt x="9294" y="9814"/>
                  <a:pt x="9302" y="9798"/>
                </a:cubicBezTo>
              </a:path>
              <a:path w="1440" h="2283">
                <a:moveTo>
                  <a:pt x="8880" y="10244"/>
                </a:moveTo>
                <a:cubicBezTo>
                  <a:pt x="9013" y="10223"/>
                  <a:pt x="9143" y="10203"/>
                  <a:pt x="9277" y="10195"/>
                </a:cubicBezTo>
              </a:path>
              <a:path w="1440" h="2283">
                <a:moveTo>
                  <a:pt x="9203" y="10393"/>
                </a:moveTo>
                <a:cubicBezTo>
                  <a:pt x="9244" y="10393"/>
                  <a:pt x="9286" y="10393"/>
                  <a:pt x="9327" y="10393"/>
                </a:cubicBezTo>
                <a:cubicBezTo>
                  <a:pt x="9269" y="10451"/>
                  <a:pt x="9211" y="10509"/>
                  <a:pt x="9153" y="10567"/>
                </a:cubicBezTo>
                <a:cubicBezTo>
                  <a:pt x="9270" y="10567"/>
                  <a:pt x="9304" y="10569"/>
                  <a:pt x="9376" y="10542"/>
                </a:cubicBezTo>
              </a:path>
              <a:path w="1440" h="2283">
                <a:moveTo>
                  <a:pt x="9748" y="10319"/>
                </a:moveTo>
                <a:cubicBezTo>
                  <a:pt x="9655" y="10381"/>
                  <a:pt x="9625" y="10399"/>
                  <a:pt x="9575" y="10492"/>
                </a:cubicBezTo>
                <a:cubicBezTo>
                  <a:pt x="9644" y="10530"/>
                  <a:pt x="9927" y="10594"/>
                  <a:pt x="9872" y="10393"/>
                </a:cubicBezTo>
                <a:cubicBezTo>
                  <a:pt x="9799" y="10320"/>
                  <a:pt x="9777" y="10296"/>
                  <a:pt x="9699" y="10319"/>
                </a:cubicBezTo>
              </a:path>
              <a:path w="1440" h="2283">
                <a:moveTo>
                  <a:pt x="9178" y="10691"/>
                </a:moveTo>
                <a:lnTo>
                  <a:pt x="9178" y="10691"/>
                </a:lnTo>
              </a:path>
              <a:path w="1440" h="2283">
                <a:moveTo>
                  <a:pt x="8979" y="10740"/>
                </a:moveTo>
                <a:cubicBezTo>
                  <a:pt x="9029" y="10740"/>
                  <a:pt x="9046" y="10740"/>
                  <a:pt x="9079" y="10740"/>
                </a:cubicBezTo>
              </a:path>
              <a:path w="1440" h="2283">
                <a:moveTo>
                  <a:pt x="9376" y="10716"/>
                </a:moveTo>
                <a:cubicBezTo>
                  <a:pt x="9417" y="10696"/>
                  <a:pt x="9423" y="10687"/>
                  <a:pt x="9451" y="10691"/>
                </a:cubicBezTo>
                <a:cubicBezTo>
                  <a:pt x="9402" y="10836"/>
                  <a:pt x="9399" y="10847"/>
                  <a:pt x="9277" y="10939"/>
                </a:cubicBezTo>
                <a:cubicBezTo>
                  <a:pt x="9375" y="10939"/>
                  <a:pt x="9453" y="10929"/>
                  <a:pt x="9550" y="10914"/>
                </a:cubicBezTo>
              </a:path>
              <a:path w="1440" h="2283">
                <a:moveTo>
                  <a:pt x="9748" y="10691"/>
                </a:moveTo>
                <a:cubicBezTo>
                  <a:pt x="9720" y="10775"/>
                  <a:pt x="9706" y="10810"/>
                  <a:pt x="9674" y="10864"/>
                </a:cubicBezTo>
                <a:cubicBezTo>
                  <a:pt x="9803" y="10920"/>
                  <a:pt x="9840" y="10883"/>
                  <a:pt x="9872" y="10765"/>
                </a:cubicBezTo>
              </a:path>
              <a:path w="1440" h="2283">
                <a:moveTo>
                  <a:pt x="9153" y="11088"/>
                </a:moveTo>
                <a:cubicBezTo>
                  <a:pt x="9402" y="11081"/>
                  <a:pt x="9648" y="11063"/>
                  <a:pt x="9897" y="11063"/>
                </a:cubicBezTo>
              </a:path>
              <a:path w="1440" h="2283">
                <a:moveTo>
                  <a:pt x="9947" y="11137"/>
                </a:moveTo>
                <a:cubicBezTo>
                  <a:pt x="9861" y="11173"/>
                  <a:pt x="9662" y="11273"/>
                  <a:pt x="9748" y="11410"/>
                </a:cubicBezTo>
                <a:cubicBezTo>
                  <a:pt x="9811" y="11511"/>
                  <a:pt x="9979" y="11362"/>
                  <a:pt x="10021" y="11336"/>
                </a:cubicBezTo>
                <a:cubicBezTo>
                  <a:pt x="10021" y="11269"/>
                  <a:pt x="10004" y="11248"/>
                  <a:pt x="9922" y="11261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46120" y="2697120"/>
            <a:ext cx="1546200" cy="1509840"/>
          </a:xfrm>
          <a:custGeom>
            <a:avLst/>
            <a:gdLst/>
            <a:ahLst/>
            <a:rect l="l" t="t" r="r" b="b"/>
            <a:pathLst>
              <a:path w="4293" h="4193">
                <a:moveTo>
                  <a:pt x="4911" y="8657"/>
                </a:moveTo>
                <a:cubicBezTo>
                  <a:pt x="4977" y="8570"/>
                  <a:pt x="4987" y="8542"/>
                  <a:pt x="5060" y="8533"/>
                </a:cubicBezTo>
                <a:cubicBezTo>
                  <a:pt x="5169" y="8681"/>
                  <a:pt x="5206" y="8849"/>
                  <a:pt x="5060" y="9004"/>
                </a:cubicBezTo>
                <a:cubicBezTo>
                  <a:pt x="4962" y="9108"/>
                  <a:pt x="4792" y="9161"/>
                  <a:pt x="4762" y="9029"/>
                </a:cubicBezTo>
                <a:cubicBezTo>
                  <a:pt x="4892" y="8886"/>
                  <a:pt x="5021" y="8860"/>
                  <a:pt x="5209" y="8954"/>
                </a:cubicBezTo>
                <a:cubicBezTo>
                  <a:pt x="5226" y="8971"/>
                  <a:pt x="5242" y="8987"/>
                  <a:pt x="5259" y="9004"/>
                </a:cubicBezTo>
              </a:path>
              <a:path w="4293" h="4193">
                <a:moveTo>
                  <a:pt x="5680" y="8632"/>
                </a:moveTo>
                <a:cubicBezTo>
                  <a:pt x="5688" y="8563"/>
                  <a:pt x="5602" y="8387"/>
                  <a:pt x="5482" y="8483"/>
                </a:cubicBezTo>
                <a:cubicBezTo>
                  <a:pt x="5399" y="8549"/>
                  <a:pt x="5394" y="8664"/>
                  <a:pt x="5383" y="8756"/>
                </a:cubicBezTo>
                <a:cubicBezTo>
                  <a:pt x="5542" y="8724"/>
                  <a:pt x="5571" y="8712"/>
                  <a:pt x="5680" y="8582"/>
                </a:cubicBezTo>
                <a:cubicBezTo>
                  <a:pt x="5703" y="8722"/>
                  <a:pt x="5725" y="8859"/>
                  <a:pt x="5730" y="9004"/>
                </a:cubicBezTo>
                <a:cubicBezTo>
                  <a:pt x="5730" y="9012"/>
                  <a:pt x="5730" y="9021"/>
                  <a:pt x="5730" y="9029"/>
                </a:cubicBezTo>
              </a:path>
              <a:path w="4293" h="4193">
                <a:moveTo>
                  <a:pt x="6077" y="8434"/>
                </a:moveTo>
                <a:cubicBezTo>
                  <a:pt x="6096" y="8583"/>
                  <a:pt x="6144" y="8723"/>
                  <a:pt x="6152" y="8880"/>
                </a:cubicBezTo>
                <a:cubicBezTo>
                  <a:pt x="6152" y="8905"/>
                  <a:pt x="6152" y="8929"/>
                  <a:pt x="6152" y="8954"/>
                </a:cubicBezTo>
              </a:path>
              <a:path w="4293" h="4193">
                <a:moveTo>
                  <a:pt x="6424" y="8880"/>
                </a:moveTo>
                <a:cubicBezTo>
                  <a:pt x="6432" y="8897"/>
                  <a:pt x="6441" y="8913"/>
                  <a:pt x="6449" y="8930"/>
                </a:cubicBezTo>
              </a:path>
              <a:path w="4293" h="4193">
                <a:moveTo>
                  <a:pt x="6623" y="8458"/>
                </a:moveTo>
                <a:cubicBezTo>
                  <a:pt x="6748" y="8440"/>
                  <a:pt x="6871" y="8413"/>
                  <a:pt x="6995" y="8384"/>
                </a:cubicBezTo>
                <a:cubicBezTo>
                  <a:pt x="7016" y="8535"/>
                  <a:pt x="7020" y="8676"/>
                  <a:pt x="7020" y="8830"/>
                </a:cubicBezTo>
              </a:path>
              <a:path w="4293" h="4193">
                <a:moveTo>
                  <a:pt x="4787" y="9227"/>
                </a:moveTo>
                <a:cubicBezTo>
                  <a:pt x="4721" y="9045"/>
                  <a:pt x="4682" y="8864"/>
                  <a:pt x="4638" y="8682"/>
                </a:cubicBezTo>
                <a:cubicBezTo>
                  <a:pt x="4600" y="8526"/>
                  <a:pt x="4736" y="8547"/>
                  <a:pt x="4862" y="8533"/>
                </a:cubicBezTo>
                <a:cubicBezTo>
                  <a:pt x="5299" y="8485"/>
                  <a:pt x="5738" y="8445"/>
                  <a:pt x="6176" y="8409"/>
                </a:cubicBezTo>
                <a:cubicBezTo>
                  <a:pt x="6483" y="8384"/>
                  <a:pt x="6786" y="8384"/>
                  <a:pt x="7094" y="8384"/>
                </a:cubicBezTo>
                <a:cubicBezTo>
                  <a:pt x="7186" y="8384"/>
                  <a:pt x="7255" y="8372"/>
                  <a:pt x="7342" y="8359"/>
                </a:cubicBezTo>
              </a:path>
              <a:path w="4293" h="4193">
                <a:moveTo>
                  <a:pt x="4068" y="8756"/>
                </a:moveTo>
                <a:cubicBezTo>
                  <a:pt x="4009" y="8990"/>
                  <a:pt x="4023" y="8990"/>
                  <a:pt x="4266" y="8979"/>
                </a:cubicBezTo>
              </a:path>
              <a:path w="4293" h="4193">
                <a:moveTo>
                  <a:pt x="4366" y="8607"/>
                </a:moveTo>
                <a:cubicBezTo>
                  <a:pt x="4332" y="8841"/>
                  <a:pt x="4316" y="9066"/>
                  <a:pt x="4316" y="9302"/>
                </a:cubicBezTo>
              </a:path>
              <a:path w="4293" h="4193">
                <a:moveTo>
                  <a:pt x="5333" y="7838"/>
                </a:moveTo>
                <a:cubicBezTo>
                  <a:pt x="5413" y="7822"/>
                  <a:pt x="5487" y="7806"/>
                  <a:pt x="5556" y="7789"/>
                </a:cubicBezTo>
                <a:cubicBezTo>
                  <a:pt x="5548" y="7921"/>
                  <a:pt x="5504" y="8032"/>
                  <a:pt x="5482" y="8161"/>
                </a:cubicBezTo>
                <a:cubicBezTo>
                  <a:pt x="5482" y="8177"/>
                  <a:pt x="5482" y="8194"/>
                  <a:pt x="5482" y="8210"/>
                </a:cubicBezTo>
              </a:path>
              <a:path w="4293" h="4193">
                <a:moveTo>
                  <a:pt x="5110" y="9351"/>
                </a:moveTo>
                <a:cubicBezTo>
                  <a:pt x="5158" y="9312"/>
                  <a:pt x="5205" y="9282"/>
                  <a:pt x="5259" y="9252"/>
                </a:cubicBezTo>
                <a:cubicBezTo>
                  <a:pt x="5272" y="9392"/>
                  <a:pt x="5184" y="9467"/>
                  <a:pt x="5085" y="9575"/>
                </a:cubicBezTo>
                <a:cubicBezTo>
                  <a:pt x="5207" y="9560"/>
                  <a:pt x="5306" y="9516"/>
                  <a:pt x="5432" y="9500"/>
                </a:cubicBezTo>
              </a:path>
              <a:path w="4293" h="4193">
                <a:moveTo>
                  <a:pt x="5779" y="9203"/>
                </a:moveTo>
                <a:cubicBezTo>
                  <a:pt x="5745" y="9213"/>
                  <a:pt x="5497" y="9251"/>
                  <a:pt x="5606" y="9327"/>
                </a:cubicBezTo>
                <a:cubicBezTo>
                  <a:pt x="5700" y="9393"/>
                  <a:pt x="5686" y="9356"/>
                  <a:pt x="5730" y="9475"/>
                </a:cubicBezTo>
                <a:cubicBezTo>
                  <a:pt x="5713" y="9483"/>
                  <a:pt x="5697" y="9492"/>
                  <a:pt x="5680" y="9500"/>
                </a:cubicBezTo>
                <a:cubicBezTo>
                  <a:pt x="5653" y="9379"/>
                  <a:pt x="5714" y="9356"/>
                  <a:pt x="5779" y="9252"/>
                </a:cubicBezTo>
                <a:cubicBezTo>
                  <a:pt x="5787" y="9236"/>
                  <a:pt x="5796" y="9219"/>
                  <a:pt x="5804" y="9203"/>
                </a:cubicBezTo>
              </a:path>
              <a:path w="4293" h="4193">
                <a:moveTo>
                  <a:pt x="5135" y="9723"/>
                </a:moveTo>
                <a:cubicBezTo>
                  <a:pt x="5266" y="9658"/>
                  <a:pt x="5456" y="9636"/>
                  <a:pt x="5606" y="9624"/>
                </a:cubicBezTo>
                <a:cubicBezTo>
                  <a:pt x="5713" y="9624"/>
                  <a:pt x="5738" y="9624"/>
                  <a:pt x="5804" y="9624"/>
                </a:cubicBezTo>
              </a:path>
              <a:path w="4293" h="4193">
                <a:moveTo>
                  <a:pt x="5730" y="9847"/>
                </a:moveTo>
                <a:cubicBezTo>
                  <a:pt x="5771" y="9964"/>
                  <a:pt x="5787" y="9999"/>
                  <a:pt x="5755" y="10120"/>
                </a:cubicBezTo>
              </a:path>
              <a:path w="4293" h="4193">
                <a:moveTo>
                  <a:pt x="6127" y="9277"/>
                </a:moveTo>
                <a:cubicBezTo>
                  <a:pt x="6127" y="9353"/>
                  <a:pt x="6116" y="9377"/>
                  <a:pt x="6102" y="9451"/>
                </a:cubicBezTo>
              </a:path>
              <a:path w="4293" h="4193">
                <a:moveTo>
                  <a:pt x="6127" y="9798"/>
                </a:moveTo>
                <a:cubicBezTo>
                  <a:pt x="6146" y="9930"/>
                  <a:pt x="6158" y="10061"/>
                  <a:pt x="6176" y="10195"/>
                </a:cubicBezTo>
              </a:path>
              <a:path w="4293" h="4193">
                <a:moveTo>
                  <a:pt x="5978" y="9401"/>
                </a:moveTo>
                <a:cubicBezTo>
                  <a:pt x="6059" y="9469"/>
                  <a:pt x="6132" y="9568"/>
                  <a:pt x="6226" y="9475"/>
                </a:cubicBezTo>
                <a:cubicBezTo>
                  <a:pt x="6243" y="9450"/>
                  <a:pt x="6259" y="9426"/>
                  <a:pt x="6276" y="9401"/>
                </a:cubicBezTo>
              </a:path>
              <a:path w="4293" h="4193">
                <a:moveTo>
                  <a:pt x="5953" y="7764"/>
                </a:moveTo>
                <a:cubicBezTo>
                  <a:pt x="6078" y="7705"/>
                  <a:pt x="6072" y="7680"/>
                  <a:pt x="6176" y="7739"/>
                </a:cubicBezTo>
                <a:cubicBezTo>
                  <a:pt x="6161" y="7876"/>
                  <a:pt x="6106" y="7903"/>
                  <a:pt x="6003" y="7987"/>
                </a:cubicBezTo>
                <a:cubicBezTo>
                  <a:pt x="5973" y="8017"/>
                  <a:pt x="5959" y="8028"/>
                  <a:pt x="5928" y="8037"/>
                </a:cubicBezTo>
                <a:cubicBezTo>
                  <a:pt x="6034" y="8037"/>
                  <a:pt x="6122" y="8033"/>
                  <a:pt x="6226" y="8012"/>
                </a:cubicBezTo>
              </a:path>
              <a:path w="4293" h="4193">
                <a:moveTo>
                  <a:pt x="6276" y="10170"/>
                </a:moveTo>
                <a:cubicBezTo>
                  <a:pt x="6198" y="10170"/>
                  <a:pt x="6090" y="10158"/>
                  <a:pt x="6028" y="10220"/>
                </a:cubicBezTo>
                <a:cubicBezTo>
                  <a:pt x="5976" y="10271"/>
                  <a:pt x="6263" y="10362"/>
                  <a:pt x="6276" y="10368"/>
                </a:cubicBezTo>
                <a:cubicBezTo>
                  <a:pt x="6204" y="10390"/>
                  <a:pt x="6057" y="10435"/>
                  <a:pt x="6152" y="10344"/>
                </a:cubicBezTo>
                <a:cubicBezTo>
                  <a:pt x="6226" y="10269"/>
                  <a:pt x="6250" y="10244"/>
                  <a:pt x="6300" y="10195"/>
                </a:cubicBezTo>
              </a:path>
              <a:path w="4293" h="4193">
                <a:moveTo>
                  <a:pt x="5705" y="10492"/>
                </a:moveTo>
                <a:cubicBezTo>
                  <a:pt x="5902" y="10460"/>
                  <a:pt x="6102" y="10399"/>
                  <a:pt x="6300" y="10368"/>
                </a:cubicBezTo>
                <a:cubicBezTo>
                  <a:pt x="6325" y="10368"/>
                  <a:pt x="6350" y="10368"/>
                  <a:pt x="6375" y="10368"/>
                </a:cubicBezTo>
              </a:path>
              <a:path w="4293" h="4193">
                <a:moveTo>
                  <a:pt x="6226" y="10616"/>
                </a:moveTo>
                <a:cubicBezTo>
                  <a:pt x="6285" y="10610"/>
                  <a:pt x="6341" y="10598"/>
                  <a:pt x="6400" y="10592"/>
                </a:cubicBezTo>
                <a:cubicBezTo>
                  <a:pt x="6350" y="10716"/>
                  <a:pt x="6346" y="10730"/>
                  <a:pt x="6226" y="10790"/>
                </a:cubicBezTo>
                <a:cubicBezTo>
                  <a:pt x="6310" y="10776"/>
                  <a:pt x="6449" y="10694"/>
                  <a:pt x="6524" y="10790"/>
                </a:cubicBezTo>
                <a:cubicBezTo>
                  <a:pt x="6621" y="10913"/>
                  <a:pt x="6447" y="10943"/>
                  <a:pt x="6375" y="10964"/>
                </a:cubicBezTo>
              </a:path>
              <a:path w="4293" h="4193">
                <a:moveTo>
                  <a:pt x="6499" y="8086"/>
                </a:moveTo>
                <a:cubicBezTo>
                  <a:pt x="6484" y="8087"/>
                  <a:pt x="6473" y="8238"/>
                  <a:pt x="6499" y="8136"/>
                </a:cubicBezTo>
              </a:path>
              <a:path w="4293" h="4193">
                <a:moveTo>
                  <a:pt x="6970" y="9128"/>
                </a:moveTo>
                <a:cubicBezTo>
                  <a:pt x="6878" y="9107"/>
                  <a:pt x="6921" y="9532"/>
                  <a:pt x="6921" y="9674"/>
                </a:cubicBezTo>
                <a:cubicBezTo>
                  <a:pt x="6921" y="9775"/>
                  <a:pt x="6894" y="9933"/>
                  <a:pt x="6945" y="10021"/>
                </a:cubicBezTo>
              </a:path>
              <a:path w="4293" h="4193">
                <a:moveTo>
                  <a:pt x="6846" y="10368"/>
                </a:moveTo>
                <a:cubicBezTo>
                  <a:pt x="6951" y="10368"/>
                  <a:pt x="7072" y="10333"/>
                  <a:pt x="7069" y="10468"/>
                </a:cubicBezTo>
                <a:cubicBezTo>
                  <a:pt x="7066" y="10602"/>
                  <a:pt x="7020" y="10728"/>
                  <a:pt x="7020" y="10864"/>
                </a:cubicBezTo>
              </a:path>
              <a:path w="4293" h="4193">
                <a:moveTo>
                  <a:pt x="6970" y="7689"/>
                </a:moveTo>
                <a:cubicBezTo>
                  <a:pt x="6959" y="7563"/>
                  <a:pt x="6895" y="7391"/>
                  <a:pt x="6796" y="7590"/>
                </a:cubicBezTo>
                <a:cubicBezTo>
                  <a:pt x="6776" y="7672"/>
                  <a:pt x="6768" y="7688"/>
                  <a:pt x="6772" y="7739"/>
                </a:cubicBezTo>
                <a:cubicBezTo>
                  <a:pt x="6890" y="7773"/>
                  <a:pt x="6913" y="7718"/>
                  <a:pt x="6970" y="7615"/>
                </a:cubicBezTo>
                <a:cubicBezTo>
                  <a:pt x="6954" y="7775"/>
                  <a:pt x="6921" y="7923"/>
                  <a:pt x="6921" y="8086"/>
                </a:cubicBezTo>
              </a:path>
              <a:path w="4293" h="4193">
                <a:moveTo>
                  <a:pt x="6548" y="11013"/>
                </a:moveTo>
                <a:cubicBezTo>
                  <a:pt x="6586" y="11004"/>
                  <a:pt x="6808" y="10910"/>
                  <a:pt x="6796" y="11013"/>
                </a:cubicBezTo>
                <a:cubicBezTo>
                  <a:pt x="6772" y="11113"/>
                  <a:pt x="6763" y="11147"/>
                  <a:pt x="6697" y="11187"/>
                </a:cubicBezTo>
                <a:cubicBezTo>
                  <a:pt x="6779" y="11196"/>
                  <a:pt x="6895" y="11210"/>
                  <a:pt x="6796" y="11336"/>
                </a:cubicBezTo>
                <a:cubicBezTo>
                  <a:pt x="6740" y="11373"/>
                  <a:pt x="6736" y="11390"/>
                  <a:pt x="6697" y="11385"/>
                </a:cubicBezTo>
              </a:path>
              <a:path w="4293" h="4193">
                <a:moveTo>
                  <a:pt x="7094" y="10964"/>
                </a:moveTo>
                <a:cubicBezTo>
                  <a:pt x="7078" y="11017"/>
                  <a:pt x="6993" y="11190"/>
                  <a:pt x="7069" y="11237"/>
                </a:cubicBezTo>
                <a:cubicBezTo>
                  <a:pt x="7130" y="11275"/>
                  <a:pt x="7206" y="11191"/>
                  <a:pt x="7243" y="11162"/>
                </a:cubicBezTo>
                <a:cubicBezTo>
                  <a:pt x="7144" y="11220"/>
                  <a:pt x="7119" y="11253"/>
                  <a:pt x="7069" y="11361"/>
                </a:cubicBezTo>
              </a:path>
              <a:path w="4293" h="4193">
                <a:moveTo>
                  <a:pt x="7516" y="11088"/>
                </a:moveTo>
                <a:cubicBezTo>
                  <a:pt x="7325" y="11325"/>
                  <a:pt x="7086" y="11431"/>
                  <a:pt x="6846" y="11609"/>
                </a:cubicBezTo>
                <a:cubicBezTo>
                  <a:pt x="6821" y="11634"/>
                  <a:pt x="6797" y="11658"/>
                  <a:pt x="6772" y="11683"/>
                </a:cubicBezTo>
              </a:path>
              <a:path w="4293" h="4193">
                <a:moveTo>
                  <a:pt x="7714" y="11162"/>
                </a:moveTo>
                <a:cubicBezTo>
                  <a:pt x="7706" y="11289"/>
                  <a:pt x="7674" y="11408"/>
                  <a:pt x="7665" y="11534"/>
                </a:cubicBezTo>
              </a:path>
              <a:path w="4293" h="4193">
                <a:moveTo>
                  <a:pt x="8161" y="11013"/>
                </a:moveTo>
                <a:cubicBezTo>
                  <a:pt x="8010" y="11088"/>
                  <a:pt x="7975" y="11145"/>
                  <a:pt x="7987" y="11311"/>
                </a:cubicBezTo>
                <a:cubicBezTo>
                  <a:pt x="8108" y="11311"/>
                  <a:pt x="8408" y="11257"/>
                  <a:pt x="8310" y="11038"/>
                </a:cubicBezTo>
                <a:cubicBezTo>
                  <a:pt x="8285" y="11021"/>
                  <a:pt x="8260" y="11005"/>
                  <a:pt x="8235" y="10988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10240" y="1241280"/>
            <a:ext cx="660600" cy="2822760"/>
          </a:xfrm>
          <a:custGeom>
            <a:avLst/>
            <a:gdLst/>
            <a:ahLst/>
            <a:rect l="l" t="t" r="r" b="b"/>
            <a:pathLst>
              <a:path w="1836" h="7839">
                <a:moveTo>
                  <a:pt x="18405" y="3572"/>
                </a:moveTo>
                <a:cubicBezTo>
                  <a:pt x="18291" y="3580"/>
                  <a:pt x="18181" y="3590"/>
                  <a:pt x="18083" y="3646"/>
                </a:cubicBezTo>
                <a:cubicBezTo>
                  <a:pt x="18128" y="3801"/>
                  <a:pt x="18375" y="3952"/>
                  <a:pt x="18380" y="4118"/>
                </a:cubicBezTo>
                <a:cubicBezTo>
                  <a:pt x="18383" y="4211"/>
                  <a:pt x="18318" y="4230"/>
                  <a:pt x="18256" y="4242"/>
                </a:cubicBezTo>
                <a:cubicBezTo>
                  <a:pt x="18220" y="4046"/>
                  <a:pt x="18360" y="3952"/>
                  <a:pt x="18430" y="3770"/>
                </a:cubicBezTo>
                <a:cubicBezTo>
                  <a:pt x="18430" y="3754"/>
                  <a:pt x="18430" y="3737"/>
                  <a:pt x="18430" y="3721"/>
                </a:cubicBezTo>
              </a:path>
              <a:path w="1836" h="7839">
                <a:moveTo>
                  <a:pt x="18752" y="3820"/>
                </a:moveTo>
                <a:lnTo>
                  <a:pt x="18752" y="3820"/>
                </a:lnTo>
              </a:path>
              <a:path w="1836" h="7839">
                <a:moveTo>
                  <a:pt x="18703" y="3597"/>
                </a:moveTo>
                <a:cubicBezTo>
                  <a:pt x="18789" y="3571"/>
                  <a:pt x="18899" y="3572"/>
                  <a:pt x="19000" y="3572"/>
                </a:cubicBezTo>
                <a:cubicBezTo>
                  <a:pt x="19018" y="3749"/>
                  <a:pt x="18990" y="3892"/>
                  <a:pt x="18951" y="4068"/>
                </a:cubicBezTo>
              </a:path>
              <a:path w="1836" h="7839">
                <a:moveTo>
                  <a:pt x="18604" y="10567"/>
                </a:moveTo>
                <a:cubicBezTo>
                  <a:pt x="18604" y="10676"/>
                  <a:pt x="18599" y="10702"/>
                  <a:pt x="18628" y="10765"/>
                </a:cubicBezTo>
              </a:path>
              <a:path w="1836" h="7839">
                <a:moveTo>
                  <a:pt x="18876" y="10542"/>
                </a:moveTo>
                <a:cubicBezTo>
                  <a:pt x="18906" y="10624"/>
                  <a:pt x="18947" y="10752"/>
                  <a:pt x="19075" y="10691"/>
                </a:cubicBezTo>
                <a:cubicBezTo>
                  <a:pt x="19134" y="10663"/>
                  <a:pt x="19109" y="10578"/>
                  <a:pt x="19100" y="10542"/>
                </a:cubicBezTo>
                <a:cubicBezTo>
                  <a:pt x="19100" y="10659"/>
                  <a:pt x="19098" y="10693"/>
                  <a:pt x="19124" y="10765"/>
                </a:cubicBezTo>
              </a:path>
              <a:path w="1836" h="7839">
                <a:moveTo>
                  <a:pt x="18355" y="10889"/>
                </a:moveTo>
                <a:cubicBezTo>
                  <a:pt x="18704" y="10889"/>
                  <a:pt x="19049" y="10891"/>
                  <a:pt x="19397" y="10864"/>
                </a:cubicBezTo>
              </a:path>
              <a:path w="1836" h="7839">
                <a:moveTo>
                  <a:pt x="19273" y="11013"/>
                </a:moveTo>
                <a:cubicBezTo>
                  <a:pt x="19273" y="11104"/>
                  <a:pt x="19273" y="11195"/>
                  <a:pt x="19273" y="11286"/>
                </a:cubicBezTo>
              </a:path>
              <a:path w="1836" h="7839">
                <a:moveTo>
                  <a:pt x="19745" y="10988"/>
                </a:moveTo>
                <a:cubicBezTo>
                  <a:pt x="19695" y="11063"/>
                  <a:pt x="19679" y="11088"/>
                  <a:pt x="19645" y="11137"/>
                </a:cubicBezTo>
                <a:cubicBezTo>
                  <a:pt x="19706" y="11232"/>
                  <a:pt x="19865" y="11351"/>
                  <a:pt x="19918" y="11137"/>
                </a:cubicBezTo>
                <a:cubicBezTo>
                  <a:pt x="19942" y="11042"/>
                  <a:pt x="19771" y="10991"/>
                  <a:pt x="19720" y="10964"/>
                </a:cubicBezTo>
              </a:path>
              <a:path w="1836" h="7839">
                <a:moveTo>
                  <a:pt x="19521" y="4911"/>
                </a:moveTo>
                <a:cubicBezTo>
                  <a:pt x="19407" y="4837"/>
                  <a:pt x="19368" y="4843"/>
                  <a:pt x="19273" y="4961"/>
                </a:cubicBezTo>
                <a:cubicBezTo>
                  <a:pt x="19139" y="5126"/>
                  <a:pt x="19098" y="5478"/>
                  <a:pt x="19422" y="5432"/>
                </a:cubicBezTo>
                <a:cubicBezTo>
                  <a:pt x="19680" y="5396"/>
                  <a:pt x="19586" y="5173"/>
                  <a:pt x="19472" y="5085"/>
                </a:cubicBezTo>
              </a:path>
              <a:path w="1836" h="7839">
                <a:moveTo>
                  <a:pt x="19372" y="5953"/>
                </a:moveTo>
                <a:cubicBezTo>
                  <a:pt x="19316" y="6142"/>
                  <a:pt x="19301" y="6323"/>
                  <a:pt x="19298" y="6524"/>
                </a:cubicBezTo>
                <a:cubicBezTo>
                  <a:pt x="19294" y="6792"/>
                  <a:pt x="19240" y="7050"/>
                  <a:pt x="19224" y="7317"/>
                </a:cubicBezTo>
                <a:cubicBezTo>
                  <a:pt x="19212" y="7521"/>
                  <a:pt x="19224" y="7736"/>
                  <a:pt x="19248" y="7938"/>
                </a:cubicBezTo>
                <a:cubicBezTo>
                  <a:pt x="19267" y="8101"/>
                  <a:pt x="19297" y="8273"/>
                  <a:pt x="19323" y="8434"/>
                </a:cubicBezTo>
                <a:cubicBezTo>
                  <a:pt x="19339" y="8531"/>
                  <a:pt x="19362" y="8634"/>
                  <a:pt x="19372" y="8731"/>
                </a:cubicBezTo>
                <a:cubicBezTo>
                  <a:pt x="19381" y="8824"/>
                  <a:pt x="19413" y="8911"/>
                  <a:pt x="19422" y="9004"/>
                </a:cubicBezTo>
                <a:cubicBezTo>
                  <a:pt x="19437" y="9163"/>
                  <a:pt x="19484" y="9313"/>
                  <a:pt x="19496" y="9475"/>
                </a:cubicBezTo>
                <a:cubicBezTo>
                  <a:pt x="19505" y="9590"/>
                  <a:pt x="19484" y="9683"/>
                  <a:pt x="19496" y="9798"/>
                </a:cubicBezTo>
                <a:cubicBezTo>
                  <a:pt x="19504" y="9872"/>
                  <a:pt x="19519" y="9905"/>
                  <a:pt x="19546" y="9971"/>
                </a:cubicBezTo>
              </a:path>
              <a:path w="1836" h="7839">
                <a:moveTo>
                  <a:pt x="19472" y="9699"/>
                </a:moveTo>
                <a:cubicBezTo>
                  <a:pt x="19554" y="9829"/>
                  <a:pt x="19546" y="9940"/>
                  <a:pt x="19546" y="10096"/>
                </a:cubicBezTo>
                <a:cubicBezTo>
                  <a:pt x="19546" y="10193"/>
                  <a:pt x="19561" y="10274"/>
                  <a:pt x="19571" y="10368"/>
                </a:cubicBezTo>
              </a:path>
              <a:path w="1836" h="7839">
                <a:moveTo>
                  <a:pt x="19397" y="10319"/>
                </a:moveTo>
                <a:cubicBezTo>
                  <a:pt x="19482" y="10443"/>
                  <a:pt x="19555" y="10522"/>
                  <a:pt x="19670" y="10616"/>
                </a:cubicBezTo>
                <a:cubicBezTo>
                  <a:pt x="19745" y="10528"/>
                  <a:pt x="19802" y="10441"/>
                  <a:pt x="19869" y="10344"/>
                </a:cubicBezTo>
              </a:path>
              <a:path w="1836" h="7839">
                <a:moveTo>
                  <a:pt x="19769" y="3473"/>
                </a:moveTo>
                <a:cubicBezTo>
                  <a:pt x="19717" y="3465"/>
                  <a:pt x="19575" y="3414"/>
                  <a:pt x="19521" y="3448"/>
                </a:cubicBezTo>
                <a:cubicBezTo>
                  <a:pt x="19452" y="3491"/>
                  <a:pt x="19368" y="3608"/>
                  <a:pt x="19397" y="3696"/>
                </a:cubicBezTo>
                <a:cubicBezTo>
                  <a:pt x="19413" y="3744"/>
                  <a:pt x="19423" y="3780"/>
                  <a:pt x="19447" y="3820"/>
                </a:cubicBezTo>
                <a:cubicBezTo>
                  <a:pt x="19509" y="3807"/>
                  <a:pt x="19631" y="3726"/>
                  <a:pt x="19695" y="3770"/>
                </a:cubicBezTo>
                <a:cubicBezTo>
                  <a:pt x="19867" y="3888"/>
                  <a:pt x="19879" y="4069"/>
                  <a:pt x="19695" y="4167"/>
                </a:cubicBezTo>
                <a:cubicBezTo>
                  <a:pt x="19613" y="4210"/>
                  <a:pt x="19510" y="4192"/>
                  <a:pt x="19422" y="4192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13320" y="1276200"/>
            <a:ext cx="36720" cy="250920"/>
          </a:xfrm>
          <a:custGeom>
            <a:avLst/>
            <a:gdLst/>
            <a:ahLst/>
            <a:rect l="l" t="t" r="r" b="b"/>
            <a:pathLst>
              <a:path w="100" h="696">
                <a:moveTo>
                  <a:pt x="17636" y="3572"/>
                </a:moveTo>
                <a:cubicBezTo>
                  <a:pt x="17440" y="3621"/>
                  <a:pt x="17546" y="3975"/>
                  <a:pt x="17587" y="4167"/>
                </a:cubicBezTo>
                <a:cubicBezTo>
                  <a:pt x="17595" y="4192"/>
                  <a:pt x="17603" y="4217"/>
                  <a:pt x="17611" y="4242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56200" y="1303200"/>
            <a:ext cx="223920" cy="250920"/>
          </a:xfrm>
          <a:custGeom>
            <a:avLst/>
            <a:gdLst/>
            <a:ahLst/>
            <a:rect l="l" t="t" r="r" b="b"/>
            <a:pathLst>
              <a:path w="621" h="696">
                <a:moveTo>
                  <a:pt x="16545" y="3621"/>
                </a:moveTo>
                <a:cubicBezTo>
                  <a:pt x="16584" y="3810"/>
                  <a:pt x="16591" y="4008"/>
                  <a:pt x="16644" y="4192"/>
                </a:cubicBezTo>
              </a:path>
              <a:path w="621" h="696">
                <a:moveTo>
                  <a:pt x="17165" y="4217"/>
                </a:moveTo>
                <a:cubicBezTo>
                  <a:pt x="17117" y="4241"/>
                  <a:pt x="17100" y="4251"/>
                  <a:pt x="17115" y="4192"/>
                </a:cubicBezTo>
                <a:cubicBezTo>
                  <a:pt x="17090" y="4274"/>
                  <a:pt x="17074" y="4261"/>
                  <a:pt x="17115" y="431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23000" y="2152800"/>
            <a:ext cx="1079280" cy="1579320"/>
          </a:xfrm>
          <a:custGeom>
            <a:avLst/>
            <a:gdLst/>
            <a:ahLst/>
            <a:rect l="l" t="t" r="r" b="b"/>
            <a:pathLst>
              <a:path w="3002" h="4391">
                <a:moveTo>
                  <a:pt x="16594" y="6152"/>
                </a:moveTo>
                <a:cubicBezTo>
                  <a:pt x="16653" y="6152"/>
                  <a:pt x="16679" y="6149"/>
                  <a:pt x="16718" y="6127"/>
                </a:cubicBezTo>
                <a:cubicBezTo>
                  <a:pt x="16771" y="6302"/>
                  <a:pt x="16691" y="6371"/>
                  <a:pt x="16570" y="6499"/>
                </a:cubicBezTo>
                <a:cubicBezTo>
                  <a:pt x="16421" y="6656"/>
                  <a:pt x="16627" y="6569"/>
                  <a:pt x="16743" y="6548"/>
                </a:cubicBezTo>
              </a:path>
              <a:path w="3002" h="4391">
                <a:moveTo>
                  <a:pt x="16173" y="6424"/>
                </a:moveTo>
                <a:cubicBezTo>
                  <a:pt x="16198" y="6416"/>
                  <a:pt x="16222" y="6408"/>
                  <a:pt x="16247" y="6400"/>
                </a:cubicBezTo>
              </a:path>
              <a:path w="3002" h="4391">
                <a:moveTo>
                  <a:pt x="16371" y="6896"/>
                </a:moveTo>
                <a:cubicBezTo>
                  <a:pt x="16545" y="6896"/>
                  <a:pt x="16718" y="6896"/>
                  <a:pt x="16892" y="6896"/>
                </a:cubicBezTo>
              </a:path>
              <a:path w="3002" h="4391">
                <a:moveTo>
                  <a:pt x="16694" y="7293"/>
                </a:moveTo>
                <a:cubicBezTo>
                  <a:pt x="16631" y="7399"/>
                  <a:pt x="16480" y="7657"/>
                  <a:pt x="16743" y="7640"/>
                </a:cubicBezTo>
                <a:cubicBezTo>
                  <a:pt x="16957" y="7626"/>
                  <a:pt x="17036" y="7498"/>
                  <a:pt x="16892" y="7367"/>
                </a:cubicBezTo>
              </a:path>
              <a:path w="3002" h="4391">
                <a:moveTo>
                  <a:pt x="17438" y="6003"/>
                </a:moveTo>
                <a:cubicBezTo>
                  <a:pt x="17438" y="6076"/>
                  <a:pt x="17425" y="6415"/>
                  <a:pt x="17438" y="6573"/>
                </a:cubicBezTo>
                <a:cubicBezTo>
                  <a:pt x="17457" y="6672"/>
                  <a:pt x="17465" y="6688"/>
                  <a:pt x="17462" y="6747"/>
                </a:cubicBezTo>
              </a:path>
              <a:path w="3002" h="4391">
                <a:moveTo>
                  <a:pt x="17289" y="6648"/>
                </a:moveTo>
                <a:cubicBezTo>
                  <a:pt x="17374" y="6780"/>
                  <a:pt x="17404" y="6893"/>
                  <a:pt x="17537" y="6747"/>
                </a:cubicBezTo>
                <a:cubicBezTo>
                  <a:pt x="17615" y="6650"/>
                  <a:pt x="17632" y="6639"/>
                  <a:pt x="17661" y="6573"/>
                </a:cubicBezTo>
              </a:path>
              <a:path w="3002" h="4391">
                <a:moveTo>
                  <a:pt x="17363" y="7144"/>
                </a:moveTo>
                <a:cubicBezTo>
                  <a:pt x="17469" y="7120"/>
                  <a:pt x="17741" y="7010"/>
                  <a:pt x="17686" y="7193"/>
                </a:cubicBezTo>
                <a:cubicBezTo>
                  <a:pt x="17647" y="7322"/>
                  <a:pt x="17577" y="7321"/>
                  <a:pt x="17462" y="7342"/>
                </a:cubicBezTo>
                <a:cubicBezTo>
                  <a:pt x="17551" y="7240"/>
                  <a:pt x="17718" y="7272"/>
                  <a:pt x="17810" y="7392"/>
                </a:cubicBezTo>
                <a:cubicBezTo>
                  <a:pt x="17972" y="7602"/>
                  <a:pt x="17419" y="7567"/>
                  <a:pt x="17388" y="7565"/>
                </a:cubicBezTo>
              </a:path>
              <a:path w="3002" h="4391">
                <a:moveTo>
                  <a:pt x="17537" y="7863"/>
                </a:moveTo>
                <a:cubicBezTo>
                  <a:pt x="17654" y="7829"/>
                  <a:pt x="17717" y="7824"/>
                  <a:pt x="17835" y="7838"/>
                </a:cubicBezTo>
                <a:cubicBezTo>
                  <a:pt x="17786" y="8035"/>
                  <a:pt x="17688" y="8064"/>
                  <a:pt x="17537" y="8186"/>
                </a:cubicBezTo>
                <a:cubicBezTo>
                  <a:pt x="17397" y="8299"/>
                  <a:pt x="17796" y="8193"/>
                  <a:pt x="17859" y="8186"/>
                </a:cubicBezTo>
              </a:path>
              <a:path w="3002" h="4391">
                <a:moveTo>
                  <a:pt x="17115" y="8458"/>
                </a:moveTo>
                <a:cubicBezTo>
                  <a:pt x="17382" y="8441"/>
                  <a:pt x="17679" y="8464"/>
                  <a:pt x="17934" y="8409"/>
                </a:cubicBezTo>
              </a:path>
              <a:path w="3002" h="4391">
                <a:moveTo>
                  <a:pt x="16619" y="8012"/>
                </a:moveTo>
                <a:cubicBezTo>
                  <a:pt x="16652" y="8012"/>
                  <a:pt x="16685" y="8012"/>
                  <a:pt x="16718" y="8012"/>
                </a:cubicBezTo>
              </a:path>
              <a:path w="3002" h="4391">
                <a:moveTo>
                  <a:pt x="17835" y="8632"/>
                </a:moveTo>
                <a:cubicBezTo>
                  <a:pt x="17873" y="8825"/>
                  <a:pt x="17884" y="9006"/>
                  <a:pt x="17884" y="9203"/>
                </a:cubicBezTo>
              </a:path>
              <a:path w="3002" h="4391">
                <a:moveTo>
                  <a:pt x="18132" y="6325"/>
                </a:moveTo>
                <a:cubicBezTo>
                  <a:pt x="18132" y="6707"/>
                  <a:pt x="18153" y="7085"/>
                  <a:pt x="18157" y="7466"/>
                </a:cubicBezTo>
                <a:cubicBezTo>
                  <a:pt x="18159" y="7665"/>
                  <a:pt x="18157" y="7863"/>
                  <a:pt x="18157" y="8062"/>
                </a:cubicBezTo>
              </a:path>
              <a:path w="3002" h="4391">
                <a:moveTo>
                  <a:pt x="17983" y="7813"/>
                </a:moveTo>
                <a:cubicBezTo>
                  <a:pt x="18042" y="7921"/>
                  <a:pt x="18102" y="8026"/>
                  <a:pt x="18157" y="8136"/>
                </a:cubicBezTo>
                <a:cubicBezTo>
                  <a:pt x="18271" y="8051"/>
                  <a:pt x="18314" y="8011"/>
                  <a:pt x="18355" y="7913"/>
                </a:cubicBezTo>
              </a:path>
              <a:path w="3002" h="4391">
                <a:moveTo>
                  <a:pt x="18157" y="8632"/>
                </a:moveTo>
                <a:cubicBezTo>
                  <a:pt x="18253" y="8568"/>
                  <a:pt x="18369" y="8582"/>
                  <a:pt x="18504" y="8582"/>
                </a:cubicBezTo>
                <a:cubicBezTo>
                  <a:pt x="18486" y="8757"/>
                  <a:pt x="18459" y="8927"/>
                  <a:pt x="18455" y="9103"/>
                </a:cubicBezTo>
                <a:cubicBezTo>
                  <a:pt x="18455" y="9128"/>
                  <a:pt x="18455" y="9153"/>
                  <a:pt x="18455" y="9178"/>
                </a:cubicBezTo>
              </a:path>
              <a:path w="3002" h="4391">
                <a:moveTo>
                  <a:pt x="17983" y="9302"/>
                </a:moveTo>
                <a:cubicBezTo>
                  <a:pt x="17991" y="9418"/>
                  <a:pt x="18002" y="9532"/>
                  <a:pt x="18008" y="9649"/>
                </a:cubicBezTo>
              </a:path>
              <a:path w="3002" h="4391">
                <a:moveTo>
                  <a:pt x="18355" y="9351"/>
                </a:moveTo>
                <a:cubicBezTo>
                  <a:pt x="18335" y="9474"/>
                  <a:pt x="18274" y="9555"/>
                  <a:pt x="18355" y="9674"/>
                </a:cubicBezTo>
                <a:cubicBezTo>
                  <a:pt x="18446" y="9808"/>
                  <a:pt x="18563" y="9579"/>
                  <a:pt x="18579" y="9525"/>
                </a:cubicBezTo>
                <a:cubicBezTo>
                  <a:pt x="18473" y="9513"/>
                  <a:pt x="18479" y="9535"/>
                  <a:pt x="18405" y="9624"/>
                </a:cubicBezTo>
              </a:path>
              <a:path w="3002" h="4391">
                <a:moveTo>
                  <a:pt x="17959" y="9897"/>
                </a:moveTo>
                <a:cubicBezTo>
                  <a:pt x="18241" y="9876"/>
                  <a:pt x="18519" y="9872"/>
                  <a:pt x="18802" y="9872"/>
                </a:cubicBezTo>
              </a:path>
              <a:path w="3002" h="4391">
                <a:moveTo>
                  <a:pt x="17363" y="9426"/>
                </a:moveTo>
                <a:cubicBezTo>
                  <a:pt x="17404" y="9426"/>
                  <a:pt x="17446" y="9426"/>
                  <a:pt x="17487" y="9426"/>
                </a:cubicBezTo>
              </a:path>
              <a:path w="3002" h="4391">
                <a:moveTo>
                  <a:pt x="18529" y="10096"/>
                </a:moveTo>
                <a:cubicBezTo>
                  <a:pt x="18566" y="10219"/>
                  <a:pt x="18579" y="10239"/>
                  <a:pt x="18579" y="10368"/>
                </a:cubicBezTo>
              </a:path>
              <a:path w="3002" h="4391">
                <a:moveTo>
                  <a:pt x="18728" y="6276"/>
                </a:moveTo>
                <a:cubicBezTo>
                  <a:pt x="18682" y="6502"/>
                  <a:pt x="18725" y="6737"/>
                  <a:pt x="18728" y="6970"/>
                </a:cubicBezTo>
                <a:cubicBezTo>
                  <a:pt x="18732" y="7313"/>
                  <a:pt x="18774" y="7671"/>
                  <a:pt x="18752" y="8012"/>
                </a:cubicBezTo>
                <a:cubicBezTo>
                  <a:pt x="18743" y="8154"/>
                  <a:pt x="18746" y="8267"/>
                  <a:pt x="18752" y="8409"/>
                </a:cubicBezTo>
                <a:cubicBezTo>
                  <a:pt x="18757" y="8539"/>
                  <a:pt x="18789" y="8652"/>
                  <a:pt x="18802" y="8781"/>
                </a:cubicBezTo>
                <a:cubicBezTo>
                  <a:pt x="18817" y="8922"/>
                  <a:pt x="18809" y="9064"/>
                  <a:pt x="18827" y="9203"/>
                </a:cubicBezTo>
                <a:cubicBezTo>
                  <a:pt x="18827" y="9247"/>
                  <a:pt x="18824" y="9261"/>
                  <a:pt x="18852" y="9277"/>
                </a:cubicBezTo>
              </a:path>
              <a:path w="3002" h="4391">
                <a:moveTo>
                  <a:pt x="19124" y="10096"/>
                </a:moveTo>
                <a:cubicBezTo>
                  <a:pt x="19000" y="10096"/>
                  <a:pt x="18930" y="10078"/>
                  <a:pt x="18852" y="10170"/>
                </a:cubicBezTo>
                <a:cubicBezTo>
                  <a:pt x="18951" y="10288"/>
                  <a:pt x="19001" y="10170"/>
                  <a:pt x="19124" y="10244"/>
                </a:cubicBezTo>
                <a:cubicBezTo>
                  <a:pt x="19309" y="10355"/>
                  <a:pt x="19003" y="10367"/>
                  <a:pt x="18976" y="10368"/>
                </a:cubicBezTo>
              </a:path>
              <a:path w="3002" h="4391">
                <a:moveTo>
                  <a:pt x="18852" y="9252"/>
                </a:moveTo>
                <a:cubicBezTo>
                  <a:pt x="18901" y="9377"/>
                  <a:pt x="18974" y="9495"/>
                  <a:pt x="19000" y="9624"/>
                </a:cubicBezTo>
                <a:cubicBezTo>
                  <a:pt x="19036" y="9502"/>
                  <a:pt x="19064" y="9404"/>
                  <a:pt x="19075" y="9277"/>
                </a:cubicBezTo>
              </a:path>
              <a:path w="3002" h="4391">
                <a:moveTo>
                  <a:pt x="18901" y="9451"/>
                </a:moveTo>
                <a:cubicBezTo>
                  <a:pt x="18915" y="9586"/>
                  <a:pt x="18901" y="9611"/>
                  <a:pt x="19000" y="9699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27160" y="4822920"/>
            <a:ext cx="268200" cy="241200"/>
          </a:xfrm>
          <a:custGeom>
            <a:avLst/>
            <a:gdLst/>
            <a:ahLst/>
            <a:rect l="l" t="t" r="r" b="b"/>
            <a:pathLst>
              <a:path w="745" h="670">
                <a:moveTo>
                  <a:pt x="5705" y="14015"/>
                </a:moveTo>
                <a:cubicBezTo>
                  <a:pt x="5705" y="13816"/>
                  <a:pt x="5601" y="14020"/>
                  <a:pt x="5631" y="14064"/>
                </a:cubicBezTo>
                <a:cubicBezTo>
                  <a:pt x="5672" y="14123"/>
                  <a:pt x="5745" y="13981"/>
                  <a:pt x="5755" y="13965"/>
                </a:cubicBezTo>
                <a:cubicBezTo>
                  <a:pt x="5662" y="13965"/>
                  <a:pt x="5631" y="13958"/>
                  <a:pt x="5631" y="14039"/>
                </a:cubicBezTo>
              </a:path>
              <a:path w="745" h="670">
                <a:moveTo>
                  <a:pt x="6003" y="13519"/>
                </a:moveTo>
                <a:cubicBezTo>
                  <a:pt x="6069" y="13482"/>
                  <a:pt x="6120" y="13445"/>
                  <a:pt x="6176" y="13395"/>
                </a:cubicBezTo>
                <a:cubicBezTo>
                  <a:pt x="6296" y="13526"/>
                  <a:pt x="6258" y="13587"/>
                  <a:pt x="6176" y="13742"/>
                </a:cubicBezTo>
                <a:cubicBezTo>
                  <a:pt x="6120" y="13849"/>
                  <a:pt x="6094" y="13890"/>
                  <a:pt x="6003" y="13965"/>
                </a:cubicBezTo>
                <a:cubicBezTo>
                  <a:pt x="6133" y="13972"/>
                  <a:pt x="6240" y="13953"/>
                  <a:pt x="6375" y="13940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05000" y="5626080"/>
            <a:ext cx="339840" cy="366840"/>
          </a:xfrm>
          <a:custGeom>
            <a:avLst/>
            <a:gdLst/>
            <a:ahLst/>
            <a:rect l="l" t="t" r="r" b="b"/>
            <a:pathLst>
              <a:path w="943" h="1018">
                <a:moveTo>
                  <a:pt x="6152" y="15627"/>
                </a:moveTo>
                <a:cubicBezTo>
                  <a:pt x="6141" y="15747"/>
                  <a:pt x="6044" y="15949"/>
                  <a:pt x="6251" y="15949"/>
                </a:cubicBezTo>
                <a:cubicBezTo>
                  <a:pt x="6350" y="15900"/>
                  <a:pt x="6383" y="15883"/>
                  <a:pt x="6400" y="15801"/>
                </a:cubicBezTo>
                <a:cubicBezTo>
                  <a:pt x="6274" y="15800"/>
                  <a:pt x="6276" y="15838"/>
                  <a:pt x="6201" y="15949"/>
                </a:cubicBezTo>
              </a:path>
              <a:path w="943" h="1018">
                <a:moveTo>
                  <a:pt x="6226" y="16024"/>
                </a:moveTo>
                <a:cubicBezTo>
                  <a:pt x="6383" y="16024"/>
                  <a:pt x="6425" y="16024"/>
                  <a:pt x="6524" y="16024"/>
                </a:cubicBezTo>
              </a:path>
              <a:path w="943" h="1018">
                <a:moveTo>
                  <a:pt x="6276" y="16148"/>
                </a:moveTo>
                <a:cubicBezTo>
                  <a:pt x="6328" y="16169"/>
                  <a:pt x="6470" y="16210"/>
                  <a:pt x="6449" y="16297"/>
                </a:cubicBezTo>
                <a:cubicBezTo>
                  <a:pt x="6437" y="16345"/>
                  <a:pt x="6336" y="16391"/>
                  <a:pt x="6300" y="16421"/>
                </a:cubicBezTo>
                <a:cubicBezTo>
                  <a:pt x="6377" y="16444"/>
                  <a:pt x="6441" y="16446"/>
                  <a:pt x="6524" y="16446"/>
                </a:cubicBezTo>
              </a:path>
              <a:path w="943" h="1018">
                <a:moveTo>
                  <a:pt x="6921" y="15726"/>
                </a:moveTo>
                <a:cubicBezTo>
                  <a:pt x="6926" y="15844"/>
                  <a:pt x="6937" y="15956"/>
                  <a:pt x="6945" y="16073"/>
                </a:cubicBezTo>
              </a:path>
              <a:path w="943" h="1018">
                <a:moveTo>
                  <a:pt x="6846" y="16073"/>
                </a:moveTo>
                <a:cubicBezTo>
                  <a:pt x="6922" y="16103"/>
                  <a:pt x="6994" y="16024"/>
                  <a:pt x="7069" y="15974"/>
                </a:cubicBezTo>
              </a:path>
              <a:path w="943" h="1018">
                <a:moveTo>
                  <a:pt x="6921" y="16247"/>
                </a:moveTo>
                <a:cubicBezTo>
                  <a:pt x="6815" y="16259"/>
                  <a:pt x="6807" y="16275"/>
                  <a:pt x="6722" y="16346"/>
                </a:cubicBezTo>
                <a:cubicBezTo>
                  <a:pt x="6768" y="16393"/>
                  <a:pt x="7006" y="16460"/>
                  <a:pt x="7020" y="16545"/>
                </a:cubicBezTo>
                <a:cubicBezTo>
                  <a:pt x="6993" y="16599"/>
                  <a:pt x="6981" y="16619"/>
                  <a:pt x="6945" y="16644"/>
                </a:cubicBezTo>
                <a:cubicBezTo>
                  <a:pt x="6868" y="16540"/>
                  <a:pt x="6904" y="16545"/>
                  <a:pt x="6970" y="16446"/>
                </a:cubicBezTo>
                <a:cubicBezTo>
                  <a:pt x="6978" y="16429"/>
                  <a:pt x="6987" y="16413"/>
                  <a:pt x="6995" y="1639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84280" y="4795920"/>
            <a:ext cx="115920" cy="222120"/>
          </a:xfrm>
          <a:custGeom>
            <a:avLst/>
            <a:gdLst/>
            <a:ahLst/>
            <a:rect l="l" t="t" r="r" b="b"/>
            <a:pathLst>
              <a:path w="323" h="621">
                <a:moveTo>
                  <a:pt x="6945" y="13519"/>
                </a:moveTo>
                <a:cubicBezTo>
                  <a:pt x="6892" y="13445"/>
                  <a:pt x="6726" y="13210"/>
                  <a:pt x="6648" y="13395"/>
                </a:cubicBezTo>
                <a:cubicBezTo>
                  <a:pt x="6627" y="13520"/>
                  <a:pt x="6611" y="13547"/>
                  <a:pt x="6648" y="13618"/>
                </a:cubicBezTo>
                <a:cubicBezTo>
                  <a:pt x="6808" y="13618"/>
                  <a:pt x="6870" y="13588"/>
                  <a:pt x="6921" y="13419"/>
                </a:cubicBezTo>
                <a:cubicBezTo>
                  <a:pt x="6921" y="13585"/>
                  <a:pt x="6946" y="13792"/>
                  <a:pt x="6896" y="13940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76640" y="6018120"/>
            <a:ext cx="260280" cy="366840"/>
          </a:xfrm>
          <a:custGeom>
            <a:avLst/>
            <a:gdLst/>
            <a:ahLst/>
            <a:rect l="l" t="t" r="r" b="b"/>
            <a:pathLst>
              <a:path w="721" h="1018">
                <a:moveTo>
                  <a:pt x="6375" y="16718"/>
                </a:moveTo>
                <a:cubicBezTo>
                  <a:pt x="6457" y="16739"/>
                  <a:pt x="6473" y="16747"/>
                  <a:pt x="6524" y="16743"/>
                </a:cubicBezTo>
                <a:cubicBezTo>
                  <a:pt x="6500" y="16912"/>
                  <a:pt x="6428" y="17004"/>
                  <a:pt x="6325" y="17140"/>
                </a:cubicBezTo>
                <a:cubicBezTo>
                  <a:pt x="6465" y="17128"/>
                  <a:pt x="6523" y="17100"/>
                  <a:pt x="6648" y="17041"/>
                </a:cubicBezTo>
              </a:path>
              <a:path w="721" h="1018">
                <a:moveTo>
                  <a:pt x="6871" y="16867"/>
                </a:moveTo>
                <a:cubicBezTo>
                  <a:pt x="6954" y="16839"/>
                  <a:pt x="7082" y="16823"/>
                  <a:pt x="7045" y="16966"/>
                </a:cubicBezTo>
                <a:cubicBezTo>
                  <a:pt x="7023" y="17051"/>
                  <a:pt x="6980" y="17082"/>
                  <a:pt x="6970" y="17165"/>
                </a:cubicBezTo>
              </a:path>
              <a:path w="721" h="1018">
                <a:moveTo>
                  <a:pt x="6375" y="17289"/>
                </a:moveTo>
                <a:cubicBezTo>
                  <a:pt x="6576" y="17289"/>
                  <a:pt x="6773" y="17281"/>
                  <a:pt x="6970" y="17314"/>
                </a:cubicBezTo>
              </a:path>
              <a:path w="721" h="1018">
                <a:moveTo>
                  <a:pt x="6995" y="17537"/>
                </a:moveTo>
                <a:cubicBezTo>
                  <a:pt x="7009" y="17607"/>
                  <a:pt x="7003" y="17659"/>
                  <a:pt x="6995" y="17735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74960" y="4964040"/>
            <a:ext cx="750960" cy="536760"/>
          </a:xfrm>
          <a:custGeom>
            <a:avLst/>
            <a:gdLst/>
            <a:ahLst/>
            <a:rect l="l" t="t" r="r" b="b"/>
            <a:pathLst>
              <a:path w="2085" h="1490">
                <a:moveTo>
                  <a:pt x="8632" y="14461"/>
                </a:moveTo>
                <a:cubicBezTo>
                  <a:pt x="8569" y="14540"/>
                  <a:pt x="8487" y="14611"/>
                  <a:pt x="8582" y="14684"/>
                </a:cubicBezTo>
                <a:cubicBezTo>
                  <a:pt x="8647" y="14601"/>
                  <a:pt x="8699" y="14526"/>
                  <a:pt x="8558" y="14560"/>
                </a:cubicBezTo>
              </a:path>
              <a:path w="2085" h="1490">
                <a:moveTo>
                  <a:pt x="9054" y="14114"/>
                </a:moveTo>
                <a:cubicBezTo>
                  <a:pt x="9193" y="14092"/>
                  <a:pt x="9217" y="14073"/>
                  <a:pt x="9327" y="14139"/>
                </a:cubicBezTo>
                <a:cubicBezTo>
                  <a:pt x="9263" y="14321"/>
                  <a:pt x="9246" y="14340"/>
                  <a:pt x="9079" y="14436"/>
                </a:cubicBezTo>
                <a:cubicBezTo>
                  <a:pt x="9225" y="14421"/>
                  <a:pt x="9487" y="14460"/>
                  <a:pt x="9302" y="14684"/>
                </a:cubicBezTo>
                <a:cubicBezTo>
                  <a:pt x="9168" y="14765"/>
                  <a:pt x="9115" y="14793"/>
                  <a:pt x="9004" y="14808"/>
                </a:cubicBezTo>
              </a:path>
              <a:path w="2085" h="1490">
                <a:moveTo>
                  <a:pt x="8458" y="15131"/>
                </a:moveTo>
                <a:cubicBezTo>
                  <a:pt x="8801" y="15370"/>
                  <a:pt x="9121" y="15247"/>
                  <a:pt x="9500" y="15081"/>
                </a:cubicBezTo>
                <a:cubicBezTo>
                  <a:pt x="9842" y="14899"/>
                  <a:pt x="9944" y="14860"/>
                  <a:pt x="10071" y="14635"/>
                </a:cubicBezTo>
                <a:cubicBezTo>
                  <a:pt x="9813" y="14008"/>
                  <a:pt x="9339" y="13696"/>
                  <a:pt x="8582" y="13791"/>
                </a:cubicBezTo>
                <a:cubicBezTo>
                  <a:pt x="7849" y="13883"/>
                  <a:pt x="8064" y="14353"/>
                  <a:pt x="8161" y="14808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90960" y="4330800"/>
            <a:ext cx="893880" cy="54000"/>
          </a:xfrm>
          <a:custGeom>
            <a:avLst/>
            <a:gdLst/>
            <a:ahLst/>
            <a:rect l="l" t="t" r="r" b="b"/>
            <a:pathLst>
              <a:path w="2481" h="150">
                <a:moveTo>
                  <a:pt x="12502" y="12080"/>
                </a:moveTo>
                <a:cubicBezTo>
                  <a:pt x="12374" y="12080"/>
                  <a:pt x="12255" y="12066"/>
                  <a:pt x="12129" y="12055"/>
                </a:cubicBezTo>
                <a:cubicBezTo>
                  <a:pt x="11930" y="12038"/>
                  <a:pt x="11734" y="12030"/>
                  <a:pt x="11534" y="12030"/>
                </a:cubicBezTo>
                <a:cubicBezTo>
                  <a:pt x="11383" y="12030"/>
                  <a:pt x="11240" y="12055"/>
                  <a:pt x="11088" y="12055"/>
                </a:cubicBezTo>
                <a:cubicBezTo>
                  <a:pt x="11242" y="12055"/>
                  <a:pt x="11381" y="12095"/>
                  <a:pt x="11534" y="12105"/>
                </a:cubicBezTo>
                <a:cubicBezTo>
                  <a:pt x="11739" y="12119"/>
                  <a:pt x="11950" y="12110"/>
                  <a:pt x="12154" y="12129"/>
                </a:cubicBezTo>
                <a:cubicBezTo>
                  <a:pt x="12337" y="12146"/>
                  <a:pt x="12516" y="12175"/>
                  <a:pt x="12700" y="12179"/>
                </a:cubicBezTo>
                <a:cubicBezTo>
                  <a:pt x="12853" y="12182"/>
                  <a:pt x="12997" y="12166"/>
                  <a:pt x="13146" y="12154"/>
                </a:cubicBezTo>
                <a:cubicBezTo>
                  <a:pt x="13271" y="12144"/>
                  <a:pt x="13393" y="12129"/>
                  <a:pt x="13519" y="12129"/>
                </a:cubicBezTo>
                <a:cubicBezTo>
                  <a:pt x="13535" y="12129"/>
                  <a:pt x="13552" y="12129"/>
                  <a:pt x="13568" y="12129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50040" y="4537080"/>
            <a:ext cx="1420920" cy="1919160"/>
          </a:xfrm>
          <a:custGeom>
            <a:avLst/>
            <a:gdLst/>
            <a:ahLst/>
            <a:rect l="l" t="t" r="r" b="b"/>
            <a:pathLst>
              <a:path w="3945" h="5334">
                <a:moveTo>
                  <a:pt x="20315" y="13494"/>
                </a:moveTo>
                <a:cubicBezTo>
                  <a:pt x="20273" y="13623"/>
                  <a:pt x="20003" y="14138"/>
                  <a:pt x="20191" y="14238"/>
                </a:cubicBezTo>
                <a:cubicBezTo>
                  <a:pt x="20391" y="14344"/>
                  <a:pt x="20511" y="14019"/>
                  <a:pt x="20489" y="13915"/>
                </a:cubicBezTo>
                <a:cubicBezTo>
                  <a:pt x="20320" y="13993"/>
                  <a:pt x="20341" y="14000"/>
                  <a:pt x="20290" y="14188"/>
                </a:cubicBezTo>
              </a:path>
              <a:path w="3945" h="5334">
                <a:moveTo>
                  <a:pt x="20786" y="14288"/>
                </a:moveTo>
                <a:cubicBezTo>
                  <a:pt x="20856" y="14079"/>
                  <a:pt x="20899" y="13916"/>
                  <a:pt x="20762" y="13717"/>
                </a:cubicBezTo>
                <a:cubicBezTo>
                  <a:pt x="20674" y="13630"/>
                  <a:pt x="20650" y="13611"/>
                  <a:pt x="20613" y="13543"/>
                </a:cubicBezTo>
                <a:cubicBezTo>
                  <a:pt x="20704" y="13489"/>
                  <a:pt x="20757" y="13512"/>
                  <a:pt x="20935" y="13519"/>
                </a:cubicBezTo>
                <a:cubicBezTo>
                  <a:pt x="21609" y="13544"/>
                  <a:pt x="22272" y="13382"/>
                  <a:pt x="22944" y="13370"/>
                </a:cubicBezTo>
                <a:cubicBezTo>
                  <a:pt x="23047" y="13368"/>
                  <a:pt x="23155" y="13370"/>
                  <a:pt x="23242" y="13370"/>
                </a:cubicBezTo>
                <a:cubicBezTo>
                  <a:pt x="23460" y="13370"/>
                  <a:pt x="23648" y="13336"/>
                  <a:pt x="23862" y="13295"/>
                </a:cubicBezTo>
                <a:cubicBezTo>
                  <a:pt x="23986" y="13275"/>
                  <a:pt x="24010" y="13267"/>
                  <a:pt x="24085" y="13271"/>
                </a:cubicBezTo>
              </a:path>
              <a:path w="3945" h="5334">
                <a:moveTo>
                  <a:pt x="21431" y="13742"/>
                </a:moveTo>
                <a:cubicBezTo>
                  <a:pt x="21282" y="13763"/>
                  <a:pt x="21251" y="13794"/>
                  <a:pt x="21134" y="13891"/>
                </a:cubicBezTo>
                <a:cubicBezTo>
                  <a:pt x="21197" y="14030"/>
                  <a:pt x="21395" y="14069"/>
                  <a:pt x="21530" y="14188"/>
                </a:cubicBezTo>
                <a:cubicBezTo>
                  <a:pt x="21420" y="14281"/>
                  <a:pt x="21164" y="14326"/>
                  <a:pt x="21332" y="14089"/>
                </a:cubicBezTo>
                <a:cubicBezTo>
                  <a:pt x="21460" y="13961"/>
                  <a:pt x="21493" y="13934"/>
                  <a:pt x="21555" y="13841"/>
                </a:cubicBezTo>
              </a:path>
              <a:path w="3945" h="5334">
                <a:moveTo>
                  <a:pt x="21878" y="14163"/>
                </a:moveTo>
                <a:cubicBezTo>
                  <a:pt x="21851" y="14217"/>
                  <a:pt x="21846" y="14231"/>
                  <a:pt x="21903" y="14163"/>
                </a:cubicBezTo>
              </a:path>
              <a:path w="3945" h="5334">
                <a:moveTo>
                  <a:pt x="22399" y="13717"/>
                </a:moveTo>
                <a:cubicBezTo>
                  <a:pt x="22211" y="13838"/>
                  <a:pt x="22148" y="13929"/>
                  <a:pt x="22200" y="14139"/>
                </a:cubicBezTo>
                <a:cubicBezTo>
                  <a:pt x="22388" y="14138"/>
                  <a:pt x="22710" y="14110"/>
                  <a:pt x="22523" y="13816"/>
                </a:cubicBezTo>
                <a:cubicBezTo>
                  <a:pt x="22490" y="13791"/>
                  <a:pt x="22456" y="13767"/>
                  <a:pt x="22423" y="13742"/>
                </a:cubicBezTo>
              </a:path>
              <a:path w="3945" h="5334">
                <a:moveTo>
                  <a:pt x="22746" y="13692"/>
                </a:moveTo>
                <a:cubicBezTo>
                  <a:pt x="22754" y="13843"/>
                  <a:pt x="22785" y="13989"/>
                  <a:pt x="22796" y="14139"/>
                </a:cubicBezTo>
              </a:path>
              <a:path w="3945" h="5334">
                <a:moveTo>
                  <a:pt x="23093" y="13643"/>
                </a:moveTo>
                <a:cubicBezTo>
                  <a:pt x="23110" y="13814"/>
                  <a:pt x="23076" y="13896"/>
                  <a:pt x="23292" y="13915"/>
                </a:cubicBezTo>
                <a:cubicBezTo>
                  <a:pt x="23333" y="13907"/>
                  <a:pt x="23375" y="13899"/>
                  <a:pt x="23416" y="13891"/>
                </a:cubicBezTo>
              </a:path>
              <a:path w="3945" h="5334">
                <a:moveTo>
                  <a:pt x="23391" y="13494"/>
                </a:moveTo>
                <a:cubicBezTo>
                  <a:pt x="23382" y="13710"/>
                  <a:pt x="23354" y="13924"/>
                  <a:pt x="23341" y="14139"/>
                </a:cubicBezTo>
              </a:path>
              <a:path w="3945" h="5334">
                <a:moveTo>
                  <a:pt x="21183" y="12898"/>
                </a:moveTo>
                <a:cubicBezTo>
                  <a:pt x="21209" y="13080"/>
                  <a:pt x="21219" y="13146"/>
                  <a:pt x="21233" y="13271"/>
                </a:cubicBezTo>
              </a:path>
              <a:path w="3945" h="5334">
                <a:moveTo>
                  <a:pt x="21357" y="14461"/>
                </a:moveTo>
                <a:cubicBezTo>
                  <a:pt x="21349" y="14549"/>
                  <a:pt x="21268" y="14749"/>
                  <a:pt x="21382" y="14784"/>
                </a:cubicBezTo>
                <a:cubicBezTo>
                  <a:pt x="21478" y="14784"/>
                  <a:pt x="21508" y="14786"/>
                  <a:pt x="21555" y="14734"/>
                </a:cubicBezTo>
                <a:cubicBezTo>
                  <a:pt x="21555" y="14549"/>
                  <a:pt x="21372" y="14833"/>
                  <a:pt x="21357" y="14858"/>
                </a:cubicBezTo>
              </a:path>
              <a:path w="3945" h="5334">
                <a:moveTo>
                  <a:pt x="21332" y="15056"/>
                </a:moveTo>
                <a:cubicBezTo>
                  <a:pt x="21415" y="15040"/>
                  <a:pt x="21497" y="15023"/>
                  <a:pt x="21580" y="15007"/>
                </a:cubicBezTo>
              </a:path>
              <a:path w="3945" h="5334">
                <a:moveTo>
                  <a:pt x="21357" y="15329"/>
                </a:moveTo>
                <a:cubicBezTo>
                  <a:pt x="21435" y="15318"/>
                  <a:pt x="21501" y="15309"/>
                  <a:pt x="21580" y="15304"/>
                </a:cubicBezTo>
                <a:cubicBezTo>
                  <a:pt x="21640" y="15443"/>
                  <a:pt x="21542" y="15491"/>
                  <a:pt x="21456" y="15602"/>
                </a:cubicBezTo>
                <a:cubicBezTo>
                  <a:pt x="21688" y="15579"/>
                  <a:pt x="21631" y="15568"/>
                  <a:pt x="21853" y="15453"/>
                </a:cubicBezTo>
              </a:path>
              <a:path w="3945" h="5334">
                <a:moveTo>
                  <a:pt x="21605" y="13171"/>
                </a:moveTo>
                <a:cubicBezTo>
                  <a:pt x="21580" y="13246"/>
                  <a:pt x="21571" y="13271"/>
                  <a:pt x="21654" y="13221"/>
                </a:cubicBezTo>
                <a:cubicBezTo>
                  <a:pt x="21608" y="13284"/>
                  <a:pt x="21609" y="13386"/>
                  <a:pt x="21679" y="13295"/>
                </a:cubicBezTo>
                <a:cubicBezTo>
                  <a:pt x="21687" y="13279"/>
                  <a:pt x="21696" y="13262"/>
                  <a:pt x="21704" y="13246"/>
                </a:cubicBezTo>
              </a:path>
              <a:path w="3945" h="5334">
                <a:moveTo>
                  <a:pt x="22175" y="14387"/>
                </a:moveTo>
                <a:cubicBezTo>
                  <a:pt x="22229" y="14559"/>
                  <a:pt x="22278" y="14733"/>
                  <a:pt x="22324" y="14908"/>
                </a:cubicBezTo>
              </a:path>
              <a:path w="3945" h="5334">
                <a:moveTo>
                  <a:pt x="22175" y="14908"/>
                </a:moveTo>
                <a:cubicBezTo>
                  <a:pt x="22275" y="14927"/>
                  <a:pt x="22340" y="14970"/>
                  <a:pt x="22423" y="14858"/>
                </a:cubicBezTo>
                <a:cubicBezTo>
                  <a:pt x="22463" y="14758"/>
                  <a:pt x="22468" y="14740"/>
                  <a:pt x="22498" y="14684"/>
                </a:cubicBezTo>
              </a:path>
              <a:path w="3945" h="5334">
                <a:moveTo>
                  <a:pt x="22275" y="15205"/>
                </a:moveTo>
                <a:cubicBezTo>
                  <a:pt x="22165" y="15303"/>
                  <a:pt x="22172" y="15337"/>
                  <a:pt x="22151" y="15478"/>
                </a:cubicBezTo>
                <a:cubicBezTo>
                  <a:pt x="22246" y="15489"/>
                  <a:pt x="22610" y="15491"/>
                  <a:pt x="22448" y="15280"/>
                </a:cubicBezTo>
                <a:cubicBezTo>
                  <a:pt x="22415" y="15263"/>
                  <a:pt x="22382" y="15247"/>
                  <a:pt x="22349" y="15230"/>
                </a:cubicBezTo>
              </a:path>
              <a:path w="3945" h="5334">
                <a:moveTo>
                  <a:pt x="22051" y="12725"/>
                </a:moveTo>
                <a:cubicBezTo>
                  <a:pt x="22213" y="12648"/>
                  <a:pt x="22395" y="12619"/>
                  <a:pt x="22175" y="12824"/>
                </a:cubicBezTo>
                <a:cubicBezTo>
                  <a:pt x="22142" y="12849"/>
                  <a:pt x="22109" y="12873"/>
                  <a:pt x="22076" y="12898"/>
                </a:cubicBezTo>
                <a:cubicBezTo>
                  <a:pt x="22033" y="12962"/>
                  <a:pt x="22167" y="12840"/>
                  <a:pt x="22250" y="12898"/>
                </a:cubicBezTo>
                <a:cubicBezTo>
                  <a:pt x="22496" y="13071"/>
                  <a:pt x="22144" y="13179"/>
                  <a:pt x="22027" y="13196"/>
                </a:cubicBezTo>
              </a:path>
              <a:path w="3945" h="5334">
                <a:moveTo>
                  <a:pt x="21679" y="15701"/>
                </a:moveTo>
                <a:cubicBezTo>
                  <a:pt x="21664" y="15822"/>
                  <a:pt x="21654" y="15927"/>
                  <a:pt x="21654" y="16049"/>
                </a:cubicBezTo>
              </a:path>
              <a:path w="3945" h="5334">
                <a:moveTo>
                  <a:pt x="22175" y="15627"/>
                </a:moveTo>
                <a:cubicBezTo>
                  <a:pt x="22082" y="15682"/>
                  <a:pt x="22066" y="15681"/>
                  <a:pt x="22027" y="15726"/>
                </a:cubicBezTo>
                <a:cubicBezTo>
                  <a:pt x="22132" y="15790"/>
                  <a:pt x="22216" y="15841"/>
                  <a:pt x="22299" y="15925"/>
                </a:cubicBezTo>
                <a:cubicBezTo>
                  <a:pt x="22142" y="15972"/>
                  <a:pt x="22039" y="15999"/>
                  <a:pt x="22200" y="15776"/>
                </a:cubicBezTo>
                <a:cubicBezTo>
                  <a:pt x="22233" y="15743"/>
                  <a:pt x="22266" y="15710"/>
                  <a:pt x="22299" y="15677"/>
                </a:cubicBezTo>
              </a:path>
              <a:path w="3945" h="5334">
                <a:moveTo>
                  <a:pt x="21654" y="16173"/>
                </a:moveTo>
                <a:cubicBezTo>
                  <a:pt x="21850" y="16075"/>
                  <a:pt x="22059" y="16020"/>
                  <a:pt x="22275" y="15974"/>
                </a:cubicBezTo>
              </a:path>
              <a:path w="3945" h="5334">
                <a:moveTo>
                  <a:pt x="22275" y="16222"/>
                </a:moveTo>
                <a:cubicBezTo>
                  <a:pt x="22320" y="16233"/>
                  <a:pt x="22568" y="16253"/>
                  <a:pt x="22523" y="16346"/>
                </a:cubicBezTo>
                <a:cubicBezTo>
                  <a:pt x="22452" y="16441"/>
                  <a:pt x="22432" y="16469"/>
                  <a:pt x="22374" y="16520"/>
                </a:cubicBezTo>
                <a:cubicBezTo>
                  <a:pt x="22503" y="16559"/>
                  <a:pt x="22550" y="16534"/>
                  <a:pt x="22671" y="16495"/>
                </a:cubicBezTo>
              </a:path>
              <a:path w="3945" h="5334">
                <a:moveTo>
                  <a:pt x="22771" y="14660"/>
                </a:moveTo>
                <a:cubicBezTo>
                  <a:pt x="22771" y="14917"/>
                  <a:pt x="22794" y="15149"/>
                  <a:pt x="22820" y="15404"/>
                </a:cubicBezTo>
                <a:cubicBezTo>
                  <a:pt x="22842" y="15614"/>
                  <a:pt x="22830" y="15792"/>
                  <a:pt x="22820" y="15999"/>
                </a:cubicBezTo>
              </a:path>
              <a:path w="3945" h="5334">
                <a:moveTo>
                  <a:pt x="22696" y="15949"/>
                </a:moveTo>
                <a:cubicBezTo>
                  <a:pt x="22830" y="16042"/>
                  <a:pt x="22860" y="16063"/>
                  <a:pt x="22920" y="15900"/>
                </a:cubicBezTo>
              </a:path>
              <a:path w="3945" h="5334">
                <a:moveTo>
                  <a:pt x="22920" y="16197"/>
                </a:moveTo>
                <a:cubicBezTo>
                  <a:pt x="22926" y="16304"/>
                  <a:pt x="22939" y="16392"/>
                  <a:pt x="22969" y="16495"/>
                </a:cubicBezTo>
              </a:path>
              <a:path w="3945" h="5334">
                <a:moveTo>
                  <a:pt x="22498" y="12700"/>
                </a:moveTo>
                <a:cubicBezTo>
                  <a:pt x="22582" y="12664"/>
                  <a:pt x="22662" y="12624"/>
                  <a:pt x="22746" y="12601"/>
                </a:cubicBezTo>
                <a:cubicBezTo>
                  <a:pt x="22699" y="12711"/>
                  <a:pt x="22649" y="12784"/>
                  <a:pt x="22572" y="12874"/>
                </a:cubicBezTo>
                <a:cubicBezTo>
                  <a:pt x="22729" y="12895"/>
                  <a:pt x="22856" y="12949"/>
                  <a:pt x="22671" y="13097"/>
                </a:cubicBezTo>
                <a:cubicBezTo>
                  <a:pt x="22638" y="13113"/>
                  <a:pt x="22605" y="13130"/>
                  <a:pt x="22572" y="13146"/>
                </a:cubicBezTo>
              </a:path>
              <a:path w="3945" h="5334">
                <a:moveTo>
                  <a:pt x="22523" y="16644"/>
                </a:moveTo>
                <a:cubicBezTo>
                  <a:pt x="22529" y="16767"/>
                  <a:pt x="22540" y="16872"/>
                  <a:pt x="22572" y="16991"/>
                </a:cubicBezTo>
              </a:path>
              <a:path w="3945" h="5334">
                <a:moveTo>
                  <a:pt x="22944" y="16545"/>
                </a:moveTo>
                <a:cubicBezTo>
                  <a:pt x="22816" y="16698"/>
                  <a:pt x="22831" y="16700"/>
                  <a:pt x="22969" y="16818"/>
                </a:cubicBezTo>
                <a:cubicBezTo>
                  <a:pt x="23031" y="16879"/>
                  <a:pt x="23056" y="16885"/>
                  <a:pt x="23044" y="16942"/>
                </a:cubicBezTo>
                <a:cubicBezTo>
                  <a:pt x="22987" y="16998"/>
                  <a:pt x="22961" y="17014"/>
                  <a:pt x="22895" y="16991"/>
                </a:cubicBezTo>
                <a:cubicBezTo>
                  <a:pt x="22884" y="16833"/>
                  <a:pt x="22935" y="16765"/>
                  <a:pt x="23044" y="16644"/>
                </a:cubicBezTo>
              </a:path>
              <a:path w="3945" h="5334">
                <a:moveTo>
                  <a:pt x="22275" y="17289"/>
                </a:moveTo>
                <a:cubicBezTo>
                  <a:pt x="22493" y="17272"/>
                  <a:pt x="22709" y="17225"/>
                  <a:pt x="22920" y="17165"/>
                </a:cubicBezTo>
                <a:cubicBezTo>
                  <a:pt x="23030" y="17128"/>
                  <a:pt x="23051" y="17140"/>
                  <a:pt x="23093" y="17090"/>
                </a:cubicBezTo>
              </a:path>
              <a:path w="3945" h="5334">
                <a:moveTo>
                  <a:pt x="22870" y="17363"/>
                </a:moveTo>
                <a:cubicBezTo>
                  <a:pt x="23001" y="17392"/>
                  <a:pt x="23238" y="17360"/>
                  <a:pt x="23118" y="17537"/>
                </a:cubicBezTo>
                <a:cubicBezTo>
                  <a:pt x="23093" y="17562"/>
                  <a:pt x="23069" y="17586"/>
                  <a:pt x="23044" y="17611"/>
                </a:cubicBezTo>
                <a:cubicBezTo>
                  <a:pt x="23155" y="17618"/>
                  <a:pt x="23420" y="17633"/>
                  <a:pt x="23242" y="17810"/>
                </a:cubicBezTo>
                <a:cubicBezTo>
                  <a:pt x="23128" y="17878"/>
                  <a:pt x="23096" y="17898"/>
                  <a:pt x="23019" y="17934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439120" y="4330800"/>
            <a:ext cx="650880" cy="473040"/>
          </a:xfrm>
          <a:custGeom>
            <a:avLst/>
            <a:gdLst/>
            <a:ahLst/>
            <a:rect l="l" t="t" r="r" b="b"/>
            <a:pathLst>
              <a:path w="1812" h="1316">
                <a:moveTo>
                  <a:pt x="23664" y="12626"/>
                </a:moveTo>
                <a:cubicBezTo>
                  <a:pt x="23738" y="12615"/>
                  <a:pt x="23771" y="12613"/>
                  <a:pt x="23837" y="12626"/>
                </a:cubicBezTo>
              </a:path>
              <a:path w="1812" h="1316">
                <a:moveTo>
                  <a:pt x="23639" y="12973"/>
                </a:moveTo>
                <a:cubicBezTo>
                  <a:pt x="23689" y="12965"/>
                  <a:pt x="23738" y="12956"/>
                  <a:pt x="23788" y="12948"/>
                </a:cubicBezTo>
              </a:path>
              <a:path w="1812" h="1316">
                <a:moveTo>
                  <a:pt x="24135" y="12402"/>
                </a:moveTo>
                <a:cubicBezTo>
                  <a:pt x="24152" y="12602"/>
                  <a:pt x="24163" y="12799"/>
                  <a:pt x="24185" y="12998"/>
                </a:cubicBezTo>
              </a:path>
              <a:path w="1812" h="1316">
                <a:moveTo>
                  <a:pt x="24433" y="12774"/>
                </a:moveTo>
                <a:cubicBezTo>
                  <a:pt x="24433" y="12840"/>
                  <a:pt x="24433" y="12857"/>
                  <a:pt x="24433" y="12898"/>
                </a:cubicBezTo>
                <a:cubicBezTo>
                  <a:pt x="24515" y="12875"/>
                  <a:pt x="24530" y="12838"/>
                  <a:pt x="24433" y="12824"/>
                </a:cubicBezTo>
              </a:path>
              <a:path w="1812" h="1316">
                <a:moveTo>
                  <a:pt x="24631" y="12328"/>
                </a:moveTo>
                <a:cubicBezTo>
                  <a:pt x="24713" y="12279"/>
                  <a:pt x="24766" y="12249"/>
                  <a:pt x="24854" y="12229"/>
                </a:cubicBezTo>
                <a:cubicBezTo>
                  <a:pt x="24919" y="12408"/>
                  <a:pt x="24860" y="12461"/>
                  <a:pt x="24730" y="12601"/>
                </a:cubicBezTo>
                <a:cubicBezTo>
                  <a:pt x="24835" y="12548"/>
                  <a:pt x="25028" y="12448"/>
                  <a:pt x="25028" y="12675"/>
                </a:cubicBezTo>
                <a:cubicBezTo>
                  <a:pt x="25028" y="12838"/>
                  <a:pt x="24865" y="12890"/>
                  <a:pt x="24755" y="12948"/>
                </a:cubicBezTo>
              </a:path>
              <a:path w="1812" h="1316">
                <a:moveTo>
                  <a:pt x="23788" y="13271"/>
                </a:moveTo>
                <a:cubicBezTo>
                  <a:pt x="24160" y="13349"/>
                  <a:pt x="24509" y="13399"/>
                  <a:pt x="24854" y="13171"/>
                </a:cubicBezTo>
                <a:cubicBezTo>
                  <a:pt x="25109" y="13002"/>
                  <a:pt x="25418" y="12659"/>
                  <a:pt x="25152" y="12353"/>
                </a:cubicBezTo>
                <a:cubicBezTo>
                  <a:pt x="24757" y="11899"/>
                  <a:pt x="23974" y="11926"/>
                  <a:pt x="23614" y="12402"/>
                </a:cubicBezTo>
                <a:cubicBezTo>
                  <a:pt x="23454" y="12835"/>
                  <a:pt x="23375" y="12957"/>
                  <a:pt x="23639" y="1319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Objective:  Students will divide decimals by whole number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Application:</a:t>
            </a: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Verdana"/>
              </a:rPr>
              <a:t>You and your 4 siblings are splitting the cost of a new tv for your parents.  The total cost of the television is $524.13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33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Verdana"/>
              </a:rPr>
              <a:t>Part A: To the nearest cent, how much will each person need to give? </a:t>
            </a:r>
            <a:r>
              <a:rPr b="0" lang="en-US" sz="2400" spc="-1" strike="noStrike" u="sng">
                <a:solidFill>
                  <a:srgbClr val="33ccff"/>
                </a:solidFill>
                <a:uFillTx/>
                <a:latin typeface="Verdana"/>
              </a:rPr>
              <a:t>	</a:t>
            </a:r>
            <a:r>
              <a:rPr b="0" lang="en-US" sz="2400" spc="-1" strike="noStrike" u="sng">
                <a:solidFill>
                  <a:srgbClr val="33ccff"/>
                </a:solidFill>
                <a:uFillTx/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33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Verdana"/>
              </a:rPr>
              <a:t>Part B: Use what you know about decimal division to explain how you found your answer?  Use words and/or numbers in your explana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8456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aa8456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aa8456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aa8456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Course 1 Homework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Workbook pg. 49 7-18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Course 2 Homework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Workbook pg. 21 1-9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Extension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Power Football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(try algebra style for a challenge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ClassZon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(Chapter 4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a845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aa845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aa845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aa845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0-12-03T18:52:42Z</dcterms:modified>
  <cp:revision>30</cp:revision>
  <dc:subject/>
  <dc:title>Unit 1 – Variables and Equations </dc:title>
</cp:coreProperties>
</file>